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</p:sldIdLst>
  <p:sldSz cx="12960350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C37-2E6E-4814-8BF0-9188B814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D7C-FDCE-4FDC-95F8-31D0055C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5BDA44-EC9B-4C13-B134-80677573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BBB3F6-C045-493F-8ACF-734D01EF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890640" y="899640"/>
            <a:ext cx="95774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0B1D13-FF90-4CC8-A317-A3898853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393808-56B4-4B69-817F-1BCEAB67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4D0FC0-0F38-4988-BFB1-B18604BF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33B575-8575-4B46-8F9F-5348EE83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C923AA-1D2F-4A52-8343-C2B06F25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BF463E-7D3C-48D8-9526-23C4D5C5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9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468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890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679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468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2B887E-AE93-4C1B-9331-5F8DB9C8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046BEB-D88E-4E1A-86B7-6E596E0D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C55-5F75-4795-9CD4-52A6957B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F708D5-F091-4789-8E39-B235E9CB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E8519D-8F45-42FD-935E-D994F186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E4B142-EA67-4D7E-8F98-FD88B8E4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2A4668-2946-4F2D-B5B3-1F401A34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90640" y="899640"/>
            <a:ext cx="95774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940031-FC6C-4A93-AD85-BE36A824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C0AD81-E2CC-46F4-AB6F-26A987C9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408570-30C4-440C-A3FE-6AD55517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32EEF8-AB05-4331-80C7-49B6EE31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0A22FB-981D-4430-AD67-8A26900A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887F9C-AFB6-4662-A5B9-A9894797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9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68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79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68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80E5-5E9B-4217-8D53-4CFF4989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9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468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890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4679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8468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FAECAE-ABE2-42C5-B65E-0958C108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F1DD2C-3EBD-4F73-98CB-5FDBDD18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CA5DFD-207E-4F34-952D-3C9C577B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1BD2E5-8A31-4631-84B9-92A3BBF0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F30E02-E0FB-4A7C-9C92-0BEA125C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82CDD9-5ED9-4342-B91F-A448294F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890640" y="899640"/>
            <a:ext cx="95774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708994-B1BD-48BF-8E5B-224B5803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4EB36C-A638-45CE-AA1C-E6DB68FB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76E8E8-02E1-4C7D-A0EB-9429BA01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9333DC-497F-401B-AD49-06D14047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2462C-92E7-42A0-BF1B-D28492A6D32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24CD5C-966E-49C9-AEA4-117BAED2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8D7321-18DC-4582-9773-E7476E63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9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468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890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679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8468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25D22C-68ED-45DD-9D0E-8D853781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9DD7CE-BF3B-43A4-A39D-1B321668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CBD3D5-BE57-4E94-8DE3-FA974A3E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1B4F64-6746-4B85-A0D7-8712E8C9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C3178B-7CD8-464D-A02E-1434B1A1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981EC4-6168-48F6-AED9-8A0C1800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90640" y="899640"/>
            <a:ext cx="95774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EC0A3D-90A8-4E98-8E3F-7C88835F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D13937-93B2-4CC5-8508-A2E98D42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12E63-AE01-4225-9F6D-C156BD24CFB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711E69-9FB4-4210-97BF-0550C46C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C6F453-2D59-47AE-86A3-ED390AD8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6B0F76-D06C-4ED7-91EE-E1263522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774010-D18F-4748-A72D-9EB5B5EF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9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468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90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679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8468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4B9511-30DE-4C20-A01D-1B3356CB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4BE6DA-4EF8-4BD4-BD7A-5EF06092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BDC597-00CB-4B8C-9E64-20CD6AFD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1C42FB-0465-46BC-8057-24F098CE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905F56-32B0-4BC0-A6F6-78B10486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7C33DD-5AAE-4D17-9EAD-1C2FF17C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F9DBA-0F6E-4A43-89F7-DD16052075F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890640" y="899640"/>
            <a:ext cx="95774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F7DF5B-151F-4018-A2E8-AB197179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84A69F-A404-4FB2-8DD8-2408D3B6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EF2C4B-0AC8-468C-944C-FFDA2C12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1E99DE-8136-4200-993D-425AA9E3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D4E9DB-07A2-42C1-B074-5508473B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A455E6-2E4D-4308-9B7F-7376A133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9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468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890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679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8468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DFBE78-3343-4D78-A62D-520F2363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3CEEC-03F2-45BB-A572-A83F33A322C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890640" y="899640"/>
            <a:ext cx="95774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9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468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890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4679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8468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26F61-41A2-4E1B-9464-F70C6EF3BCA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890640" y="899640"/>
            <a:ext cx="95774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90640" y="899640"/>
            <a:ext cx="95774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C62D1-4806-424C-947F-DD48AC0150D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9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8468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890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4679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8468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890640" y="899640"/>
            <a:ext cx="95774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86F8C-3DC9-4F49-9ACD-B4C6ED1069A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9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8468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890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679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8468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3F2-E262-4EC8-A20D-BBCF0469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A43A3-EB16-4CFB-B57B-1D2B37350C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CE072-359E-4387-9802-D546A92A47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E6E3B-4BAE-4A33-A7E0-F4A89399CA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CAF4C-7A63-4A4E-B6DE-09843D3E80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9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468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90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79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468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EF970-FB50-4911-9CFB-DDC797B20F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DB711-FF58-4052-B23A-1834642462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FDEF1-F9D6-466C-A72B-7E49D9A11B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7A0AB-873C-4C69-B68E-93703C064B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58ACD-1401-4B3B-9E4C-4F6C424EBA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EF965-59C4-4699-81C2-86DF9C550B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3E2-6366-4B68-857A-264DFD63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90640" y="899640"/>
            <a:ext cx="95774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31CAA-D22B-43B5-A5B7-AE00A5CC99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E472F-0AB8-4E2A-82AD-58FCD1F32F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638AB-EC39-43CB-82F1-F0BC7B5622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977DE-AC29-4D94-B432-A56AB98DC8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15845-9955-42CD-917B-EB4ED0C583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20F36-2884-4B74-A9B3-AC8177117F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9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68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90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79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8468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57A07-8DFF-4776-ACD2-30F1B7F39A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F78DD-7258-4F25-8C8A-3BB95A1D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3293E-2F82-4CF9-AB24-1C726E26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BFE15-C285-4755-BA72-A9D2F96A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79C-A116-49AA-A001-F4B1A24E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2BEC9C-DB67-45AC-BF1C-246CC8E4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9C77B-0A03-402F-BE89-8831290C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90640" y="899640"/>
            <a:ext cx="95774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33A05-EFB7-4A8C-9AD8-8C7D7138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57B81-919A-423A-B824-B559096F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55D8A-6AB2-4B74-A11B-2831A165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C2A8D-7F70-486A-80A5-0C9DDF09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4F72E-DD2E-4746-AF32-57B70624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1D8DC-C1CF-477B-A418-557ECE32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9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468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90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679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468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C3DBD-7EDC-427B-AFA3-1CDAF132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407836-9918-4E16-85CF-BF3DBD15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3BD-A404-4EF1-9D5B-2ABF9B01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B29140-2C8F-4D26-9516-226F8979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FD4ED8-E492-4124-9A98-384A48E1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B196A6-3F89-4846-8A2C-CAB5452E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A5E66A-AE72-4961-886E-DB1257ED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90640" y="899640"/>
            <a:ext cx="95774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88D6D2-F392-4223-882C-56CB2596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07CE3E-0D70-4150-A9DA-5A44E40A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8DB5A4-AD05-4C03-8498-560A1C70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232E2F-9D60-467A-83A4-BD45DFCC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5333D0-1EDB-4F9A-AE0C-0670E414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88080C-E348-46BD-A654-6A267B59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0640" y="899640"/>
            <a:ext cx="95774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E662-54E9-4160-A463-2379164F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9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468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90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679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8468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6CBC99-1C4E-4102-BEC9-3A387DD1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660760-642F-48A0-AD6E-902E241B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DE692-A3A7-4A8D-8BBC-6FF6587D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31DA2-80C7-4435-8E04-E51D0F70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CCD839-4643-4F3B-A995-63C5DD7F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05ADD-FFD9-4F8E-94AC-4CB1ADA4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90640" y="899640"/>
            <a:ext cx="95774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6D5E7F-04A6-4F19-B30C-C27ACEB3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6958B-1B67-4226-B8BE-F30AD6CB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2F47D-69A4-43AC-BD62-9113EB5F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A1B33C-65BD-47CD-876A-66842042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1F5-E98C-490A-84B5-8CDB7420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092CFD-F653-4B8E-96C3-00882255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2B2CA6-C42C-4707-8B33-D36673B1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9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468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90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679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468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14A97A-B445-4D61-80EB-E4BE4CAC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31CF06-72F3-4944-A954-51F9E60A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B92BAC-928C-487C-A7C3-3E4AB354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C4823B-58A2-4632-AB17-D357F620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7CEBC4-8B0A-44BF-AD40-15477C19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E2DB32-DF3B-4F62-866D-90817157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890640" y="899640"/>
            <a:ext cx="95774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A85A4-F17F-4F52-8A32-33FDDB4C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D38678-4B94-467F-8B52-D41126A4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EEF-CD3D-4AC6-B984-7DEFADAD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7D38CD-FD92-4B96-9F9C-B1FFD628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16ED70-AFE5-4568-BBEE-1956BAB9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F4FEA8-4DE3-44A1-8096-B5D86E7A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9C4A74-D5DE-48FC-AB44-06AC35D5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9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468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90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679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468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A7FE1F-AA66-4DC9-B846-E0DF2074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52E2E3-B18B-42DB-87E5-18F9E314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E517B4-F5B7-4CDC-BC8B-77D1F19E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DD878D-5C93-4AB5-BF4F-8A235AC1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EBBAE1-D47D-4FD7-94B0-CAF12AD3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8E07B-3C2B-49E0-AEAE-7E1ACC51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BCB-4D6F-461C-846A-CF3E7529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890640" y="899640"/>
            <a:ext cx="95774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927603-43F4-45BD-AE04-7BFE0484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8D5969-6852-47E6-AA80-0A5E9D3D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B5AF5D-F0CD-420C-A955-55291556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78A071-9A0B-487B-93E9-1EE6BC9D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890640" y="4087800"/>
            <a:ext cx="112060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09BB6A-2137-432C-8B21-D9466FEE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3000" y="182088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9064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633000" y="4087800"/>
            <a:ext cx="546840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47847A-ED35-4D64-ABA1-6E0FE945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9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468640" y="182088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890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679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468640" y="4087800"/>
            <a:ext cx="360828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E3D8E4-659A-4AD0-BC81-CE25B67D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92338A-B354-46CA-97F7-FFB2EE52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0FDDF4-9E48-4DBF-8200-340E9522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23E5C7-90C2-4D38-941C-539C7B29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1001"/>
              </a:spcBef>
              <a:buClr>
                <a:srgbClr val="6d6d6d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1001"/>
              </a:spcBef>
              <a:buClr>
                <a:srgbClr val="6d6d6d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0280" y="7084800"/>
            <a:ext cx="2916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9E2BC-BC99-4C2B-B759-D11C5260CF2C}" type="datetime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9880" y="7084800"/>
            <a:ext cx="4373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5240" y="266760"/>
            <a:ext cx="738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30B0C-0195-49FC-A157-C1917E5DB6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Рисунок 9" descr=""/>
          <p:cNvPicPr/>
          <p:nvPr/>
        </p:nvPicPr>
        <p:blipFill>
          <a:blip r:embed="rId2"/>
          <a:stretch/>
        </p:blipFill>
        <p:spPr>
          <a:xfrm>
            <a:off x="10856880" y="123840"/>
            <a:ext cx="1575000" cy="68724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4"/>
          <p:cNvSpPr/>
          <p:nvPr/>
        </p:nvSpPr>
        <p:spPr>
          <a:xfrm>
            <a:off x="-3240" y="289080"/>
            <a:ext cx="893880" cy="318960"/>
          </a:xfrm>
          <a:prstGeom prst="rect">
            <a:avLst/>
          </a:prstGeom>
          <a:solidFill>
            <a:srgbClr val="a30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554040" y="640728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4"/>
          <p:cNvSpPr/>
          <p:nvPr/>
        </p:nvSpPr>
        <p:spPr>
          <a:xfrm>
            <a:off x="1258920" y="6572160"/>
            <a:ext cx="230328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1001"/>
              </a:spcBef>
              <a:buClr>
                <a:srgbClr val="6d6d6d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1001"/>
              </a:spcBef>
              <a:buClr>
                <a:srgbClr val="6d6d6d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4"/>
          </p:nvPr>
        </p:nvSpPr>
        <p:spPr>
          <a:xfrm>
            <a:off x="890280" y="7084800"/>
            <a:ext cx="2916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C15F3-2690-41CD-B2E7-92D91E56D30D}" type="datetime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5"/>
          </p:nvPr>
        </p:nvSpPr>
        <p:spPr>
          <a:xfrm>
            <a:off x="4169880" y="7084800"/>
            <a:ext cx="4373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6"/>
          </p:nvPr>
        </p:nvSpPr>
        <p:spPr>
          <a:xfrm>
            <a:off x="165240" y="266760"/>
            <a:ext cx="738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97173-5AE0-47C9-9E7D-427E2145041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Рисунок 9" descr=""/>
          <p:cNvPicPr/>
          <p:nvPr/>
        </p:nvPicPr>
        <p:blipFill>
          <a:blip r:embed="rId2"/>
          <a:stretch/>
        </p:blipFill>
        <p:spPr>
          <a:xfrm>
            <a:off x="10856880" y="123840"/>
            <a:ext cx="1575000" cy="68724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4"/>
          <p:cNvSpPr/>
          <p:nvPr/>
        </p:nvSpPr>
        <p:spPr>
          <a:xfrm>
            <a:off x="-3240" y="289080"/>
            <a:ext cx="893880" cy="318960"/>
          </a:xfrm>
          <a:prstGeom prst="rect">
            <a:avLst/>
          </a:prstGeom>
          <a:solidFill>
            <a:srgbClr val="a30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8"/>
          <p:cNvSpPr/>
          <p:nvPr/>
        </p:nvSpPr>
        <p:spPr>
          <a:xfrm>
            <a:off x="554040" y="640728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19"/>
          <p:cNvSpPr/>
          <p:nvPr/>
        </p:nvSpPr>
        <p:spPr>
          <a:xfrm>
            <a:off x="1258920" y="6572160"/>
            <a:ext cx="230328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1001"/>
              </a:spcBef>
              <a:buClr>
                <a:srgbClr val="6d6d6d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1001"/>
              </a:spcBef>
              <a:buClr>
                <a:srgbClr val="6d6d6d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7"/>
          </p:nvPr>
        </p:nvSpPr>
        <p:spPr>
          <a:xfrm>
            <a:off x="890280" y="7084800"/>
            <a:ext cx="2916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10FD6-0D5E-4DF0-B3B5-1CD03D9DFE05}" type="datetime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8"/>
          </p:nvPr>
        </p:nvSpPr>
        <p:spPr>
          <a:xfrm>
            <a:off x="4169880" y="7084800"/>
            <a:ext cx="4373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29"/>
          </p:nvPr>
        </p:nvSpPr>
        <p:spPr>
          <a:xfrm>
            <a:off x="165240" y="266760"/>
            <a:ext cx="738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931DD-200F-438D-AB7B-3489A9F128A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Рисунок 9" descr=""/>
          <p:cNvPicPr/>
          <p:nvPr/>
        </p:nvPicPr>
        <p:blipFill>
          <a:blip r:embed="rId2"/>
          <a:stretch/>
        </p:blipFill>
        <p:spPr>
          <a:xfrm>
            <a:off x="10856880" y="123840"/>
            <a:ext cx="1575000" cy="687240"/>
          </a:xfrm>
          <a:prstGeom prst="rect">
            <a:avLst/>
          </a:prstGeom>
          <a:ln w="0">
            <a:noFill/>
          </a:ln>
        </p:spPr>
      </p:pic>
      <p:sp>
        <p:nvSpPr>
          <p:cNvPr id="491" name="Прямоугольник 4"/>
          <p:cNvSpPr/>
          <p:nvPr/>
        </p:nvSpPr>
        <p:spPr>
          <a:xfrm>
            <a:off x="-3240" y="289080"/>
            <a:ext cx="893880" cy="318960"/>
          </a:xfrm>
          <a:prstGeom prst="rect">
            <a:avLst/>
          </a:prstGeom>
          <a:solidFill>
            <a:srgbClr val="a30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8"/>
          <p:cNvSpPr/>
          <p:nvPr/>
        </p:nvSpPr>
        <p:spPr>
          <a:xfrm>
            <a:off x="554040" y="640728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9"/>
          <p:cNvSpPr/>
          <p:nvPr/>
        </p:nvSpPr>
        <p:spPr>
          <a:xfrm>
            <a:off x="1258920" y="6572160"/>
            <a:ext cx="230328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1001"/>
              </a:spcBef>
              <a:buClr>
                <a:srgbClr val="6d6d6d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1001"/>
              </a:spcBef>
              <a:buClr>
                <a:srgbClr val="6d6d6d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0"/>
          </p:nvPr>
        </p:nvSpPr>
        <p:spPr>
          <a:xfrm>
            <a:off x="890280" y="7084800"/>
            <a:ext cx="2916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37A6A-49CE-424D-8AEA-8F7188C843C2}" type="datetime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1"/>
          </p:nvPr>
        </p:nvSpPr>
        <p:spPr>
          <a:xfrm>
            <a:off x="4169880" y="7084800"/>
            <a:ext cx="4373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2"/>
          </p:nvPr>
        </p:nvSpPr>
        <p:spPr>
          <a:xfrm>
            <a:off x="165240" y="266760"/>
            <a:ext cx="738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0C6AF-4218-42DA-87E0-A9525FF5BEE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Рисунок 9" descr=""/>
          <p:cNvPicPr/>
          <p:nvPr/>
        </p:nvPicPr>
        <p:blipFill>
          <a:blip r:embed="rId2"/>
          <a:stretch/>
        </p:blipFill>
        <p:spPr>
          <a:xfrm>
            <a:off x="10856880" y="123840"/>
            <a:ext cx="1575000" cy="687240"/>
          </a:xfrm>
          <a:prstGeom prst="rect">
            <a:avLst/>
          </a:prstGeom>
          <a:ln w="0">
            <a:noFill/>
          </a:ln>
        </p:spPr>
      </p:pic>
      <p:sp>
        <p:nvSpPr>
          <p:cNvPr id="536" name="Прямоугольник 4"/>
          <p:cNvSpPr/>
          <p:nvPr/>
        </p:nvSpPr>
        <p:spPr>
          <a:xfrm>
            <a:off x="-3240" y="289080"/>
            <a:ext cx="893880" cy="318960"/>
          </a:xfrm>
          <a:prstGeom prst="rect">
            <a:avLst/>
          </a:prstGeom>
          <a:solidFill>
            <a:srgbClr val="a30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7"/>
          <p:cNvSpPr/>
          <p:nvPr/>
        </p:nvSpPr>
        <p:spPr>
          <a:xfrm>
            <a:off x="554040" y="640728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traight Connector 8"/>
          <p:cNvSpPr/>
          <p:nvPr/>
        </p:nvSpPr>
        <p:spPr>
          <a:xfrm>
            <a:off x="1258920" y="6572160"/>
            <a:ext cx="230328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1001"/>
              </a:spcBef>
              <a:buClr>
                <a:srgbClr val="6d6d6d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1001"/>
              </a:spcBef>
              <a:buClr>
                <a:srgbClr val="6d6d6d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3"/>
          </p:nvPr>
        </p:nvSpPr>
        <p:spPr>
          <a:xfrm>
            <a:off x="890280" y="7084800"/>
            <a:ext cx="2916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4B7E5-30C1-4034-A9A4-ABE2C5A4896D}" type="datetime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4"/>
          </p:nvPr>
        </p:nvSpPr>
        <p:spPr>
          <a:xfrm>
            <a:off x="4169880" y="7084800"/>
            <a:ext cx="4373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5"/>
          </p:nvPr>
        </p:nvSpPr>
        <p:spPr>
          <a:xfrm>
            <a:off x="165240" y="266760"/>
            <a:ext cx="738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FBAB5-8A2E-474F-8FDB-4C391B40600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02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Рисунок 21" descr=""/>
          <p:cNvPicPr/>
          <p:nvPr/>
        </p:nvPicPr>
        <p:blipFill>
          <a:blip r:embed="rId2"/>
          <a:stretch/>
        </p:blipFill>
        <p:spPr>
          <a:xfrm>
            <a:off x="8771040" y="0"/>
            <a:ext cx="4189320" cy="6840360"/>
          </a:xfrm>
          <a:prstGeom prst="rect">
            <a:avLst/>
          </a:prstGeom>
          <a:ln w="0">
            <a:noFill/>
          </a:ln>
        </p:spPr>
      </p:pic>
      <p:pic>
        <p:nvPicPr>
          <p:cNvPr id="581" name="Рисунок 13" descr=""/>
          <p:cNvPicPr/>
          <p:nvPr/>
        </p:nvPicPr>
        <p:blipFill>
          <a:blip r:embed="rId3"/>
          <a:stretch/>
        </p:blipFill>
        <p:spPr>
          <a:xfrm>
            <a:off x="853920" y="328680"/>
            <a:ext cx="1862280" cy="820800"/>
          </a:xfrm>
          <a:prstGeom prst="rect">
            <a:avLst/>
          </a:prstGeom>
          <a:ln w="0">
            <a:noFill/>
          </a:ln>
        </p:spPr>
      </p:pic>
      <p:sp>
        <p:nvSpPr>
          <p:cNvPr id="582" name="TextBox 12"/>
          <p:cNvSpPr/>
          <p:nvPr/>
        </p:nvSpPr>
        <p:spPr>
          <a:xfrm rot="16200000">
            <a:off x="11760840" y="930960"/>
            <a:ext cx="690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14"/>
          <p:cNvSpPr/>
          <p:nvPr/>
        </p:nvSpPr>
        <p:spPr>
          <a:xfrm>
            <a:off x="12128400" y="1405080"/>
            <a:ext cx="0" cy="230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5"/>
          <p:cNvSpPr/>
          <p:nvPr/>
        </p:nvSpPr>
        <p:spPr>
          <a:xfrm rot="16200000">
            <a:off x="11575080" y="5589720"/>
            <a:ext cx="10969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НХиГ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1001"/>
              </a:spcBef>
              <a:buClr>
                <a:srgbClr val="6d6d6d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1001"/>
              </a:spcBef>
              <a:buClr>
                <a:srgbClr val="6d6d6d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36"/>
          </p:nvPr>
        </p:nvSpPr>
        <p:spPr>
          <a:xfrm>
            <a:off x="890280" y="7084800"/>
            <a:ext cx="2916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EE866-41D0-417C-AE1B-D5BEFDCA8A58}" type="datetime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37"/>
          </p:nvPr>
        </p:nvSpPr>
        <p:spPr>
          <a:xfrm>
            <a:off x="4169880" y="7084800"/>
            <a:ext cx="4373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Рисунок 21" descr=""/>
          <p:cNvPicPr/>
          <p:nvPr/>
        </p:nvPicPr>
        <p:blipFill>
          <a:blip r:embed="rId2"/>
          <a:stretch/>
        </p:blipFill>
        <p:spPr>
          <a:xfrm>
            <a:off x="8771040" y="0"/>
            <a:ext cx="4189320" cy="684036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13" descr=""/>
          <p:cNvPicPr/>
          <p:nvPr/>
        </p:nvPicPr>
        <p:blipFill>
          <a:blip r:embed="rId3"/>
          <a:stretch/>
        </p:blipFill>
        <p:spPr>
          <a:xfrm>
            <a:off x="853920" y="328680"/>
            <a:ext cx="1862280" cy="820800"/>
          </a:xfrm>
          <a:prstGeom prst="rect">
            <a:avLst/>
          </a:prstGeom>
          <a:ln w="0">
            <a:noFill/>
          </a:ln>
        </p:spPr>
      </p:pic>
      <p:sp>
        <p:nvSpPr>
          <p:cNvPr id="627" name="TextBox 12"/>
          <p:cNvSpPr/>
          <p:nvPr/>
        </p:nvSpPr>
        <p:spPr>
          <a:xfrm rot="16200000">
            <a:off x="11760840" y="930960"/>
            <a:ext cx="690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14"/>
          <p:cNvSpPr/>
          <p:nvPr/>
        </p:nvSpPr>
        <p:spPr>
          <a:xfrm>
            <a:off x="12128400" y="1405080"/>
            <a:ext cx="0" cy="230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5"/>
          <p:cNvSpPr/>
          <p:nvPr/>
        </p:nvSpPr>
        <p:spPr>
          <a:xfrm rot="16200000">
            <a:off x="11575080" y="5589720"/>
            <a:ext cx="10969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НХиГ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1001"/>
              </a:spcBef>
              <a:buClr>
                <a:srgbClr val="6d6d6d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1001"/>
              </a:spcBef>
              <a:buClr>
                <a:srgbClr val="6d6d6d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38"/>
          </p:nvPr>
        </p:nvSpPr>
        <p:spPr>
          <a:xfrm>
            <a:off x="890280" y="7084800"/>
            <a:ext cx="2916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131E4-F78B-4715-9905-0FA4FC689E20}" type="datetime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39"/>
          </p:nvPr>
        </p:nvSpPr>
        <p:spPr>
          <a:xfrm>
            <a:off x="4169880" y="7084800"/>
            <a:ext cx="4373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Рисунок 21" descr=""/>
          <p:cNvPicPr/>
          <p:nvPr/>
        </p:nvPicPr>
        <p:blipFill>
          <a:blip r:embed="rId2"/>
          <a:stretch/>
        </p:blipFill>
        <p:spPr>
          <a:xfrm>
            <a:off x="8771040" y="0"/>
            <a:ext cx="4189320" cy="6840360"/>
          </a:xfrm>
          <a:prstGeom prst="rect">
            <a:avLst/>
          </a:prstGeom>
          <a:ln w="0">
            <a:noFill/>
          </a:ln>
        </p:spPr>
      </p:pic>
      <p:pic>
        <p:nvPicPr>
          <p:cNvPr id="671" name="Рисунок 13" descr=""/>
          <p:cNvPicPr/>
          <p:nvPr/>
        </p:nvPicPr>
        <p:blipFill>
          <a:blip r:embed="rId3"/>
          <a:stretch/>
        </p:blipFill>
        <p:spPr>
          <a:xfrm>
            <a:off x="853920" y="328680"/>
            <a:ext cx="1862280" cy="820800"/>
          </a:xfrm>
          <a:prstGeom prst="rect">
            <a:avLst/>
          </a:prstGeom>
          <a:ln w="0">
            <a:noFill/>
          </a:ln>
        </p:spPr>
      </p:pic>
      <p:sp>
        <p:nvSpPr>
          <p:cNvPr id="672" name="TextBox 12"/>
          <p:cNvSpPr/>
          <p:nvPr/>
        </p:nvSpPr>
        <p:spPr>
          <a:xfrm rot="16200000">
            <a:off x="11760840" y="930960"/>
            <a:ext cx="690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14"/>
          <p:cNvSpPr/>
          <p:nvPr/>
        </p:nvSpPr>
        <p:spPr>
          <a:xfrm>
            <a:off x="12128400" y="1405080"/>
            <a:ext cx="0" cy="230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5"/>
          <p:cNvSpPr/>
          <p:nvPr/>
        </p:nvSpPr>
        <p:spPr>
          <a:xfrm rot="16200000">
            <a:off x="11575080" y="5589720"/>
            <a:ext cx="10969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НХиГ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1001"/>
              </a:spcBef>
              <a:buClr>
                <a:srgbClr val="6d6d6d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1001"/>
              </a:spcBef>
              <a:buClr>
                <a:srgbClr val="6d6d6d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890280" y="7084800"/>
            <a:ext cx="2916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48DE5-EB20-41C6-B32D-8D2B968CCB45}" type="datetime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4169880" y="7084800"/>
            <a:ext cx="4373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9" descr=""/>
          <p:cNvPicPr/>
          <p:nvPr/>
        </p:nvPicPr>
        <p:blipFill>
          <a:blip r:embed="rId2"/>
          <a:stretch/>
        </p:blipFill>
        <p:spPr>
          <a:xfrm>
            <a:off x="10856880" y="123840"/>
            <a:ext cx="1575000" cy="6872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-3240" y="289080"/>
            <a:ext cx="893880" cy="318960"/>
          </a:xfrm>
          <a:prstGeom prst="rect">
            <a:avLst/>
          </a:prstGeom>
          <a:solidFill>
            <a:srgbClr val="a30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5"/>
          <p:cNvSpPr/>
          <p:nvPr/>
        </p:nvSpPr>
        <p:spPr>
          <a:xfrm>
            <a:off x="554040" y="640728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16"/>
          <p:cNvSpPr/>
          <p:nvPr/>
        </p:nvSpPr>
        <p:spPr>
          <a:xfrm>
            <a:off x="1258920" y="6572160"/>
            <a:ext cx="230328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7" descr=""/>
          <p:cNvPicPr/>
          <p:nvPr/>
        </p:nvPicPr>
        <p:blipFill>
          <a:blip r:embed="rId3"/>
          <a:stretch/>
        </p:blipFill>
        <p:spPr>
          <a:xfrm>
            <a:off x="11901600" y="0"/>
            <a:ext cx="1058760" cy="6840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1001"/>
              </a:spcBef>
              <a:buClr>
                <a:srgbClr val="6d6d6d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1001"/>
              </a:spcBef>
              <a:buClr>
                <a:srgbClr val="6d6d6d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4"/>
          </p:nvPr>
        </p:nvSpPr>
        <p:spPr>
          <a:xfrm>
            <a:off x="-33480" y="266760"/>
            <a:ext cx="936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33A36-B934-4B83-BBCB-7DA5FED88F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9" descr=""/>
          <p:cNvPicPr/>
          <p:nvPr/>
        </p:nvPicPr>
        <p:blipFill>
          <a:blip r:embed="rId2"/>
          <a:stretch/>
        </p:blipFill>
        <p:spPr>
          <a:xfrm>
            <a:off x="10856880" y="123840"/>
            <a:ext cx="1575000" cy="6872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-3240" y="289080"/>
            <a:ext cx="893880" cy="318960"/>
          </a:xfrm>
          <a:prstGeom prst="rect">
            <a:avLst/>
          </a:prstGeom>
          <a:solidFill>
            <a:srgbClr val="a30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554040" y="640728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1"/>
          <p:cNvSpPr/>
          <p:nvPr/>
        </p:nvSpPr>
        <p:spPr>
          <a:xfrm>
            <a:off x="1258920" y="6572160"/>
            <a:ext cx="230328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1001"/>
              </a:spcBef>
              <a:buClr>
                <a:srgbClr val="6d6d6d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1001"/>
              </a:spcBef>
              <a:buClr>
                <a:srgbClr val="6d6d6d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-33480" y="266760"/>
            <a:ext cx="936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3BC0A-8740-4E7C-8FA8-B1D50D0C861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9" descr=""/>
          <p:cNvPicPr/>
          <p:nvPr/>
        </p:nvPicPr>
        <p:blipFill>
          <a:blip r:embed="rId2"/>
          <a:stretch/>
        </p:blipFill>
        <p:spPr>
          <a:xfrm>
            <a:off x="10856880" y="123840"/>
            <a:ext cx="1575000" cy="68724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4"/>
          <p:cNvSpPr/>
          <p:nvPr/>
        </p:nvSpPr>
        <p:spPr>
          <a:xfrm>
            <a:off x="-3240" y="289080"/>
            <a:ext cx="893880" cy="318960"/>
          </a:xfrm>
          <a:prstGeom prst="rect">
            <a:avLst/>
          </a:prstGeom>
          <a:solidFill>
            <a:srgbClr val="a30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554040" y="640728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9"/>
          <p:cNvSpPr/>
          <p:nvPr/>
        </p:nvSpPr>
        <p:spPr>
          <a:xfrm>
            <a:off x="1258920" y="6572160"/>
            <a:ext cx="230328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1001"/>
              </a:spcBef>
              <a:buClr>
                <a:srgbClr val="6d6d6d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1001"/>
              </a:spcBef>
              <a:buClr>
                <a:srgbClr val="6d6d6d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890280" y="7084800"/>
            <a:ext cx="2916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179D3-8824-4358-B2D4-7BA3F7C37832}" type="datetime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4169880" y="7084800"/>
            <a:ext cx="4373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8"/>
          </p:nvPr>
        </p:nvSpPr>
        <p:spPr>
          <a:xfrm>
            <a:off x="-33480" y="266760"/>
            <a:ext cx="936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C6DDB-02BE-4136-A17E-70294759156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9" descr=""/>
          <p:cNvPicPr/>
          <p:nvPr/>
        </p:nvPicPr>
        <p:blipFill>
          <a:blip r:embed="rId2"/>
          <a:stretch/>
        </p:blipFill>
        <p:spPr>
          <a:xfrm>
            <a:off x="10856880" y="123840"/>
            <a:ext cx="1575000" cy="68724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4"/>
          <p:cNvSpPr/>
          <p:nvPr/>
        </p:nvSpPr>
        <p:spPr>
          <a:xfrm>
            <a:off x="-3240" y="289080"/>
            <a:ext cx="893880" cy="318960"/>
          </a:xfrm>
          <a:prstGeom prst="rect">
            <a:avLst/>
          </a:prstGeom>
          <a:solidFill>
            <a:srgbClr val="a30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554040" y="640728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0"/>
          <p:cNvSpPr/>
          <p:nvPr/>
        </p:nvSpPr>
        <p:spPr>
          <a:xfrm>
            <a:off x="1258920" y="6572160"/>
            <a:ext cx="230328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1001"/>
              </a:spcBef>
              <a:buClr>
                <a:srgbClr val="6d6d6d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1001"/>
              </a:spcBef>
              <a:buClr>
                <a:srgbClr val="6d6d6d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9"/>
          </p:nvPr>
        </p:nvSpPr>
        <p:spPr>
          <a:xfrm>
            <a:off x="890280" y="7084800"/>
            <a:ext cx="2916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07995-63F1-408D-B46F-57BD848C94E6}" type="datetime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0"/>
          </p:nvPr>
        </p:nvSpPr>
        <p:spPr>
          <a:xfrm>
            <a:off x="4169880" y="7084800"/>
            <a:ext cx="4373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1"/>
          </p:nvPr>
        </p:nvSpPr>
        <p:spPr>
          <a:xfrm>
            <a:off x="-33480" y="266760"/>
            <a:ext cx="936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F5972-22D2-450B-A1DE-3C299289FB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0"/>
            <a:ext cx="12960360" cy="6840360"/>
          </a:xfrm>
          <a:prstGeom prst="rect">
            <a:avLst/>
          </a:prstGeom>
          <a:solidFill>
            <a:srgbClr val="a30236"/>
          </a:solidFill>
          <a:ln w="12600">
            <a:solidFill>
              <a:srgbClr val="7701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4"/>
          <p:cNvSpPr/>
          <p:nvPr/>
        </p:nvSpPr>
        <p:spPr>
          <a:xfrm>
            <a:off x="-3240" y="289080"/>
            <a:ext cx="89388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6" descr=""/>
          <p:cNvPicPr/>
          <p:nvPr/>
        </p:nvPicPr>
        <p:blipFill>
          <a:blip r:embed="rId2"/>
          <a:srcRect l="0" t="4828" r="0" b="0"/>
          <a:stretch/>
        </p:blipFill>
        <p:spPr>
          <a:xfrm>
            <a:off x="10683720" y="0"/>
            <a:ext cx="1951200" cy="9763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7"/>
          <p:cNvSpPr/>
          <p:nvPr/>
        </p:nvSpPr>
        <p:spPr>
          <a:xfrm>
            <a:off x="554040" y="640728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8"/>
          <p:cNvSpPr/>
          <p:nvPr/>
        </p:nvSpPr>
        <p:spPr>
          <a:xfrm>
            <a:off x="1258920" y="6572160"/>
            <a:ext cx="2303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1001"/>
              </a:spcBef>
              <a:buClr>
                <a:srgbClr val="6d6d6d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1001"/>
              </a:spcBef>
              <a:buClr>
                <a:srgbClr val="6d6d6d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2"/>
          </p:nvPr>
        </p:nvSpPr>
        <p:spPr>
          <a:xfrm>
            <a:off x="890280" y="7084800"/>
            <a:ext cx="2916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F3EEB-DD3D-4383-B20E-C4AEE3EA6973}" type="datetime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3"/>
          </p:nvPr>
        </p:nvSpPr>
        <p:spPr>
          <a:xfrm>
            <a:off x="4169880" y="7084800"/>
            <a:ext cx="4373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4"/>
          </p:nvPr>
        </p:nvSpPr>
        <p:spPr>
          <a:xfrm>
            <a:off x="-33480" y="266760"/>
            <a:ext cx="936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be003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A97E4-9B62-4BF2-9D00-D041AFBAE96A}" type="slidenum">
              <a:rPr b="0" lang="ru-RU" sz="1400" spc="-1" strike="noStrike">
                <a:solidFill>
                  <a:srgbClr val="be003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9" descr=""/>
          <p:cNvPicPr/>
          <p:nvPr/>
        </p:nvPicPr>
        <p:blipFill>
          <a:blip r:embed="rId2"/>
          <a:stretch/>
        </p:blipFill>
        <p:spPr>
          <a:xfrm>
            <a:off x="10856880" y="123840"/>
            <a:ext cx="1575000" cy="68724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4"/>
          <p:cNvSpPr/>
          <p:nvPr/>
        </p:nvSpPr>
        <p:spPr>
          <a:xfrm>
            <a:off x="-3240" y="289080"/>
            <a:ext cx="893880" cy="318960"/>
          </a:xfrm>
          <a:prstGeom prst="rect">
            <a:avLst/>
          </a:prstGeom>
          <a:solidFill>
            <a:srgbClr val="a30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554040" y="640728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10"/>
          <p:cNvSpPr/>
          <p:nvPr/>
        </p:nvSpPr>
        <p:spPr>
          <a:xfrm>
            <a:off x="1258920" y="6572160"/>
            <a:ext cx="230328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-33480" y="266760"/>
            <a:ext cx="936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74F70-E470-476D-B8B0-52FAB9E18E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1001"/>
              </a:spcBef>
              <a:buClr>
                <a:srgbClr val="6d6d6d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1001"/>
              </a:spcBef>
              <a:buClr>
                <a:srgbClr val="6d6d6d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5"/>
          </p:nvPr>
        </p:nvSpPr>
        <p:spPr>
          <a:xfrm>
            <a:off x="890280" y="7084800"/>
            <a:ext cx="2916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DA04A9-FD6F-4E1F-97C2-B96322B495DE}" type="datetime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6"/>
          </p:nvPr>
        </p:nvSpPr>
        <p:spPr>
          <a:xfrm>
            <a:off x="4169880" y="7084800"/>
            <a:ext cx="4373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7"/>
          </p:nvPr>
        </p:nvSpPr>
        <p:spPr>
          <a:xfrm>
            <a:off x="165240" y="266760"/>
            <a:ext cx="738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D2D05-2042-482B-B825-9EC2DF22431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Рисунок 9" descr=""/>
          <p:cNvPicPr/>
          <p:nvPr/>
        </p:nvPicPr>
        <p:blipFill>
          <a:blip r:embed="rId2"/>
          <a:stretch/>
        </p:blipFill>
        <p:spPr>
          <a:xfrm>
            <a:off x="10856880" y="123840"/>
            <a:ext cx="1575000" cy="68724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4"/>
          <p:cNvSpPr/>
          <p:nvPr/>
        </p:nvSpPr>
        <p:spPr>
          <a:xfrm>
            <a:off x="-3240" y="289080"/>
            <a:ext cx="893880" cy="318960"/>
          </a:xfrm>
          <a:prstGeom prst="rect">
            <a:avLst/>
          </a:prstGeom>
          <a:solidFill>
            <a:srgbClr val="a30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9"/>
          <p:cNvSpPr/>
          <p:nvPr/>
        </p:nvSpPr>
        <p:spPr>
          <a:xfrm>
            <a:off x="554040" y="640728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0"/>
          <p:cNvSpPr/>
          <p:nvPr/>
        </p:nvSpPr>
        <p:spPr>
          <a:xfrm>
            <a:off x="1258920" y="6572160"/>
            <a:ext cx="230328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1001"/>
              </a:spcBef>
              <a:buClr>
                <a:srgbClr val="6d6d6d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1001"/>
              </a:spcBef>
              <a:buClr>
                <a:srgbClr val="6d6d6d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8"/>
          </p:nvPr>
        </p:nvSpPr>
        <p:spPr>
          <a:xfrm>
            <a:off x="890280" y="7084800"/>
            <a:ext cx="2916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07F82-43EA-46B2-8A3D-94DEF3DBC8BD}" type="datetime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9"/>
          </p:nvPr>
        </p:nvSpPr>
        <p:spPr>
          <a:xfrm>
            <a:off x="4169880" y="7084800"/>
            <a:ext cx="4373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0"/>
          </p:nvPr>
        </p:nvSpPr>
        <p:spPr>
          <a:xfrm>
            <a:off x="165240" y="266760"/>
            <a:ext cx="738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769FD-AF20-455D-940D-684503199D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9" descr=""/>
          <p:cNvPicPr/>
          <p:nvPr/>
        </p:nvPicPr>
        <p:blipFill>
          <a:blip r:embed="rId2"/>
          <a:stretch/>
        </p:blipFill>
        <p:spPr>
          <a:xfrm>
            <a:off x="10856880" y="123840"/>
            <a:ext cx="1575000" cy="68724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4"/>
          <p:cNvSpPr/>
          <p:nvPr/>
        </p:nvSpPr>
        <p:spPr>
          <a:xfrm>
            <a:off x="-3240" y="289080"/>
            <a:ext cx="893880" cy="318960"/>
          </a:xfrm>
          <a:prstGeom prst="rect">
            <a:avLst/>
          </a:prstGeom>
          <a:solidFill>
            <a:srgbClr val="a30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0"/>
          <p:cNvSpPr/>
          <p:nvPr/>
        </p:nvSpPr>
        <p:spPr>
          <a:xfrm>
            <a:off x="554040" y="640728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12"/>
          <p:cNvSpPr/>
          <p:nvPr/>
        </p:nvSpPr>
        <p:spPr>
          <a:xfrm>
            <a:off x="1258920" y="6572160"/>
            <a:ext cx="230328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90640" y="899640"/>
            <a:ext cx="957744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890640" y="1820880"/>
            <a:ext cx="112060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1001"/>
              </a:spcBef>
              <a:buClr>
                <a:srgbClr val="6d6d6d"/>
              </a:buClr>
              <a:buFont typeface="Arial"/>
              <a:buChar char="–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1001"/>
              </a:spcBef>
              <a:buClr>
                <a:srgbClr val="6d6d6d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1"/>
          </p:nvPr>
        </p:nvSpPr>
        <p:spPr>
          <a:xfrm>
            <a:off x="890280" y="7084800"/>
            <a:ext cx="2916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DE8C2-6732-49FC-9220-6D39235EE6FC}" type="datetime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2"/>
          </p:nvPr>
        </p:nvSpPr>
        <p:spPr>
          <a:xfrm>
            <a:off x="4169880" y="7084800"/>
            <a:ext cx="4373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3"/>
          </p:nvPr>
        </p:nvSpPr>
        <p:spPr>
          <a:xfrm>
            <a:off x="165240" y="266760"/>
            <a:ext cx="738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76D3A-738F-41C9-9AF2-DF075407EA3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02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3"/>
          <p:cNvSpPr/>
          <p:nvPr/>
        </p:nvSpPr>
        <p:spPr>
          <a:xfrm>
            <a:off x="914400" y="6126120"/>
            <a:ext cx="2146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лгогр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оугольник 4"/>
          <p:cNvSpPr/>
          <p:nvPr/>
        </p:nvSpPr>
        <p:spPr>
          <a:xfrm>
            <a:off x="811080" y="1716120"/>
            <a:ext cx="108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лгоградский институт управления – филиал РАНХиГ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Содержимое 1"/>
          <p:cNvSpPr/>
          <p:nvPr/>
        </p:nvSpPr>
        <p:spPr>
          <a:xfrm>
            <a:off x="811080" y="2867040"/>
            <a:ext cx="964728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Иванов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Екатерина Алексеевн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ВКР: «ВЛИЯНИЕ ЦИФРОВИЗАЦИИ НА РАЗВИТИЕ РЫНКА ПЕРСОНАЛЬНЫХ ИНВЕСТИЦИ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33640" y="223920"/>
            <a:ext cx="979776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НАМИКА ПЕРСОНАЛЬНОГО ИНВЕСТИРОВАНИЯ НА ФОНДОВОМ РЫНК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Номер слайда 3"/>
          <p:cNvSpPr/>
          <p:nvPr/>
        </p:nvSpPr>
        <p:spPr>
          <a:xfrm>
            <a:off x="-33480" y="266760"/>
            <a:ext cx="936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ECEC8-D6BF-4AE5-BBF3-4891B2A5CC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2077920" y="1387440"/>
            <a:ext cx="8188560" cy="5175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33640" y="223920"/>
            <a:ext cx="979776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РАВЛЕНИЯ РАЗВИТИЯ РЫНКА ПЕРСОНАЛЬНЫХ ИНВЕСТИЦИ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Номер слайда 3"/>
          <p:cNvSpPr/>
          <p:nvPr/>
        </p:nvSpPr>
        <p:spPr>
          <a:xfrm>
            <a:off x="-33480" y="266760"/>
            <a:ext cx="936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19244-A766-4E5C-B03C-73BC835D7C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1284120" y="1486080"/>
            <a:ext cx="10765080" cy="434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79000" y="348840"/>
            <a:ext cx="979812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ОПРИЯТИЯ ПО РАЗРАБОТКЕ И ВНЕДРЕНИЮ ИНИЦИАТИВ ПО ФИНАНСОВОЙ ГРАМОТНОСТИ ПЕРСОНАЛЬНЫХ ИНВЕСТОРОВ В ОТНОШЕНИИ ФИНАНСОВЫХ ТЕХНОЛОГИЙ НА ФИНАНСОВОМ РЫНК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Номер слайда 3"/>
          <p:cNvSpPr/>
          <p:nvPr/>
        </p:nvSpPr>
        <p:spPr>
          <a:xfrm>
            <a:off x="-33480" y="266760"/>
            <a:ext cx="936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7DE44-96CD-4ABB-A0E5-C0752D5E34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2622600" y="1689120"/>
            <a:ext cx="7966080" cy="45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33640" y="223920"/>
            <a:ext cx="979776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Номер слайда 3"/>
          <p:cNvSpPr/>
          <p:nvPr/>
        </p:nvSpPr>
        <p:spPr>
          <a:xfrm>
            <a:off x="-33480" y="266760"/>
            <a:ext cx="936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28F56-B90D-4DF7-B9CC-5575C587296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1811160" y="1380960"/>
            <a:ext cx="9012240" cy="503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02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14400" y="3976200"/>
            <a:ext cx="1042344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5"/>
          <p:cNvSpPr/>
          <p:nvPr/>
        </p:nvSpPr>
        <p:spPr>
          <a:xfrm>
            <a:off x="914400" y="6126120"/>
            <a:ext cx="2146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лгогр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Прямоугольник 4"/>
          <p:cNvSpPr/>
          <p:nvPr/>
        </p:nvSpPr>
        <p:spPr>
          <a:xfrm>
            <a:off x="811080" y="1716120"/>
            <a:ext cx="108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лгоградский институт управления – филиал РАНХиГ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522080" y="506160"/>
            <a:ext cx="972036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, ЗАДАЧИ, ОБЪЕКТ И ПРЕДМЕТ ВК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-33480" y="266760"/>
            <a:ext cx="936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A53B4-4DA2-4420-8B89-8DD61FCE84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712880" y="1189080"/>
            <a:ext cx="9180720" cy="5151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057320" y="436680"/>
            <a:ext cx="9972720" cy="8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БЕРЕЖЕНИЯ ФИЗИЧЕСКИХ ЛИЦ КАК ПРЕДПОСЫЛКА ПЕРСОНАЛЬНОГО ИНВЕСТИРОВАНИ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Номер слайда 3"/>
          <p:cNvSpPr/>
          <p:nvPr/>
        </p:nvSpPr>
        <p:spPr>
          <a:xfrm>
            <a:off x="-33480" y="266760"/>
            <a:ext cx="936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9A47B-30C8-43DB-BCEE-1EC1B131D0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1673280" y="1241280"/>
            <a:ext cx="9318600" cy="513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98520" y="380520"/>
            <a:ext cx="9982080" cy="8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ОНАЛЬНАЯ ИНФРАСТРУКТУРА РЫНКА ПЕРСОНАЛЬНЫХ ИНВЕСТИЦИ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Номер слайда 3"/>
          <p:cNvSpPr/>
          <p:nvPr/>
        </p:nvSpPr>
        <p:spPr>
          <a:xfrm>
            <a:off x="-33480" y="266760"/>
            <a:ext cx="936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CB4C0-04D8-4BDE-B80F-DF568E7112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2556000" y="1214280"/>
            <a:ext cx="7369200" cy="509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309320" y="360000"/>
            <a:ext cx="972036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УЛЯТИВНАВНАЯ ИНФРАСТРУКТУРА РЫНКА ПЕРСОНАЛЬНЫХ ИНВЕСТИЦ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Номер слайда 3"/>
          <p:cNvSpPr/>
          <p:nvPr/>
        </p:nvSpPr>
        <p:spPr>
          <a:xfrm>
            <a:off x="-33480" y="266760"/>
            <a:ext cx="936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C34D3-8D2B-45B5-AF78-1F393CFF1A8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1535040" y="1420920"/>
            <a:ext cx="9441000" cy="418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11400" y="388440"/>
            <a:ext cx="9720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ОННАЯ ИНФРАСТРУКТУРА РЫНКА ПЕРСОНАЛЬНЫХ ИНВЕСТИЦ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Номер слайда 3"/>
          <p:cNvSpPr/>
          <p:nvPr/>
        </p:nvSpPr>
        <p:spPr>
          <a:xfrm>
            <a:off x="-33480" y="266760"/>
            <a:ext cx="936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F32F4-2637-43AF-9946-F230C6E0A5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1828800" y="1320840"/>
            <a:ext cx="8478720" cy="5106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92320" y="262080"/>
            <a:ext cx="972000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ХНИЧЕСКАЯ ИНФРАСТРУКТУРА РЫНКА ПЕРСОНАЛЬНЫХ ИНВЕСТИЦИ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Номер слайда 3"/>
          <p:cNvSpPr/>
          <p:nvPr/>
        </p:nvSpPr>
        <p:spPr>
          <a:xfrm>
            <a:off x="-33480" y="266760"/>
            <a:ext cx="936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087E7-BBBA-46B5-8866-6FB739E055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1695600" y="1557360"/>
            <a:ext cx="8737560" cy="431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14560" y="349200"/>
            <a:ext cx="9720000" cy="6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НАМИКА ВКЛАДОВ ФИЗИЧЕСКИХ ЛИЦ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Номер слайда 3"/>
          <p:cNvSpPr/>
          <p:nvPr/>
        </p:nvSpPr>
        <p:spPr>
          <a:xfrm>
            <a:off x="-33480" y="266760"/>
            <a:ext cx="936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55316-9609-44FD-9B9B-8DA05006DC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2809800" y="1536840"/>
            <a:ext cx="7445520" cy="4408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33640" y="223920"/>
            <a:ext cx="979776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НАМИКА ОБЪЕМА АКТИВОВ ПЕРСОНАЛЬНЫХ ИНВЕСТОР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Номер слайда 3"/>
          <p:cNvSpPr/>
          <p:nvPr/>
        </p:nvSpPr>
        <p:spPr>
          <a:xfrm>
            <a:off x="-33480" y="266760"/>
            <a:ext cx="936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D45FA-B7CE-4F5D-B021-5D5FDD47A3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2590920" y="1508040"/>
            <a:ext cx="7386480" cy="4367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6T16:54:41Z</dcterms:created>
  <dc:creator>Microsoft Office User</dc:creator>
  <dc:description/>
  <dc:language>en-US</dc:language>
  <cp:lastModifiedBy>Пользователь Windows</cp:lastModifiedBy>
  <dcterms:modified xsi:type="dcterms:W3CDTF">2024-07-08T10:48:39Z</dcterms:modified>
  <cp:revision>306</cp:revision>
  <dc:subject/>
  <dc:title>Презентация PowerPoint</dc:title>
</cp:coreProperties>
</file>