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4245-33D5-4757-908B-214FAC1EDA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31B7-1519-4041-9347-422B00DCE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E9D-0752-4ECF-B7A5-D0156C3D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588-3C46-48F6-ADEF-856DB7F7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B38-D23E-4884-94C5-EC142AB1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48E-6955-481C-A99B-50468CC4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E08-C854-4AD3-84DF-A23ABA30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F4C-63BF-4C7C-BF2A-EFAD325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33A-DC10-444B-9578-D8DEF75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7AD-793A-4B88-A135-8DAEF87E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864-2FF3-4E6F-A7B7-75E01465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CCC-E80F-40E9-B81A-BBBFF05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77C-BC29-4EA7-B15F-C39D45E2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836-FCAE-4840-9526-43942FCA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E51F-BC06-4B19-A4D4-9AB93210C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900000" y="263700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ТАРИФНЫЕ ЛЬГОТЫ И ПРЕФЕРЕНЦИИ КАК ИНСТРУМЕНТ ОБЕСПЕЧЕНИЯ ЭКОНОМИЧЕСКОЙ БЕЗОПАСНОСТИ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059280" y="623736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гоград, 2021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5076720" y="5229360"/>
            <a:ext cx="35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оводитель работ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414972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обучающийс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инамика объема тарифных преференций РФ за 2017-2020 гг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103880" cy="427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облемы применения тарифных льгот и преференций в сфере обеспечения экономической безопасности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00000" y="1773360"/>
            <a:ext cx="7272000" cy="4319280"/>
            <a:chOff x="900000" y="1773360"/>
            <a:chExt cx="7272000" cy="4319280"/>
          </a:xfrm>
        </p:grpSpPr>
        <p:sp>
          <p:nvSpPr>
            <p:cNvPr id="102" name=""/>
            <p:cNvSpPr/>
            <p:nvPr/>
          </p:nvSpPr>
          <p:spPr>
            <a:xfrm>
              <a:off x="2753640" y="1773360"/>
              <a:ext cx="3564720" cy="5234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Calibri"/>
                </a:rPr>
                <a:t>ПРОБЛЕМЫ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000" y="2558520"/>
              <a:ext cx="2709000" cy="183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00"/>
                  </a:solidFill>
                  <a:latin typeface="Arial"/>
                </a:rPr>
                <a:t>Несоблюдение критериев происхождения товаров, правил прямой поставки и непосредственной закупки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63000" y="2558520"/>
              <a:ext cx="2709000" cy="183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00"/>
                  </a:solidFill>
                  <a:latin typeface="Arial"/>
                </a:rPr>
                <a:t>Ввоз товаров на преференциальных условиях с нарушением таможенного законодательств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70240" y="4653000"/>
              <a:ext cx="270900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00"/>
                  </a:solidFill>
                  <a:latin typeface="Arial"/>
                </a:rPr>
                <a:t>Предоставление фальсифицированных сертификатов о происхождении товар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07280" y="4653000"/>
              <a:ext cx="327960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800000"/>
                  </a:solidFill>
                  <a:latin typeface="Arial"/>
                </a:rPr>
                <a:t>Включение в преференциальный список ЕАЭС стран с доходом выше среднего (4046 долл. США на душу населения)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93680" y="2296800"/>
              <a:ext cx="427680" cy="261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8120" y="2296800"/>
              <a:ext cx="427680" cy="261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51920" y="2296800"/>
              <a:ext cx="284760" cy="2356200"/>
            </a:xfrm>
            <a:prstGeom prst="downArrow">
              <a:avLst>
                <a:gd name="adj1" fmla="val 50000"/>
                <a:gd name="adj2" fmla="val 206858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35320" y="2296800"/>
              <a:ext cx="284760" cy="2356200"/>
            </a:xfrm>
            <a:prstGeom prst="downArrow">
              <a:avLst>
                <a:gd name="adj1" fmla="val 50000"/>
                <a:gd name="adj2" fmla="val 206858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3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Перспективы развития системы тарифных льгот и преференций в области обеспечения экономической безопасности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844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32000" y="1700280"/>
          <a:ext cx="6553080" cy="39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700280"/>
                    <a:ext cx="655308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116000" y="5805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гноз динамики доходов Федерального бюджета на 2021 год с учетом предложенных рекоменда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58920" y="105264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Цель и задачи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4360" y="1628640"/>
            <a:ext cx="8064360" cy="4896000"/>
            <a:chOff x="684360" y="1628640"/>
            <a:chExt cx="8064360" cy="4896000"/>
          </a:xfrm>
        </p:grpSpPr>
        <p:sp>
          <p:nvSpPr>
            <p:cNvPr id="54" name=""/>
            <p:cNvSpPr/>
            <p:nvPr/>
          </p:nvSpPr>
          <p:spPr>
            <a:xfrm>
              <a:off x="684360" y="1628640"/>
              <a:ext cx="8064360" cy="99216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ЦЕЛЬ ИССЛЕДОВАНИЯ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-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на основе анализа системы тарифных льгот и преференций разработать рекомендации по совершенствованию инструментов обеспечения экономической безопасности РФ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7640" y="2637000"/>
              <a:ext cx="6379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360" y="2924280"/>
              <a:ext cx="8064360" cy="19843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Calibri"/>
                </a:rPr>
                <a:t>- рассмотреть понятие и сущность тарифных льгот и преференции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Calibri"/>
                </a:rPr>
                <a:t>- изучить инструменты реализации системы тарифных льгот и преференций в сфере обеспечения экономической безопасности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Calibri"/>
                </a:rPr>
                <a:t>- охарактеризовать нормативно-правовые основные системы тарифных льгот и преференций РФ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Calibri"/>
                </a:rPr>
                <a:t>- проанализировать динамику и структуру тарифных льгот и преференций РФ;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0000"/>
                  </a:solidFill>
                  <a:latin typeface="Calibri"/>
                </a:rPr>
                <a:t>- выявить проблемы функционирования системы тарифных льгот и преференций в сфере обеспечения экономической безопасности и разработать рекомендации по их решению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4360" y="5084640"/>
              <a:ext cx="3182760" cy="85104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БЪЕКТ ИССЛЕДОВАНИЯ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-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система тарифных льгот и преференций РФ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3280" y="5084640"/>
              <a:ext cx="4027680" cy="85752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РЕДМЕТ ИССЛЕДОВАНИЯ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 экономико-правовые отношения, возникающие в процессе применения тариф льгот и преференций в сфере обеспечения экономической безопасности стран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51280" y="5300640"/>
              <a:ext cx="849240" cy="282600"/>
            </a:xfrm>
            <a:prstGeom prst="leftRightArrow">
              <a:avLst>
                <a:gd name="adj1" fmla="val 50000"/>
                <a:gd name="adj2" fmla="val 59823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4360" y="6021360"/>
              <a:ext cx="7991280" cy="503280"/>
            </a:xfrm>
            <a:prstGeom prst="rect">
              <a:avLst/>
            </a:prstGeom>
            <a:noFill/>
            <a:ln w="63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alibri"/>
                </a:rPr>
                <a:t>НАУЧНАЯ НОВИЗНА</a:t>
              </a:r>
              <a:r>
                <a:rPr b="0" lang="en-US" sz="1600" spc="-1" strike="noStrike">
                  <a:solidFill>
                    <a:srgbClr val="800000"/>
                  </a:solidFill>
                  <a:latin typeface="Calibri"/>
                </a:rPr>
                <a:t> – систематизированы тарифные льготы и уточнены тариф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92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инамика оборота внешней торговли государств – членов с третьими странами ЕАЭС за 2017-2020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55640" y="1989000"/>
          <a:ext cx="7561440" cy="387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989000"/>
                    <a:ext cx="756144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инамика экспорта государств – членов ЕАЭС в третьи страны за 2017-2020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1844640"/>
          <a:ext cx="6840360" cy="445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844640"/>
                    <a:ext cx="684036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инамика импорта государств – членов ЕАЭС из третьих стран за 2017-2020 годы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42920" y="1773360"/>
          <a:ext cx="7201080" cy="47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773360"/>
                    <a:ext cx="720108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Структура импорта и экспорта РФ в 202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2060640"/>
          <a:ext cx="4174920" cy="25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060640"/>
                    <a:ext cx="417492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356000" y="3645000"/>
          <a:ext cx="4356360" cy="26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3645000"/>
                    <a:ext cx="4356360" cy="26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инамика видов тарифных льгот в РФ за 2017-2020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58920" y="1700280"/>
          <a:ext cx="6770520" cy="49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700280"/>
                    <a:ext cx="677052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инамика объема тарифных льгот в РФ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за 2017-2020 годы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1844640"/>
          <a:ext cx="7201080" cy="432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844640"/>
                    <a:ext cx="720108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058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Структура объема тарифных льгот за 2017-2020 годы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32000" y="1916280"/>
          <a:ext cx="6480000" cy="44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916280"/>
                    <a:ext cx="648000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4T10:04:46Z</dcterms:created>
  <dc:creator>ВасилиЙ ПетровиЧ</dc:creator>
  <dc:description/>
  <dc:language>en-US</dc:language>
  <cp:lastModifiedBy>Пользователь Windows</cp:lastModifiedBy>
  <dcterms:modified xsi:type="dcterms:W3CDTF">2024-08-10T06:52:48Z</dcterms:modified>
  <cp:revision>88</cp:revision>
  <dc:subject/>
  <dc:title>Презентация PowerPoint</dc:title>
</cp:coreProperties>
</file>