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564-CEFD-4813-A2F4-A77520DF4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12E-BDB2-4031-870B-86E834F3E6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BAE-97EE-421C-87D4-A55C7715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27B-7DFF-4B61-A195-4B246887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1D8-6BA1-4CEC-A66C-5F508E4D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4B5-B600-4DFA-A5FA-B4E06CA8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D40-6982-42C0-B2F7-94493EB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5A0-0DEA-4D92-B01B-32FD8F0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9B4-A021-4811-AFCF-E73A937B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A3F-3D11-48CC-BA69-44571395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C3E-4BCE-4972-989B-297735CD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562-B8D1-4B6A-A2B8-9F2098B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E41-1989-48D5-8830-9B58912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FC9-35EC-40BA-BDF6-154BA2F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F900-4371-4DA1-9FBA-CF7E1E587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Прибыль компании и пути ее увеличения (на примере ООО "Монолит"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30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logweb.jpg"/>
          <p:cNvPicPr/>
          <p:nvPr/>
        </p:nvPicPr>
        <p:blipFill>
          <a:blip r:embed="rId1"/>
          <a:srcRect l="0" t="0" r="0" b="17550"/>
          <a:stretch/>
        </p:blipFill>
        <p:spPr>
          <a:xfrm>
            <a:off x="0" y="0"/>
            <a:ext cx="4067280" cy="150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258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Цель и задачи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42920" y="2205000"/>
            <a:ext cx="7143840" cy="3886200"/>
            <a:chOff x="1042920" y="2205000"/>
            <a:chExt cx="7143840" cy="3886200"/>
          </a:xfrm>
        </p:grpSpPr>
        <p:sp>
          <p:nvSpPr>
            <p:cNvPr id="56" name=""/>
            <p:cNvSpPr/>
            <p:nvPr/>
          </p:nvSpPr>
          <p:spPr>
            <a:xfrm>
              <a:off x="1042920" y="2205000"/>
              <a:ext cx="1444680" cy="457200"/>
            </a:xfrm>
            <a:prstGeom prst="roundRect">
              <a:avLst>
                <a:gd name="adj" fmla="val 1666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57600" y="2205000"/>
              <a:ext cx="5414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Анализ прибыли компании и разработка на его основе мероприятий ее увеличению (на примере ООО "Монолит"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2920" y="2774880"/>
              <a:ext cx="1444680" cy="1828800"/>
            </a:xfrm>
            <a:custGeom>
              <a:avLst/>
              <a:gdLst>
                <a:gd name="textAreaLeft" fmla="*/ 70200 w 1444680"/>
                <a:gd name="textAreaRight" fmla="*/ 1374480 w 1444680"/>
                <a:gd name="textAreaTop" fmla="*/ 70200 h 1828800"/>
                <a:gd name="textAreaBottom" fmla="*/ 1758600 h 1828800"/>
              </a:gdLst>
              <a:ahLst/>
              <a:rect l="textAreaLeft" t="textAreaTop" r="textAreaRight" b="textAreaBottom"/>
              <a:pathLst>
                <a:path w="21600" h="27342">
                  <a:moveTo>
                    <a:pt x="3600" y="0"/>
                  </a:moveTo>
                  <a:arcTo wR="3600" hR="3600" stAng="16200000" swAng="-5400000"/>
                  <a:lnTo>
                    <a:pt x="0" y="23742"/>
                  </a:lnTo>
                  <a:arcTo wR="3600" hR="3600" stAng="10800000" swAng="-5400000"/>
                  <a:lnTo>
                    <a:pt x="18000" y="273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ЗАДАЧ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87600" y="2320920"/>
              <a:ext cx="270000" cy="228600"/>
            </a:xfrm>
            <a:prstGeom prst="rightArrow">
              <a:avLst>
                <a:gd name="adj1" fmla="val 50000"/>
                <a:gd name="adj2" fmla="val 29528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57600" y="2774880"/>
              <a:ext cx="5414760" cy="19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раскрыть теоретические основы исследования прибыли компании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изучить методы анализа прибыли компании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рассмотреть информационную базу финансовой деятельности предприятия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на основе рассмотренных методов провести оценку прибыли компан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дать практические рекомендации и разработать мероприятия по увеличению прибыли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оценить экономическую эффективность от внедрения предложенных мероприятий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7600" y="3576600"/>
              <a:ext cx="270000" cy="228600"/>
            </a:xfrm>
            <a:prstGeom prst="rightArrow">
              <a:avLst>
                <a:gd name="adj1" fmla="val 50000"/>
                <a:gd name="adj2" fmla="val 29528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2920" y="4834080"/>
              <a:ext cx="1444680" cy="45720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ОБЪЕК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2920" y="5405400"/>
              <a:ext cx="1444680" cy="68580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ЕДМЕ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7600" y="4948200"/>
              <a:ext cx="270000" cy="228600"/>
            </a:xfrm>
            <a:prstGeom prst="rightArrow">
              <a:avLst>
                <a:gd name="adj1" fmla="val 50000"/>
                <a:gd name="adj2" fmla="val 29528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71640" y="4869000"/>
              <a:ext cx="541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нансовая деятельность компании ООО "Монолит"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57600" y="5405400"/>
              <a:ext cx="54147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истема экономических отношений и механизмов, связанных с формированием и управлением финансовыми результатами предприятия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87600" y="5634000"/>
              <a:ext cx="270000" cy="228600"/>
            </a:xfrm>
            <a:prstGeom prst="rightArrow">
              <a:avLst>
                <a:gd name="adj1" fmla="val 50000"/>
                <a:gd name="adj2" fmla="val 29528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80438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Сущность прибыли предприятия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39640" y="2060640"/>
            <a:ext cx="8353440" cy="4176720"/>
            <a:chOff x="539640" y="2060640"/>
            <a:chExt cx="8353440" cy="4176720"/>
          </a:xfrm>
        </p:grpSpPr>
        <p:sp>
          <p:nvSpPr>
            <p:cNvPr id="72" name=""/>
            <p:cNvSpPr/>
            <p:nvPr/>
          </p:nvSpPr>
          <p:spPr>
            <a:xfrm>
              <a:off x="1258920" y="2060640"/>
              <a:ext cx="6553080" cy="431640"/>
            </a:xfrm>
            <a:prstGeom prst="roundRect">
              <a:avLst>
                <a:gd name="adj" fmla="val 1666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ИБЫЛЬ ПРЕДПРИЯТ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9640" y="2852640"/>
              <a:ext cx="2592360" cy="3384720"/>
            </a:xfrm>
            <a:custGeom>
              <a:avLst/>
              <a:gdLst>
                <a:gd name="textAreaLeft" fmla="*/ 126360 w 2592360"/>
                <a:gd name="textAreaRight" fmla="*/ 2466000 w 2592360"/>
                <a:gd name="textAreaTop" fmla="*/ 126360 h 3384720"/>
                <a:gd name="textAreaBottom" fmla="*/ 3258360 h 3384720"/>
              </a:gdLst>
              <a:ahLst/>
              <a:rect l="textAreaLeft" t="textAreaTop" r="textAreaRight" b="textAreaBottom"/>
              <a:pathLst>
                <a:path w="21600" h="28201">
                  <a:moveTo>
                    <a:pt x="3600" y="0"/>
                  </a:moveTo>
                  <a:arcTo wR="3600" hR="3600" stAng="16200000" swAng="-5400000"/>
                  <a:lnTo>
                    <a:pt x="0" y="24601"/>
                  </a:lnTo>
                  <a:arcTo wR="3600" hR="3600" stAng="10800000" swAng="-5400000"/>
                  <a:lnTo>
                    <a:pt x="18000" y="282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Является следствие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определенного уровня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организации привлечения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и использования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широкого спектр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имеющихся ресурсов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и свидетельствуют об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эффективности системы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хозяйствования в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конкретных условиях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рыночной среды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9640" y="2852640"/>
              <a:ext cx="2592360" cy="3313080"/>
            </a:xfrm>
            <a:custGeom>
              <a:avLst/>
              <a:gdLst>
                <a:gd name="textAreaLeft" fmla="*/ 126360 w 2592360"/>
                <a:gd name="textAreaRight" fmla="*/ 2466000 w 2592360"/>
                <a:gd name="textAreaTop" fmla="*/ 126360 h 3313080"/>
                <a:gd name="textAreaBottom" fmla="*/ 3186720 h 3313080"/>
              </a:gdLst>
              <a:ahLst/>
              <a:rect l="textAreaLeft" t="textAreaTop" r="textAreaRight" b="textAreaBottom"/>
              <a:pathLst>
                <a:path w="21600" h="27604">
                  <a:moveTo>
                    <a:pt x="3600" y="0"/>
                  </a:moveTo>
                  <a:arcTo wR="3600" hR="3600" stAng="16200000" swAng="-5400000"/>
                  <a:lnTo>
                    <a:pt x="0" y="24004"/>
                  </a:lnTo>
                  <a:arcTo wR="3600" hR="3600" stAng="10800000" swAng="-5400000"/>
                  <a:lnTo>
                    <a:pt x="18000" y="276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Чистая прибыль как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основной конечный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финансовый результат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ятельности компани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выступает источнико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ее самофинансирования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а также создае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редпосылки для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реализации е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инвестиционных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возможностей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00720" y="2852640"/>
              <a:ext cx="2592360" cy="3384720"/>
            </a:xfrm>
            <a:custGeom>
              <a:avLst/>
              <a:gdLst>
                <a:gd name="textAreaLeft" fmla="*/ 126360 w 2592360"/>
                <a:gd name="textAreaRight" fmla="*/ 2466000 w 2592360"/>
                <a:gd name="textAreaTop" fmla="*/ 126360 h 3384720"/>
                <a:gd name="textAreaBottom" fmla="*/ 3258360 h 3384720"/>
              </a:gdLst>
              <a:ahLst/>
              <a:rect l="textAreaLeft" t="textAreaTop" r="textAreaRight" b="textAreaBottom"/>
              <a:pathLst>
                <a:path w="21600" h="28201">
                  <a:moveTo>
                    <a:pt x="3600" y="0"/>
                  </a:moveTo>
                  <a:arcTo wR="3600" hR="3600" stAng="16200000" swAng="-5400000"/>
                  <a:lnTo>
                    <a:pt x="0" y="24601"/>
                  </a:lnTo>
                  <a:arcTo wR="3600" hR="3600" stAng="10800000" swAng="-5400000"/>
                  <a:lnTo>
                    <a:pt x="18000" y="282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За счет прибыл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осуществляется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удовлетворения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интересов собственников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редприятия, что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непосредственно влияет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на формировани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его рыночных цен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47640" y="2492280"/>
              <a:ext cx="5032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2492280"/>
              <a:ext cx="5032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2492280"/>
              <a:ext cx="50292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59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Технико-экономическая характеристика 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4032360" cy="2509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30064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амика коэффициентов финансовой устойчивости ООО "Монолит" за 2018-2020 гг., тыс.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129200" cy="266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3280" y="530064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амика коэффициентов ликвидности ООО "Монолит" за 2018-2020 гг., тыс.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356840"/>
            <a:ext cx="807552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Анализ динамики финансовых результатов деятельности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4103640" cy="2460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53006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амика выручки от реализации ООО "Монолит" за 2018-2020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6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5445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амика показателей прибыли ООО "Монолит" за 2018-2020 гг., тыс.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611280" y="1484280"/>
            <a:ext cx="8075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Анализ рентабельности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7129440" cy="418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logweb.jpg"/>
          <p:cNvPicPr/>
          <p:nvPr/>
        </p:nvPicPr>
        <p:blipFill>
          <a:blip r:embed="rId1"/>
          <a:srcRect l="0" t="0" r="0" b="21468"/>
          <a:stretch/>
        </p:blipFill>
        <p:spPr>
          <a:xfrm>
            <a:off x="0" y="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11280" y="1484280"/>
            <a:ext cx="8075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Рекомендации по повышению прибыли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2060640"/>
          <a:ext cx="8280360" cy="4248000"/>
        </p:xfrm>
        <a:graphic>
          <a:graphicData uri="http://schemas.openxmlformats.org/drawingml/2006/table">
            <a:tbl>
              <a:tblPr/>
              <a:tblGrid>
                <a:gridCol w="2016000"/>
                <a:gridCol w="792360"/>
                <a:gridCol w="1008000"/>
                <a:gridCol w="1008000"/>
                <a:gridCol w="1152720"/>
                <a:gridCol w="1211040"/>
                <a:gridCol w="1092240"/>
              </a:tblGrid>
              <a:tr h="4237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 планового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ые группы производственной мощ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ьное ре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logweb.jpg"/>
          <p:cNvPicPr/>
          <p:nvPr/>
        </p:nvPicPr>
        <p:blipFill>
          <a:blip r:embed="rId1"/>
          <a:stretch/>
        </p:blipFill>
        <p:spPr>
          <a:xfrm>
            <a:off x="0" y="0"/>
            <a:ext cx="4067280" cy="1819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611280" y="1484280"/>
            <a:ext cx="8075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Оценка экономической эффективности от предложенных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192720" cy="41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logweb.jpg"/>
          <p:cNvPicPr/>
          <p:nvPr/>
        </p:nvPicPr>
        <p:blipFill>
          <a:blip r:embed="rId1"/>
          <a:stretch/>
        </p:blipFill>
        <p:spPr>
          <a:xfrm>
            <a:off x="0" y="0"/>
            <a:ext cx="4067280" cy="181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2928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214880" y="35712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Волгоградский Институт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26:26Z</dcterms:created>
  <dc:creator>DNA7 X86</dc:creator>
  <dc:description/>
  <dc:language>en-US</dc:language>
  <cp:lastModifiedBy>Пользователь Windows</cp:lastModifiedBy>
  <dcterms:modified xsi:type="dcterms:W3CDTF">2024-08-08T10:33:19Z</dcterms:modified>
  <cp:revision>112</cp:revision>
  <dc:subject/>
  <dc:title>Стратегическое планирование регионального развития в СССР</dc:title>
</cp:coreProperties>
</file>