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6CB-95EB-435E-9A89-B1DE8D8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BF3-892B-497E-904E-4149984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780-5F36-40B6-86FD-FB4D71E4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5DD-F10D-40E2-B4D9-3093F194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2D2-C962-4334-AA93-1591110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8D5-84B5-4B48-AE77-96E6D36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CD1-4D8E-4A97-B275-5594B8F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73D-CDC0-4932-B96E-3359EC6C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62B-4F70-41EF-BFE8-833BC5DD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5AF-5F21-4859-9929-779701D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781-89B2-42E2-BF0B-2D38B70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232-3120-4F8E-8B49-2F56788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A57-19F7-4D0B-8C55-558A977F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8192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96320" cy="86544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324000" y="2195640"/>
            <a:ext cx="8569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ПУСКНАЯ КВАЛИФИКАЦИОН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магистерская диссертация)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КОРРУПЦИОННАЯ ПОЛИТИКА В СОВРЕМЕННОЙ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р рабо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ководитель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оград, 20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9" descr="5656.jpg"/>
          <p:cNvPicPr/>
          <p:nvPr/>
        </p:nvPicPr>
        <p:blipFill>
          <a:blip r:embed="rId1"/>
          <a:stretch/>
        </p:blipFill>
        <p:spPr>
          <a:xfrm>
            <a:off x="108000" y="111240"/>
            <a:ext cx="8928000" cy="52624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190960" y="5226120"/>
            <a:ext cx="62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468360" y="1413000"/>
            <a:ext cx="8001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Calibri"/>
              </a:rPr>
              <a:t>Цель данной магистерской диссерта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стоит в определении истоков возникновения и эволюции правовых основ антикоррупционной политики в России, а также комплексном анализе её основных положений для обоснования направлений совершенствования организационно-правовых основ государственного управления в рамках реализации антикоррупционной политики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611280" y="3429000"/>
            <a:ext cx="8145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и исследования:</a:t>
            </a:r>
            <a:br>
              <a:rPr sz="1800"/>
            </a:br>
            <a:br>
              <a:rPr sz="1200"/>
            </a:br>
            <a:r>
              <a:rPr b="1" lang="ru-RU" sz="13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пределить понятие, сущность и основные виды правовой политики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определить понятие и сущность коррупции как противоправного явления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выявить предпосылки возникновения и основные этапы формирования антикоррупционной политики в РФ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определить правовые основы отечественной антикоррупционной политики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выделить и кратко охарактеризовать основные принципы и приоритеты антикоррупционной политики РФ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проанализировать обеспечение прав человека в системе противодействия коррупции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рассмотреть возможность усовершенствования организационно-правовых основ государственного управления в рамках реализации государственной антикоррупционной политики;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определить перспективы реформирования практической деятельности органов государственного управления в контексте реализации отечественной антикоррупционной полити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755640" y="1557360"/>
            <a:ext cx="7632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Calibri"/>
              </a:rPr>
              <a:t>Объектом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Calibri"/>
              </a:rPr>
              <a:t>исследования в магистерской диссерт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ступают общественные отношения, возникающие между государством и обществом в РФ при реализации антикоррупционной политик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Calibri"/>
              </a:rPr>
              <a:t>Предмето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Calibri"/>
              </a:rPr>
              <a:t> исследования явля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доктринальные положения и нормативно-правовые акты по вопросам антикоррупционной политики 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3"/>
          <p:cNvSpPr/>
          <p:nvPr/>
        </p:nvSpPr>
        <p:spPr>
          <a:xfrm>
            <a:off x="1187280" y="1557360"/>
            <a:ext cx="7472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пробация результатов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276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исследования докладывались автором на международной научно-практической конференции и межвузовском научном семинаре магистрантов в 2018 и 2019 гг. и отражены в опубликованных рабо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лаксенко В.Ю. Антикоррупционная политика в современной России. – В сб. «Организационно-правовые основы публичной власти в РФ: материалы межвузовского научного семинара магистрантов (2018; Волгоград). – Волгоград: Изд-во Волгоградского института управления – филиал ФГБОУ ВО РАНХиГС, 20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лаксенко В.Ю. Юридическая процедура как способ противодействия коррупции. – В сб. «Юридические процедуры»: материалы международной научно-практической конференции (2019; Волгоград). – Волгоград: Изд-во Волгоградского института управления – филиал ФГБОУ ВО РАНХиГС, 2020 (в печа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2"/>
          <p:cNvSpPr/>
          <p:nvPr/>
        </p:nvSpPr>
        <p:spPr>
          <a:xfrm>
            <a:off x="1042920" y="1484280"/>
            <a:ext cx="712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ожения, выносимые на защи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133720"/>
            <a:ext cx="77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ая новизна получен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ключается в комплексном историко-теоретическом подходе к исследованию темы, анализе актуального нормативного материала и введении в научный оборот новейших данных судебной практики за 2020 г. Основные положения диссертации, выносимые на защи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сновными предпосылками коррупции выступают экономические, политические, социально-культурные и нравственные условия жизни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редложено авторское определение коррупции как деятельности лиц, уполномоченных на выполнение функций государства, направленной на противоправное использование предоставленных им полномочий для получения материальных благ, услуг, льгот или каких-либо иных преиму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2"/>
          <p:cNvSpPr/>
          <p:nvPr/>
        </p:nvSpPr>
        <p:spPr>
          <a:xfrm>
            <a:off x="1042920" y="1484280"/>
            <a:ext cx="712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ожения, выносимые на защи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4360" y="2492280"/>
            <a:ext cx="7848360" cy="3940200"/>
            <a:chOff x="684360" y="2492280"/>
            <a:chExt cx="7848360" cy="3940200"/>
          </a:xfrm>
        </p:grpSpPr>
        <p:sp>
          <p:nvSpPr>
            <p:cNvPr id="58" name=""/>
            <p:cNvSpPr/>
            <p:nvPr/>
          </p:nvSpPr>
          <p:spPr>
            <a:xfrm>
              <a:off x="1835280" y="2492280"/>
              <a:ext cx="586008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ИЗНАКИ КОРРУП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4360" y="3003480"/>
              <a:ext cx="219744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стемность и многонаправленность как социального, правового, политического, экономического и нравственного (морального) я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04880" y="3003480"/>
              <a:ext cx="177876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ррупция есть элемент или разновидность организованной преступ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07440" y="3003480"/>
              <a:ext cx="2825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фическое поведение должностного лица, связанное со злоупотреблением властью с личной корыстной целью получения определенных благ в виде вознаграждения как имущественного, так и не имущественного характе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4360" y="4146480"/>
              <a:ext cx="219744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существление коррупционных действий в интересах третьих лиц за вознаграждение как имущественного, так и неимущественного характе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04880" y="4146480"/>
              <a:ext cx="177876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ходе коррупции происходит поражение органов государственной власти и их должностных ли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07440" y="4146480"/>
              <a:ext cx="282528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ход коррупции за рамки уголовных деликтов, как правонарушения, в котором в действиях нарушителя отсутствует состав преступления, что влечет наступление административной, дисциплинарной и гражданской ответствен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4360" y="5289480"/>
              <a:ext cx="21974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рыв авторитета и престижа органов государственной власти и государства в целом, что вызывает негативное отношение общества к переменам в целом и принятых ими решен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04880" y="5289480"/>
              <a:ext cx="17787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конспирированный (скрытый) характер коррупционной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07440" y="5403600"/>
              <a:ext cx="2825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 или воздержания от выполнения определенных действий должностным лицом по договоренности или согласию сторо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0960" y="277488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93160" y="277488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93160" y="59752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93160" y="471780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3160" y="34606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81800" y="346068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81800" y="460368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81800" y="597528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90960" y="5632200"/>
              <a:ext cx="3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90960" y="4832280"/>
              <a:ext cx="3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90960" y="3574800"/>
              <a:ext cx="3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11280" y="2060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оррупцию как явление характеризуют следующие призн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2"/>
          <p:cNvSpPr/>
          <p:nvPr/>
        </p:nvSpPr>
        <p:spPr>
          <a:xfrm>
            <a:off x="1042920" y="1484280"/>
            <a:ext cx="712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ожения, выносимые на защи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2133720"/>
            <a:ext cx="777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едложена авторская периодизация основных этапов развития отечественной антикоррупционной политики: 1) возникновение антикоррупционной политики в Древней Руси (XIII– XVIII вв.); 2) формирование антикоррупционной политики в период существования Российской империи (XVIII в. – 1917 г.); 3) формирование антикоррупционной политики в советский период (1917 – 1990 гг.); 4) становление государственной политики в сфере предотвращения и противодействия коррупции (1992-2007 годы); 5) пересмотр основных принципов государственной политики в сфере предотвращения и противодействия коррупции и формирование новейшей государственной антикоррупционной политики (2008 г. – настоящее врем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Установлены восемь групп источников, определяющих правовые основы реализации в РФ антикорруционной политики, обоснована целесообразность построения отечественной системы оценки работы специализированных антикоррупционных органов на критериях, заложенных Конвенцией ООН и Совета Европы по борьбе против корруп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28760" y="21744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2"/>
          <p:cNvSpPr/>
          <p:nvPr/>
        </p:nvSpPr>
        <p:spPr>
          <a:xfrm>
            <a:off x="1042920" y="1484280"/>
            <a:ext cx="712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ожения, выносимые на защи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133720"/>
            <a:ext cx="777708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 Основными направлениями модернизации системы управления РФ, необходимыми в плане борьбы с коррупцией, являются: формирование правовой культуры населения, учет международного опыта в вопросах коррупции, закрепление антикоррупионных принципов в специализированном федеральном и региональном законодательстве, а также их должная реализация уполномоченными органами государственной власти и местного самоуправления, разработка антикоррупционных стандартов поведения государственных и муниципальных служа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 Обоснована необходимость внести изменения в ФЗ "О противодействии коррупции", дополнив его ст. 1 следующими понятиями: "антикоррупционная государственная политика", "меры по противодействию коррупции", "система противодействия коррупции", "комплекс федеральных (региональных) антикоррупционных мероприятий"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 Аргументирован тот факт, что имеющаяся в современной России модель антикоррупционной политики является чрезвычайно закрытой, сохраняет атрибуты начальной концепции противодействия коррупции, построенной на основе функционирования устаревших управленческих механизм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81920" cy="1123920"/>
          </a:xfrm>
          <a:prstGeom prst="rect">
            <a:avLst/>
          </a:prstGeom>
          <a:ln w="0">
            <a:noFill/>
          </a:ln>
        </p:spPr>
      </p:pic>
      <p:sp>
        <p:nvSpPr>
          <p:cNvPr id="87" name="Объект 1"/>
          <p:cNvSpPr/>
          <p:nvPr/>
        </p:nvSpPr>
        <p:spPr>
          <a:xfrm>
            <a:off x="611280" y="1413000"/>
            <a:ext cx="80262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ВОДЫ  И ПРЕДЛОЖЕНИЯ ПО ИТОГАМ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73360"/>
            <a:ext cx="7561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 современных условиях противодействие коррупции требует системного подхода и применения комплекса научно обоснованных мероприятий. Эффективность предотвращения и противодействия коррупции достигается как посредством принятия мер, направленных на криминогенные факторы и устранение благоприятных для коррупции условий, так и путем непосредственного выявления фактов коррупции с привлечением виновных к юридической ответстве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вершенствование антикорруционной политики РФ на современном этапе требует проведения комплекса мер, направленных на реформирование организационных основ и нормативно-правовой базы деятельности органов государственной власти. В частности, необходимо закрепление антикоррупионных принципов в специализированном федеральном и региональном законодательстве, а также их должная реализация уполномоченными органами государственной власти и местного самоуправления. Федеральный закон РФ "О противодействии коррупции", необходимо дополнить понятиями: "антикоррупционная государственная политика", "меры по противодействию коррупции", "система противодействия коррупции", "комплекс федеральных (региональных) антикоррупционных мероприяти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ажно выработать и принять в ближайшее время антикоррупционные стандарты деятельности государственных служащих в конкретном органе исполнительной власти Российской Федерации, либо иной потенциально коррупционно опасной 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озволит сделать антикоррупционную политику в России более результативной, государственное управление – более эффективным, а доверие населения к власти – соответствующим уровню правов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7T06:02:44Z</dcterms:created>
  <dc:creator>Пользователь Windows</dc:creator>
  <dc:description/>
  <dc:language>en-US</dc:language>
  <cp:lastModifiedBy>Пользователь Windows</cp:lastModifiedBy>
  <dcterms:modified xsi:type="dcterms:W3CDTF">2024-08-07T18:00:34Z</dcterms:modified>
  <cp:revision>3</cp:revision>
  <dc:subject/>
  <dc:title>Слайд 1</dc:title>
</cp:coreProperties>
</file>