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913B-65BB-4573-9DAA-D8F99A1DB0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FB25-C08E-4319-90C3-86DB470ED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05C1-DA0A-49A0-8FA1-C68949823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0566-4B50-4FF5-B3A4-065D366C69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460-0F3E-4265-80F4-5348EDB3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092-004B-46EF-AF47-4A918AC3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9DD-261D-4E54-87B3-23BAA62E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A7F-CD2A-4CA3-872E-4ED7758F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381-2B97-4ED0-A88E-B575CAF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02B-8ECC-45BD-A9A0-D321B95C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06C-2DAD-4FBF-AB45-A1D756D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EBE-1B41-499B-ADA4-BE4EC506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9D9-62D1-43C4-B287-E58AB891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086-E466-4E39-8035-E4142FD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CFF-839F-4AFB-A815-44129CE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C83-43F6-41E5-AEF0-6A782F2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1DC-69C0-46A6-A6FC-85E8B2939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798984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Формирование ценовой политики предприятия на основе издержкоемкости товаров (на примере ООО "Леви Штраусс Москва"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30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logweb.jpg"/>
          <p:cNvPicPr/>
          <p:nvPr/>
        </p:nvPicPr>
        <p:blipFill>
          <a:blip r:embed="rId1"/>
          <a:srcRect l="0" t="0" r="0" b="17550"/>
          <a:stretch/>
        </p:blipFill>
        <p:spPr>
          <a:xfrm>
            <a:off x="0" y="0"/>
            <a:ext cx="4067280" cy="150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539640" y="1484280"/>
            <a:ext cx="8147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ОБЩАЯ СХЕМА ФОРМИРОВАНИЯ ЦЕНОВОЙ ПОЛИТИКИ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ООО "ЛЕВИ ШТРАУСС МОСКВА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1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2133720"/>
            <a:ext cx="8497800" cy="4174560"/>
            <a:chOff x="395280" y="2133720"/>
            <a:chExt cx="8497800" cy="4174560"/>
          </a:xfrm>
        </p:grpSpPr>
        <p:sp>
          <p:nvSpPr>
            <p:cNvPr id="162" name=""/>
            <p:cNvSpPr/>
            <p:nvPr/>
          </p:nvSpPr>
          <p:spPr>
            <a:xfrm>
              <a:off x="610200" y="2880720"/>
              <a:ext cx="7676280" cy="21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Arial"/>
                </a:rPr>
                <a:t>Этап 3. Обработка информации – анализ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64040" y="3152520"/>
              <a:ext cx="33685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нутренних фактор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120" y="3152520"/>
              <a:ext cx="316980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нешних факторов прямого действи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50720" y="2773800"/>
              <a:ext cx="7971120" cy="678240"/>
              <a:chOff x="450720" y="2773800"/>
              <a:chExt cx="7971120" cy="678240"/>
            </a:xfrm>
          </p:grpSpPr>
          <p:sp>
            <p:nvSpPr>
              <p:cNvPr id="166" name=""/>
              <p:cNvSpPr/>
              <p:nvPr/>
            </p:nvSpPr>
            <p:spPr>
              <a:xfrm>
                <a:off x="450720" y="2782800"/>
                <a:ext cx="797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0720" y="3442680"/>
                <a:ext cx="797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0720" y="2782800"/>
                <a:ext cx="0" cy="65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08160" y="2773800"/>
                <a:ext cx="0" cy="67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97800" y="2454840"/>
              <a:ext cx="796428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Arial"/>
                </a:rPr>
                <a:t>Этап 2. Формирование информационной системы для разработки ценовой политики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280" y="2133720"/>
              <a:ext cx="8001360" cy="214200"/>
            </a:xfrm>
            <a:prstGeom prst="rect">
              <a:avLst/>
            </a:prstGeom>
            <a:solidFill>
              <a:srgbClr val="ffffff">
                <a:alpha val="99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Arial"/>
                </a:rPr>
                <a:t>Этап 1. Определение миссии и системы целей предприятия розничной торговли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79760" y="2347920"/>
              <a:ext cx="381960" cy="106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0720" y="3547440"/>
              <a:ext cx="7829640" cy="38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Arial"/>
                </a:rPr>
                <a:t>Этап 4. Определение предельного уровня цены реализации по ассортиментным группам товаров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247400" y="4546440"/>
              <a:ext cx="2984760" cy="428760"/>
              <a:chOff x="1247400" y="4546440"/>
              <a:chExt cx="2984760" cy="428760"/>
            </a:xfrm>
          </p:grpSpPr>
          <p:sp>
            <p:nvSpPr>
              <p:cNvPr id="175" name=""/>
              <p:cNvSpPr/>
              <p:nvPr/>
            </p:nvSpPr>
            <p:spPr>
              <a:xfrm>
                <a:off x="1247400" y="4755240"/>
                <a:ext cx="29847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методов ценообразования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47400" y="4546440"/>
                <a:ext cx="29847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целей ценовой политики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999520" y="5082480"/>
              <a:ext cx="329004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опустимые ценовые политик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07440" y="4546440"/>
              <a:ext cx="1606680" cy="41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граничение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264560" y="4676400"/>
              <a:ext cx="14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264560" y="4858920"/>
              <a:ext cx="14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50720" y="4011840"/>
              <a:ext cx="7964280" cy="1344600"/>
              <a:chOff x="450720" y="4011840"/>
              <a:chExt cx="7964280" cy="1344600"/>
            </a:xfrm>
          </p:grpSpPr>
          <p:sp>
            <p:nvSpPr>
              <p:cNvPr id="182" name=""/>
              <p:cNvSpPr/>
              <p:nvPr/>
            </p:nvSpPr>
            <p:spPr>
              <a:xfrm>
                <a:off x="450720" y="4011840"/>
                <a:ext cx="7964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0720" y="5356440"/>
                <a:ext cx="7951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0720" y="4011840"/>
                <a:ext cx="0" cy="134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415000" y="4011840"/>
                <a:ext cx="0" cy="125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69680" y="4546440"/>
              <a:ext cx="477360" cy="403560"/>
              <a:chOff x="769680" y="4546440"/>
              <a:chExt cx="477360" cy="403560"/>
            </a:xfrm>
          </p:grpSpPr>
          <p:sp>
            <p:nvSpPr>
              <p:cNvPr id="187" name=""/>
              <p:cNvSpPr/>
              <p:nvPr/>
            </p:nvSpPr>
            <p:spPr>
              <a:xfrm>
                <a:off x="866160" y="4734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66160" y="4935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9680" y="4546440"/>
                <a:ext cx="0" cy="40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795840" y="4975560"/>
              <a:ext cx="88452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0720" y="5451840"/>
              <a:ext cx="7964280" cy="21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Этап 6. Оценка риск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0720" y="5773320"/>
              <a:ext cx="7964280" cy="21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Этап 7. Формирование ценовой политики предприятия розничной торговл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415360" y="6201720"/>
              <a:ext cx="44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20440" y="4975560"/>
              <a:ext cx="103140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0720" y="6094080"/>
              <a:ext cx="7964280" cy="2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ниторинг реализации ценовой политики предприятия розничной торговл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0200" y="4118760"/>
              <a:ext cx="7670160" cy="40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Этап 5. Формирование ценовых политик в отношении ассортиментных групп в условиях различных уровней торговой наценки на основе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893080" y="2214000"/>
              <a:ext cx="0" cy="39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255520" y="3737880"/>
              <a:ext cx="6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69320" y="2690280"/>
              <a:ext cx="381960" cy="106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33040" y="3440520"/>
              <a:ext cx="381960" cy="106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33040" y="3928320"/>
              <a:ext cx="381960" cy="10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33040" y="5344920"/>
              <a:ext cx="381960" cy="106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33040" y="5666400"/>
              <a:ext cx="381960" cy="106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521560" y="224064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Заголовок 1"/>
          <p:cNvSpPr/>
          <p:nvPr/>
        </p:nvSpPr>
        <p:spPr>
          <a:xfrm>
            <a:off x="539640" y="1484280"/>
            <a:ext cx="8147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АЛГОРИТМ ОЦЕНКИ ЭФФЕКТИВНОСТИ ЦЕНОВОЙ ПОЛИТИКИ ТОРГОВОГО ПРЕДПРИЯТИЯ ПО КРИТЕРИЮ МИНИМИЗАЦИИ РИСКА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1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55280" y="2133720"/>
            <a:ext cx="7920000" cy="4390560"/>
            <a:chOff x="755280" y="2133720"/>
            <a:chExt cx="7920000" cy="4390560"/>
          </a:xfrm>
        </p:grpSpPr>
        <p:sp>
          <p:nvSpPr>
            <p:cNvPr id="210" name=""/>
            <p:cNvSpPr/>
            <p:nvPr/>
          </p:nvSpPr>
          <p:spPr>
            <a:xfrm>
              <a:off x="1502640" y="3684960"/>
              <a:ext cx="6426000" cy="333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Оценка вероятности потерь (недостижения цели) по ценовой политике в разрезе ассортиментных групп (как по видам риска, так и в целом)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55280" y="2133720"/>
              <a:ext cx="7920000" cy="4390560"/>
              <a:chOff x="755280" y="2133720"/>
              <a:chExt cx="7920000" cy="4390560"/>
            </a:xfrm>
          </p:grpSpPr>
          <p:sp>
            <p:nvSpPr>
              <p:cNvPr id="212" name=""/>
              <p:cNvSpPr/>
              <p:nvPr/>
            </p:nvSpPr>
            <p:spPr>
              <a:xfrm>
                <a:off x="1652040" y="4854240"/>
                <a:ext cx="6425640" cy="250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Выбор варианта ценовой политики в разрезе ассортиментных групп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50840" y="3434760"/>
                <a:ext cx="5280120" cy="1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2 блок – оценка риска (расчет)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755280" y="3517920"/>
                <a:ext cx="7764120" cy="584640"/>
                <a:chOff x="755280" y="3517920"/>
                <a:chExt cx="7764120" cy="584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55640" y="4102560"/>
                  <a:ext cx="776376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755280" y="3517920"/>
                  <a:ext cx="124164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277400" y="3517920"/>
                  <a:ext cx="124164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519400" y="3517920"/>
                  <a:ext cx="0" cy="58464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55640" y="3517920"/>
                  <a:ext cx="0" cy="58464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55280" y="2133720"/>
                <a:ext cx="7920000" cy="4390560"/>
                <a:chOff x="755280" y="2133720"/>
                <a:chExt cx="7920000" cy="4390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249640" y="5104800"/>
                  <a:ext cx="4814280" cy="9871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Уровень эффективности ценовой политики по критериям минимизации риска – приемлемый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031880" y="5271840"/>
                  <a:ext cx="776160" cy="303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353240" y="5271840"/>
                  <a:ext cx="776160" cy="303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52040" y="4186080"/>
                  <a:ext cx="6366600" cy="25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 блок – отбор (ранжирование альтернативных решений)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904680" y="4269600"/>
                  <a:ext cx="77616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48160" y="4269600"/>
                  <a:ext cx="62064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669160" y="4269600"/>
                  <a:ext cx="0" cy="18705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904680" y="6140520"/>
                  <a:ext cx="7764120" cy="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779240" y="5605920"/>
                  <a:ext cx="0" cy="66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1203840" y="4937400"/>
                  <a:ext cx="0" cy="66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03840" y="4937760"/>
                  <a:ext cx="4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755280" y="2133720"/>
                  <a:ext cx="7920000" cy="4390560"/>
                  <a:chOff x="755280" y="2133720"/>
                  <a:chExt cx="7920000" cy="4390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904680" y="6274080"/>
                    <a:ext cx="7770600" cy="25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990000"/>
                        </a:solidFill>
                        <a:latin typeface="Arial"/>
                      </a:rPr>
                      <a:t>Этап 7. Формирование ценовой политики предприятия (выбор окончательной ценовой политики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249640" y="4520160"/>
                    <a:ext cx="4969440" cy="227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Установление допустимого уровня риска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904680" y="4269600"/>
                    <a:ext cx="0" cy="1870560"/>
                  </a:xfrm>
                  <a:prstGeom prst="line">
                    <a:avLst/>
                  </a:prstGeom>
                  <a:ln cap="rnd" w="28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531800" y="2133720"/>
                    <a:ext cx="6366600" cy="21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990000"/>
                        </a:solidFill>
                        <a:latin typeface="Arial"/>
                      </a:rPr>
                      <a:t>Этап 6. Оценка риск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01440" y="2682720"/>
                    <a:ext cx="5590440" cy="166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Классификация возможных видов риска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50840" y="2432520"/>
                    <a:ext cx="5280120" cy="166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блок-интерпретация риска (обнаружение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55280" y="2575080"/>
                    <a:ext cx="7764120" cy="775440"/>
                    <a:chOff x="755280" y="2575080"/>
                    <a:chExt cx="7764120" cy="77544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flipH="1">
                      <a:off x="755280" y="2575080"/>
                      <a:ext cx="1241640" cy="0"/>
                    </a:xfrm>
                    <a:prstGeom prst="line">
                      <a:avLst/>
                    </a:prstGeom>
                    <a:ln cap="rnd" w="2844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277400" y="2575080"/>
                      <a:ext cx="1241640" cy="0"/>
                    </a:xfrm>
                    <a:prstGeom prst="line">
                      <a:avLst/>
                    </a:prstGeom>
                    <a:ln cap="rnd" w="2844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519400" y="2575080"/>
                      <a:ext cx="0" cy="775440"/>
                    </a:xfrm>
                    <a:prstGeom prst="line">
                      <a:avLst/>
                    </a:prstGeom>
                    <a:ln cap="rnd" w="2844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55640" y="2575080"/>
                      <a:ext cx="0" cy="775440"/>
                    </a:xfrm>
                    <a:prstGeom prst="line">
                      <a:avLst/>
                    </a:prstGeom>
                    <a:ln cap="rnd" w="2844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755640" y="3350520"/>
                      <a:ext cx="7763760" cy="0"/>
                    </a:xfrm>
                    <a:prstGeom prst="line">
                      <a:avLst/>
                    </a:prstGeom>
                    <a:ln cap="rnd" w="2844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755640" y="2933280"/>
                    <a:ext cx="7805160" cy="751680"/>
                    <a:chOff x="755640" y="2933280"/>
                    <a:chExt cx="7805160" cy="75168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907920" y="2933280"/>
                      <a:ext cx="3459240" cy="3340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, связанный с внешним микросредой прямого действ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564440" y="2933280"/>
                      <a:ext cx="3808800" cy="3340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, связанный с внутренней средой предприятия торгов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H="1">
                      <a:off x="755640" y="3100320"/>
                      <a:ext cx="169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8373240" y="310032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755640" y="3100320"/>
                      <a:ext cx="609120" cy="58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7916040" y="3100320"/>
                      <a:ext cx="644760" cy="58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 flipH="1">
                    <a:off x="3594600" y="2849760"/>
                    <a:ext cx="896400" cy="8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40760" y="2849760"/>
                    <a:ext cx="747000" cy="8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flipH="1">
                  <a:off x="1203480" y="5605920"/>
                  <a:ext cx="104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031880" y="5605920"/>
                  <a:ext cx="74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539640" y="1484280"/>
            <a:ext cx="814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1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1187280" y="2133720"/>
            <a:ext cx="67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выпускной квалификационной работе приведено теоретическое обобщение принципов, критериев и подходов по формированию ценовой политики предприятия на основе издержкоемкости товаров, а также разработаны рекомендации по методическому обеспечению данного процесса на предприятии розничной торговли. Это позволяет повысить обоснованность управленческих решений по формированию ценовой политики ООО "Леви Штраусс Москва" и способствует укреплению его конкурентного положения на потребительском рынке. В процессе исследования решены все поставленные задачи и достигнуты поставленные ц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4" descr="logweb.jpg"/>
          <p:cNvPicPr/>
          <p:nvPr/>
        </p:nvPicPr>
        <p:blipFill>
          <a:blip r:embed="rId1"/>
          <a:stretch/>
        </p:blipFill>
        <p:spPr>
          <a:xfrm>
            <a:off x="0" y="0"/>
            <a:ext cx="4067280" cy="1819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2928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258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ЦЕЛЬ И ЗАДАЧИ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3892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11280" y="2349360"/>
            <a:ext cx="8064360" cy="3657600"/>
            <a:chOff x="611280" y="2349360"/>
            <a:chExt cx="8064360" cy="3657600"/>
          </a:xfrm>
        </p:grpSpPr>
        <p:sp>
          <p:nvSpPr>
            <p:cNvPr id="57" name=""/>
            <p:cNvSpPr/>
            <p:nvPr/>
          </p:nvSpPr>
          <p:spPr>
            <a:xfrm>
              <a:off x="611280" y="2349360"/>
              <a:ext cx="8064360" cy="79956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ЦЕЛЬ ИССЛЕДОВАНИЯ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- совершенствование методических подходов по формированию ценовой политики на основе учета издержкоемкости товаров для корректировки уровня цен с целью достижения рентабельности продаж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25040" y="3148920"/>
              <a:ext cx="636480" cy="34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1280" y="3492720"/>
              <a:ext cx="8064360" cy="1600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определить понятие и роль цены и ценовой политики в деятельности предприятия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исследовать подходы к этапам ценообразования и их содержанию;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осуществить анализ и оценку действующих методик расчета издержкоемкости товарных групп, выявив их достоинства и недостатки;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предложить направления для совершенствования методических подходов к формированию ценовой политики предприятия на основе учета потоварной издержкоемкости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представить организационно-экономическую характеристику деятельности предприятия, оценить его внешнюю и внутреннюю среду;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проанализировать ценовую политику, систему ценообразования и динамику цен по товарным группам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осуществить общий и факторный анализ и провести оценку формирования издержек обращения на предприятии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800000"/>
                  </a:solidFill>
                  <a:latin typeface="Calibri"/>
                </a:rPr>
                <a:t>- </a:t>
              </a:r>
              <a:r>
                <a:rPr b="0" lang="ru-RU" sz="10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обосновать цены и формирование ценовой политики с учетом издержкоемкости товарных групп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5321160"/>
              <a:ext cx="3183120" cy="6858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Объект исследован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– процесс формирования ценовой политики ООО "Леви Штраусс Москва"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3640" y="5315400"/>
              <a:ext cx="4026600" cy="69156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Предмет исследован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– теоретическое и методическое обеспечение механизма разработки ценовой политики предприятия розничной торговл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94400" y="5549760"/>
              <a:ext cx="849240" cy="227880"/>
            </a:xfrm>
            <a:prstGeom prst="leftRightArrow">
              <a:avLst>
                <a:gd name="adj1" fmla="val 50000"/>
                <a:gd name="adj2" fmla="val 74189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800" y="4998240"/>
            <a:ext cx="180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57168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МЕТОДИЧЕСКИЕ ПОДХОДЫ К ФОРМИРОВАНИЮ ЦЕНОВОЙ ПОЛИТИКИ ПРЕДПРИЯТИЯ НА ОСНОВЕ УЧЕТА ПОТОВАРНОЙ ИЗДЕРЖКОЕМК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4360" y="3068640"/>
            <a:ext cx="7990920" cy="2743200"/>
            <a:chOff x="684360" y="3068640"/>
            <a:chExt cx="7990920" cy="2743200"/>
          </a:xfrm>
        </p:grpSpPr>
        <p:sp>
          <p:nvSpPr>
            <p:cNvPr id="69" name=""/>
            <p:cNvSpPr/>
            <p:nvPr/>
          </p:nvSpPr>
          <p:spPr>
            <a:xfrm>
              <a:off x="3348000" y="3640320"/>
              <a:ext cx="2507400" cy="148572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МЕТОДЫ РАСЧЕТА ИЗДЕРЖКОЕМКОСТИ ТОВАРНЫХ ГРУПП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360" y="3068640"/>
              <a:ext cx="2193120" cy="10285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Метод коэффициент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4360" y="4554360"/>
              <a:ext cx="2193120" cy="12466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Метод математического моделирован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68240" y="3068640"/>
              <a:ext cx="2507040" cy="10278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Метод прямого расчет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68240" y="4325400"/>
              <a:ext cx="2505960" cy="14864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Calibri"/>
                  <a:ea typeface="Times New Roman"/>
                </a:rPr>
                <a:t>Расчет издержкоемкости на основе пропорциональности структуры продаж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2877480" y="3754440"/>
              <a:ext cx="470160" cy="11376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855400" y="3754440"/>
              <a:ext cx="312840" cy="11376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877480" y="4897080"/>
              <a:ext cx="470160" cy="11448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55400" y="4897080"/>
              <a:ext cx="312840" cy="11448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0" y="4614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59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ОРГАНИЗАЦИОННО-ЭКОНОМИЧЕСКАЯ ХАРАКТЕРИСТИКА ПРЕДПРИ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373720"/>
            <a:ext cx="4249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инамика розничного товарооборота и себестоимости продаж ООО "Леви Штраусс Москва" за 2018-2020 гг., тыс. руб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300640"/>
            <a:ext cx="417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инамика издержек обращения ООО "Леви Штраусс Москва" за 2018-2020 гг., тыс. руб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2637000"/>
          <a:ext cx="417672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37000"/>
                    <a:ext cx="4176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24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0" y="2997360"/>
          <a:ext cx="420696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997360"/>
                    <a:ext cx="42069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356840"/>
            <a:ext cx="807552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alibri"/>
              </a:rPr>
              <a:t>АНАЛИЗ И ОЦЕНКА СИСТЕМЫ ЦЕНООБРАЗОВАНИЯ НА ПРЕДПРИЯТИИ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50920" y="2349360"/>
          <a:ext cx="5473800" cy="33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349360"/>
                    <a:ext cx="5473800" cy="33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476360" y="5805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е о закупочных и продажных ценах ООО "Леви Штраусс Москва" по товарным группа за 201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356840"/>
            <a:ext cx="807552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АНАЛИЗ И ОЦЕНКА СИСТЕМЫ ЦЕНООБРАЗОВАНИЯ НА ПРЕДПРИЯТИИ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805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е о закупочных и продажных ценах ООО "Леви Штраусс Москва" по товарным группа за 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35280" y="2276640"/>
          <a:ext cx="5616360" cy="34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276640"/>
                    <a:ext cx="561636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356840"/>
            <a:ext cx="807552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АНАЛИЗ И ОЦЕНКА СИСТЕМЫ ЦЕНООБРАЗОВАНИЯ НА ПРЕДПРИЯТИИ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5805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е о закупочных и продажных ценах ООО "Леви Штраусс Москва" по товарным группа за 202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92360" y="2349360"/>
          <a:ext cx="5618160" cy="34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349360"/>
                    <a:ext cx="5618160" cy="34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539640" y="1484280"/>
            <a:ext cx="814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ЭЛАСТИЧНОСТЬ СПРОСА ПО ЦЕНЕ ДЛЯ ТОВАРНЫХ ГРУПП РЕАЛИЗУЕМЫХ В ООО "ЛЕВИ ШТРАУСС МОСКВА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1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2492280"/>
          <a:ext cx="7848360" cy="327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92280"/>
                    <a:ext cx="784836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684360" y="1484280"/>
            <a:ext cx="8002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КОМПЛЕКСНАЯ СИСТЕМА ОЦЕНКИ ЭФФЕКТИВНОСТИ ЦЕНОВОЙ ПОЛИТИКИ ПРЕДПРИЯТИЙ РОЗНИЧНОЙ ТОРГОВ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71640" y="2421000"/>
            <a:ext cx="7632360" cy="3384000"/>
            <a:chOff x="971640" y="2421000"/>
            <a:chExt cx="7632360" cy="3384000"/>
          </a:xfrm>
        </p:grpSpPr>
        <p:sp>
          <p:nvSpPr>
            <p:cNvPr id="130" name=""/>
            <p:cNvSpPr/>
            <p:nvPr/>
          </p:nvSpPr>
          <p:spPr>
            <a:xfrm>
              <a:off x="1254240" y="5435280"/>
              <a:ext cx="7066800" cy="36972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казатели эффективности ценовой политики предприятия розничной торговл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971640" y="3023640"/>
              <a:ext cx="7632360" cy="2290680"/>
              <a:chOff x="971640" y="3023640"/>
              <a:chExt cx="7632360" cy="229068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971640" y="3056760"/>
                <a:ext cx="2261520" cy="2257200"/>
                <a:chOff x="971640" y="3056760"/>
                <a:chExt cx="2261520" cy="2257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254240" y="3056760"/>
                  <a:ext cx="1554840" cy="448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00000"/>
                      </a:solidFill>
                      <a:latin typeface="Arial"/>
                    </a:rPr>
                    <a:t>Покрыт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971640" y="3625920"/>
                  <a:ext cx="2261520" cy="168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1. Коэффициент покрытия затра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2. Коэффициент издержкоемкости розничной цен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3. Коэффициент покрытия издержек обращения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4. Коэффициент издержкоемкости торговой наценки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19440" y="3505680"/>
                  <a:ext cx="424080" cy="120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c0c0c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908040" y="3023640"/>
                <a:ext cx="1695960" cy="2290680"/>
                <a:chOff x="6908040" y="3023640"/>
                <a:chExt cx="1695960" cy="22906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908040" y="3023640"/>
                  <a:ext cx="1554480" cy="482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00000"/>
                      </a:solidFill>
                      <a:latin typeface="Arial"/>
                    </a:rPr>
                    <a:t>Конкурентоспособно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908040" y="3626280"/>
                  <a:ext cx="1695960" cy="168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1. Индекс товарооборота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2. Коэффициент преимущества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3. Коэффициент соотношения средних розничных цен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473240" y="3505680"/>
                  <a:ext cx="423720" cy="120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c0c0c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070600" y="3023640"/>
                <a:ext cx="1837080" cy="2290680"/>
                <a:chOff x="5070600" y="3023640"/>
                <a:chExt cx="1837080" cy="2290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211720" y="3023640"/>
                  <a:ext cx="1554480" cy="482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00000"/>
                      </a:solidFill>
                      <a:latin typeface="Arial"/>
                    </a:rPr>
                    <a:t>Доходно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70600" y="3626280"/>
                  <a:ext cx="1837080" cy="168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1. Рентабельность товарооборота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2. Рентабельность оборотного капитала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3. Уровень торговой наценки в товарообороте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776920" y="3505680"/>
                  <a:ext cx="423720" cy="120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c0c0c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33160" y="3023640"/>
                <a:ext cx="1837440" cy="2290680"/>
                <a:chOff x="3233160" y="3023640"/>
                <a:chExt cx="1837440" cy="22906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374280" y="3023640"/>
                  <a:ext cx="1554840" cy="482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00000"/>
                      </a:solidFill>
                      <a:latin typeface="Arial"/>
                    </a:rPr>
                    <a:t>Стабильная достаточно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233160" y="3626280"/>
                  <a:ext cx="1837440" cy="168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1. Динамика средней розничной цен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2. Динамика средней закупочной цен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800000"/>
                      </a:solidFill>
                      <a:latin typeface="Arial"/>
                    </a:rPr>
                    <a:t>3.Уровень торговой наценки в розничной цене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9840" y="3505680"/>
                  <a:ext cx="424080" cy="120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c0c0c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1254240" y="2421000"/>
              <a:ext cx="7066800" cy="482400"/>
            </a:xfrm>
            <a:prstGeom prst="bevel">
              <a:avLst>
                <a:gd name="adj" fmla="val 125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Критерии эффективности ценовой политики предприятия розничной торговл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756200" y="5314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060240" y="528732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080960" y="5314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384640" y="5314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787640" y="2903400"/>
              <a:ext cx="28296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0960" y="2903400"/>
              <a:ext cx="28188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0960" y="2903400"/>
              <a:ext cx="197820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08360" y="2903400"/>
              <a:ext cx="226188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26:26Z</dcterms:created>
  <dc:creator>DNA7 X86</dc:creator>
  <dc:description/>
  <dc:language>en-US</dc:language>
  <cp:lastModifiedBy>Пользователь Windows</cp:lastModifiedBy>
  <dcterms:modified xsi:type="dcterms:W3CDTF">2024-08-07T18:31:02Z</dcterms:modified>
  <cp:revision>125</cp:revision>
  <dc:subject/>
  <dc:title>Стратегическое планирование регионального развития в СССР</dc:title>
</cp:coreProperties>
</file>