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4DAA-3681-4970-9183-99166A337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A51A-1648-4CBB-BF54-D7284188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7171-7247-4869-AD2D-F5D56FB41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D529-6C27-4283-BD7E-329A1EEA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6B85-6424-4475-8226-882679F0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5B22-2E6E-4E9F-9063-CA9988A7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D086-9A7B-4844-BFB4-A083E46D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0BB6-09C3-4F75-A42A-9912BC48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6EF8-971F-43E7-BC2B-16155C70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DF44-8DA7-49A9-9E12-82D2D021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7573-9829-4D40-9DAF-326EC22E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423E-6E15-4869-BBC8-92D9EEAD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83A3-A3DE-4CF9-89CA-F75B6E83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DDE0-50FA-43C3-B605-086207B5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ADCF-4D7F-4DB2-8A29-FD76C828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C874-2177-4312-B05B-4496E653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7B2D-F18A-4FD7-8AF7-DEBA8CA3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C4A0-142F-49BF-930C-EBD0B51B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E44D-17DC-4D0A-BAC2-E39A4382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962D-3074-417A-9FFC-1E695736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C5D3-A65E-4816-B01C-14C4A4A3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4483-C567-49F3-A5E5-86BD4170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B46C-F4E9-47BA-853B-57F0BF58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0802-DDB7-4F93-9172-34BAB53C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5E50-2C42-40EF-8033-BCE62A3CE38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E9DA-DBCF-4F03-ADAA-034954DF631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Товароведная оценка качества молока питьевого, реализуемого в торговом предприятии ООО "Импекс" г. Волгограда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716360" y="3860280"/>
            <a:ext cx="3487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полнила: студентка 4 курса специальности 38.02.04 Бикоева А.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верила: к.т.н., доцент Шевченко О.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404640"/>
            <a:ext cx="70581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Комитет образования, науки и молодежной политики Волгоградской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Государственное бюджетное профессиональное образовательное учрежд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Волгоградский профессиональный техникум кадровых ресурсов ГБПОУ «ВПТКР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11280" y="59500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. Волгоград 202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Актуальность выпускной квалификационной работы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ктуальность темы выпускной квалификационной работы обусловлена тем, что во все времена молоко ценилось главным образом за свои удивительные питательные свойства. Ценность молока заключается в идеальной сбалансированности питательных веществ. Молочные продукты играют огромную роль в питании человека, снабжая организм необходимыми для здоровья элементами. В связи с этим спрос на молоко только увеличиваетс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 последние годы ассортимент и производство молока и молочных напитков в России значительно увеличились. На рынке молока и молочных продуктов, пользующихся стабильным спросом, находятся сотни их наименований, и многие из них активно рекламируются. В связи с этим соблазн подделать или увеличить объемы молока и молочной продукции путем разбавления водой всегда имеется как у реализатора, так и у производителя молочной продук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Цель, объект и предмет исследования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Целью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выпускной квалификационной работы является – товароведная оценка качества молока питьевого, реализуемого в торговом предприятии ООО "Импекс" г. Волгогра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бъект исследовани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молоко питьевое, реализуемое в торговом предприятии ООО "Импекс" г. Волгогра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редмет исследовани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ассортимент и качество моло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Классификация молока питьевого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итьевым молоком считается молочный продукт с массовой долей жира менее 10%, подвергнутый термической обработке, как минимум пастеризации, без добавления сухих молочных продуктов и воды, расфасованный в потребительскую тару. Молоко питьевое производится в соответствии с требова­ниями ГОСТ 52054-2003 «ГОСТ 31450-2013 Молоко питьевое. Технические условия» и СанПиН 2.3.4.551-96 "Производство молока и молочных продуктов"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11280" y="3573360"/>
            <a:ext cx="8208720" cy="2734920"/>
            <a:chOff x="611280" y="3573360"/>
            <a:chExt cx="8208720" cy="2734920"/>
          </a:xfrm>
        </p:grpSpPr>
        <p:sp>
          <p:nvSpPr>
            <p:cNvPr id="93" name=""/>
            <p:cNvSpPr/>
            <p:nvPr/>
          </p:nvSpPr>
          <p:spPr>
            <a:xfrm>
              <a:off x="1979640" y="3573360"/>
              <a:ext cx="5506920" cy="353520"/>
            </a:xfrm>
            <a:prstGeom prst="rect">
              <a:avLst/>
            </a:prstGeom>
            <a:solidFill>
              <a:srgbClr val="00336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ВИДЫ ПИТЬЕВОГО МОЛОКА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11280" y="4186800"/>
              <a:ext cx="1974600" cy="2121480"/>
            </a:xfrm>
            <a:prstGeom prst="rect">
              <a:avLst/>
            </a:prstGeom>
            <a:solidFill>
              <a:srgbClr val="00336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По сырью: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ffffff"/>
                </a:buClr>
                <a:buFont typeface="Symbol" charset="2"/>
                <a:buChar char="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из цельного молока;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Symbol" charset="2"/>
                <a:buChar char="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нормализованного молока;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Symbol" charset="2"/>
                <a:buChar char="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обезжиренного молока.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89200" y="4186800"/>
              <a:ext cx="1974960" cy="2121480"/>
            </a:xfrm>
            <a:prstGeom prst="rect">
              <a:avLst/>
            </a:prstGeom>
            <a:solidFill>
              <a:srgbClr val="00336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По режиму термической обработки: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ffffff"/>
                </a:buClr>
                <a:buFont typeface="Symbol" charset="2"/>
                <a:buChar char="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пастеризованное;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Symbol" charset="2"/>
                <a:buChar char="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топленое;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Symbol" charset="2"/>
                <a:buChar char="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стерилизованное;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Symbol" charset="2"/>
                <a:buChar char="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ультрапастеризованное.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67120" y="4186800"/>
              <a:ext cx="1974960" cy="2121480"/>
            </a:xfrm>
            <a:prstGeom prst="rect">
              <a:avLst/>
            </a:prstGeom>
            <a:solidFill>
              <a:srgbClr val="00336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Tahoma"/>
                </a:rPr>
                <a:t>По органолептическим и физико-химическим показателям: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Symbol" charset="2"/>
                <a:buChar char="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Tahoma"/>
                </a:rPr>
                <a:t>высший сорт;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ffffff"/>
                </a:buClr>
                <a:buFont typeface="Symbol" charset="2"/>
                <a:buChar char="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Tahoma"/>
                </a:rPr>
                <a:t>1-й сорт;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Symbol" charset="2"/>
                <a:buChar char="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Tahoma"/>
                </a:rPr>
                <a:t>2-й сорт;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Symbol" charset="2"/>
                <a:buChar char="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Tahoma"/>
                </a:rPr>
                <a:t>несортовое.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5400" y="4186800"/>
              <a:ext cx="1974600" cy="2121480"/>
            </a:xfrm>
            <a:prstGeom prst="rect">
              <a:avLst/>
            </a:prstGeom>
            <a:solidFill>
              <a:srgbClr val="00336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По массовой доле жира: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ffffff"/>
                </a:buClr>
                <a:buFont typeface="Symbol" charset="2"/>
                <a:buChar char="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обезжиренное – не более 0,1% жира;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Symbol" charset="2"/>
                <a:buChar char="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нежирное – от 0,3 до 1,0%;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Symbol" charset="2"/>
                <a:buChar char="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маложирное – от 1,2 до 2,5%;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Symbol" charset="2"/>
                <a:buChar char="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классическое – от 2,7 до 4,5%;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Symbol" charset="2"/>
                <a:buChar char="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жирное – от 4,7 до 7,0%;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Symbol" charset="2"/>
                <a:buChar char="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высокожирное – от 7,2 до 9,5%.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42880" y="4068720"/>
              <a:ext cx="6545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43280" y="3944520"/>
              <a:ext cx="0" cy="117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42880" y="4068720"/>
              <a:ext cx="0" cy="117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24120" y="4068720"/>
              <a:ext cx="0" cy="117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02400" y="4068720"/>
              <a:ext cx="0" cy="117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988400" y="4068720"/>
              <a:ext cx="0" cy="117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Требования к качеству молока питьевого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6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изико-химические показател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 массовая доля жира, белка не менее 3%, плотность 1024-1030 (в зависимости от жирности), кислотность 20-21°Т (в зависимости от жирности), температура при выпуске с предприятия (пастеризованного и топленого, ультрапастеризованного (без асептического розлива) – 4±2°С; ультрапастеризованного (с асептическим розливом) и стерилизованного – 2-25°С), отсутствие фосфатазы, группа чистоты не ниже 1-го класс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2124000" y="3716280"/>
            <a:ext cx="5507280" cy="35424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рганолептические показат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4329000"/>
            <a:ext cx="1974960" cy="212256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нешний вид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епрозрачная жидкость. Для продуктов с массовой долей жира более 4,7% допускается незначительный отстой жира, исчезающий при перемешиван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43280" y="4365720"/>
            <a:ext cx="1974960" cy="212256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нсистенц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жидкая, однородная нетягучая, слегка вязкая. Без хлопьев белка и сбившихся комочков жир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11840" y="4329000"/>
            <a:ext cx="1974600" cy="212256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кус и запах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характерные для молока, без посторонних привкусов и запахов, с легким привкусом кипячения. Для топленого и стерилизованного молока – выраженный привкус кипяче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89760" y="4329000"/>
            <a:ext cx="1974960" cy="212256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Цвет: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белый, допускается с синеватым оттенком для обезжиренного молока, со светло-кремовым оттенком для стерилизованного молока, с кремовым оттенком для топленого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87600" y="4211640"/>
            <a:ext cx="65451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88000" y="4087800"/>
            <a:ext cx="0" cy="117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87600" y="4211640"/>
            <a:ext cx="0" cy="117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68840" y="4211640"/>
            <a:ext cx="0" cy="117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211640"/>
            <a:ext cx="0" cy="117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132760" y="4211640"/>
            <a:ext cx="0" cy="117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Ассортимент питьевого молока, реализуемого в торговом предприятии ООО "Импекс" г. Волгограда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68360" y="1557360"/>
          <a:ext cx="8229600" cy="5126040"/>
        </p:xfrm>
        <a:graphic>
          <a:graphicData uri="http://schemas.openxmlformats.org/drawingml/2006/table">
            <a:tbl>
              <a:tblPr/>
              <a:tblGrid>
                <a:gridCol w="2166840"/>
                <a:gridCol w="1220760"/>
                <a:gridCol w="1649520"/>
                <a:gridCol w="31924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рка моло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пловая обработ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ирность, 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аков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"Агрокомплекс"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ст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5% без ЗМЖ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стиковая бутылка, 900 м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"Агрокомплекс"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ст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4% без ЗМЖ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стиковая бутылка, 900 м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"Вкуснотеево"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ст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8% без ЗМЖ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ягкая упаковка, 900 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"Вкуснотеево"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/паст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2% без ЗМЖ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стиковая бутылка, 900 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"Волжаночка"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ст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5% без ЗМЖ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ртонная упаковка TBA, 800 м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"Волжаночка"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ст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5% без ЗМЖ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ртонная упаковка TBA, 1500 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"Волжаночка"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ст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2% без ЗМЖ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ртонная упаковка TBA, 900 м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"Коровка из Кореновки"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ст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7% без ЗМЖ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стиковая бутылка, 900 м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"Коровка из Кореновки"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ст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2% без ЗМЖ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стиковая бутылка, 900 м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"Кубанская Буренка"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ст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5% без ЗМЖ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стиковая бутылка, 930 м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"Кубанская Буренка"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/паст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5% без ЗМЖ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ртонная упаковка TBA,950 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"Кубанская Буренка"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/паст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5% без ЗМЖ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ртонная упаковка TBA, 950 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"Продукты из Елани"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ст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5% без ЗМЖ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ртонная упаковка TBA, 900 м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"Продукты из Елани"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ст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5% без ЗМЖ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ртонная упаковка TBA, 900 м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"Простоквашино"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ст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5% без ЗМЖ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стиковая бутылка, 930 м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"Простоквашино"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/паст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5% без ЗМЖ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ртонная упаковка TBA, 950 м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"Простоквашино"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/паст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2% без ЗМЖ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ртонная упаковка TBA, 950 м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Оценка качества молока питьевого, реализуемого в торговом предприятии ООО "Импекс" г. Волгограда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23800"/>
            <a:ext cx="156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2160.2" descr=""/>
          <p:cNvPicPr/>
          <p:nvPr/>
        </p:nvPicPr>
        <p:blipFill>
          <a:blip r:embed="rId2"/>
          <a:stretch/>
        </p:blipFill>
        <p:spPr>
          <a:xfrm>
            <a:off x="1116000" y="3933720"/>
            <a:ext cx="838080" cy="639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523800"/>
            <a:ext cx="156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logo" descr=""/>
          <p:cNvPicPr/>
          <p:nvPr/>
        </p:nvPicPr>
        <p:blipFill>
          <a:blip r:embed="rId3"/>
          <a:stretch/>
        </p:blipFill>
        <p:spPr>
          <a:xfrm>
            <a:off x="3348000" y="3933720"/>
            <a:ext cx="669960" cy="663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523800"/>
            <a:ext cx="156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71264" descr=""/>
          <p:cNvPicPr/>
          <p:nvPr/>
        </p:nvPicPr>
        <p:blipFill>
          <a:blip r:embed="rId4"/>
          <a:stretch/>
        </p:blipFill>
        <p:spPr>
          <a:xfrm>
            <a:off x="5364000" y="3933720"/>
            <a:ext cx="777960" cy="6256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523800"/>
            <a:ext cx="156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1578617" descr=""/>
          <p:cNvPicPr/>
          <p:nvPr/>
        </p:nvPicPr>
        <p:blipFill>
          <a:blip r:embed="rId5"/>
          <a:stretch/>
        </p:blipFill>
        <p:spPr>
          <a:xfrm>
            <a:off x="7740720" y="3933720"/>
            <a:ext cx="609480" cy="54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468360" y="1773360"/>
          <a:ext cx="8424720" cy="4751280"/>
        </p:xfrm>
        <a:graphic>
          <a:graphicData uri="http://schemas.openxmlformats.org/drawingml/2006/table">
            <a:tbl>
              <a:tblPr/>
              <a:tblGrid>
                <a:gridCol w="2104920"/>
                <a:gridCol w="2106720"/>
                <a:gridCol w="2106720"/>
                <a:gridCol w="210636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зец №1 – молоко «Кубанская Буренка«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льтрапастеризованное 2,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з ЗМЖ, Россия, 950 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ртонная упаковка TB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производитель –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машевский молоч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бинат, Филиал А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Вимм-Билль-Данн»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зец №2 – молоко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Продукты из Елан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стеризованное питьево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5% без ЗМЖ, Россия, 9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л картонная упаковка TB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производитель ОО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"Еланский сыродель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бинат"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зец №3 – молоко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"Вкуснотеево"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льтрапастеризованное 3,2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з ЗМЖ, Россия, 900 г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стиковая бутылк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производитель АО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Молвест»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зец №4 – молоко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"Простоквашино"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льтрапастеризованное 3,2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з ЗМЖ, Россия, 950 м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ртонная упаковка TB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производитель АО "Данон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ссия"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е проведен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олептической оценк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ивается как отличное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ако, при оценке физико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имических показателе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образце №1 бы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наружены вода, сода 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хма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е проведен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олептической оценк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ивается как хорошее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ако физико-химически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следования образца №2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явили несоответств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ю СОМ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е проведен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олептической оцен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ивается как отличное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ако оценка физико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имических показателе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явила в образце №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соответствие кислотности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 также в нем был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наружена со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е проведен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олептической оценк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ивается как отличное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ако, при оценке физико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имических показателей в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зце №4 был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наружена сода, так же он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соответствова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ислот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0" y="6151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Доклад окончен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лагодарю за внимание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17T08:57:00Z</dcterms:created>
  <dc:creator>Пользователь Windows</dc:creator>
  <dc:description/>
  <dc:language>en-US</dc:language>
  <cp:lastModifiedBy>Пользователь Windows</cp:lastModifiedBy>
  <dcterms:modified xsi:type="dcterms:W3CDTF">2024-08-08T10:18:03Z</dcterms:modified>
  <cp:revision>13</cp:revision>
  <dc:subject/>
  <dc:title>Слайд 1</dc:title>
</cp:coreProperties>
</file>