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DBC-8096-4C79-8729-ADA8B5F0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75B-502A-4521-8031-27E1BA47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586-BE69-4A95-9F3B-6A1B718A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44C-3838-43CB-A20C-CE8A1B41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0ACF-8A91-4537-BD4D-D90F0E13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A304-61CB-42CA-BEAC-B9AA4F68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6365-2E54-4028-B0D8-2F97F0AD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4E3A-A72E-4178-8F78-5B2DCFE5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B42F-F9EB-4C78-831D-D0498381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5FC0-AE17-46A3-A078-60BB1B79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269B-311A-434B-8E3E-735FA1F3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1E7D-DD19-428C-BA3C-1161CADE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BCD4-ADCE-4EF0-9466-BC146CB8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2434-D3C6-46B0-9476-1A315523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E760-FFBB-4272-A590-665D1F4D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7D28-BCE3-490B-96F5-A47B2C03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7F83-F02E-4ABB-B586-BCD03CD0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B694-9B46-450B-A9FC-66D2F589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90A-E788-4B1C-9F1A-5C00485F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0A1-DE9E-47F2-8128-2459FF1E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3F6-6AEA-4BF9-8CD5-68DE7F63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538-8E44-4A07-8978-2F975C88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15F9-5E98-4A9F-A411-0F7AD53E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E02-C380-44DD-A2B5-0CFEBA67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9A6A-2555-4C87-A918-383AB1271B94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F8C8-CE05-4397-8C41-5125D860DF0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311A-E5A2-47E5-9A4D-86BFB647B003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D040-6ABB-40C9-AF1D-F5ADE37A877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5960" y="2588760"/>
            <a:ext cx="7848720" cy="15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Бухгалтерская экспертиза наличия и эксплуатации основных средств субъекта агробизнеса в СПК "Тепличный"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Номер слайда 8"/>
          <p:cNvSpPr/>
          <p:nvPr/>
        </p:nvSpPr>
        <p:spPr>
          <a:xfrm>
            <a:off x="7808760" y="6237360"/>
            <a:ext cx="655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6C25-6B9F-419A-A672-13DADAA669B9}" type="slidenum">
              <a:rPr b="0" lang="ru-RU" sz="1200" spc="-1" strike="noStrike">
                <a:solidFill>
                  <a:srgbClr val="0965a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Прямоугольник 7"/>
          <p:cNvSpPr/>
          <p:nvPr/>
        </p:nvSpPr>
        <p:spPr>
          <a:xfrm>
            <a:off x="679320" y="4148280"/>
            <a:ext cx="78487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56320">
              <a:lnSpc>
                <a:spcPts val="22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Студент: А.Н. Дементьев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756320">
              <a:lnSpc>
                <a:spcPts val="22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Группа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756320">
              <a:lnSpc>
                <a:spcPts val="22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756320">
              <a:lnSpc>
                <a:spcPts val="22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"/>
          <p:cNvSpPr/>
          <p:nvPr/>
        </p:nvSpPr>
        <p:spPr>
          <a:xfrm>
            <a:off x="615960" y="431640"/>
            <a:ext cx="79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ЛГОГРАДСКИЙ ГОСУДАРСТВЕННЫЙ АГРАРНЫЙ УНИВЕРСИТЕТ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"/>
          <p:cNvSpPr/>
          <p:nvPr/>
        </p:nvSpPr>
        <p:spPr>
          <a:xfrm>
            <a:off x="615960" y="1584360"/>
            <a:ext cx="779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пускная квалификационная работа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тему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"/>
          <p:cNvSpPr/>
          <p:nvPr/>
        </p:nvSpPr>
        <p:spPr>
          <a:xfrm>
            <a:off x="3732120" y="5762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гоград, 202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Динамика коэффициентов использования основных средств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8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44" name="Объект 17"/>
          <p:cNvGraphicFramePr/>
          <p:nvPr/>
        </p:nvGraphicFramePr>
        <p:xfrm>
          <a:off x="376200" y="1150920"/>
          <a:ext cx="8310600" cy="45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Объект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150920"/>
                    <a:ext cx="831060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Рекомендации по совершенствованию экспертизы основных средств в СПК "Тепличный"</a:t>
            </a: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1271520"/>
            <a:ext cx="8229600" cy="46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ачестве рекомендаций по совершенствованию экспертизы основных средств в СПК "Тепличный" предложено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Применять автоматизированную систему обработки информации при осуществлении бухгалтерской экспертизы основных средств;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) Оптимизировать управление учетом основных средств. В частности, представлена проблематика влияния некачественного управления учетом основных средств организации в контексте их оптимального использования. Для решения приведенной проблематики разработан оптимизационный механизм управления учетом основных средств, а также предложено теоретическое направление усовершенствования концепта управления процессом учета основных средств, регистрации, накопления, обобщения, хранения и передачи информации;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) Опираясь на требования современности, а также проблематику эффективности управления учетом наличия и эксплуатации основных средств, разработан механизм обеспечения эффективного их функционирования;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) Предложены типовые бухгалтерские корреспонденции в соответствии с разработанным фрагментом рабочего плана счетов внутрихозяйственного учета машин и оборудования для СПК "Тепличный";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) Осуществлено группирование учетных операций основных средств в соответствии с технологическим этапом учета.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Вывод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"/>
          <p:cNvSpPr/>
          <p:nvPr/>
        </p:nvSpPr>
        <p:spPr>
          <a:xfrm>
            <a:off x="735120" y="1390680"/>
            <a:ext cx="7951680" cy="43164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информационных технологий при проведении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ухгалтерской экспертизы основных средств в СПК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Тепличный" позволит выявить и оценить признаки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скажения учетной и экономической информации,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ь и количественно измерить негативные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кономические явления, возникшие в результате этого,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явить степень их влияния на финансовые результаты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и субъекта агробизнеса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335240" y="2828880"/>
            <a:ext cx="63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Благодарю за внимание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8"/>
          <p:cNvSpPr/>
          <p:nvPr/>
        </p:nvSpPr>
        <p:spPr>
          <a:xfrm>
            <a:off x="7808760" y="6237360"/>
            <a:ext cx="655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87F8-2997-4F18-A4BC-BA5A8F8BA4DF}" type="slidenum">
              <a:rPr b="0" lang="ru-RU" sz="1200" spc="-1" strike="noStrike">
                <a:solidFill>
                  <a:srgbClr val="0965a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1066680" y="1031760"/>
            <a:ext cx="758196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33"/>
                </a:solidFill>
                <a:uFillTx/>
                <a:latin typeface="Franklin Gothic Book"/>
              </a:rPr>
              <a:t>Цель </a:t>
            </a:r>
            <a:r>
              <a:rPr b="0" lang="en-US" sz="1600" spc="-1" strike="noStrike">
                <a:solidFill>
                  <a:srgbClr val="2e466a"/>
                </a:solidFill>
                <a:latin typeface="Franklin Gothic Book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ведение бухгалтерской экспертизы наличия и эксплуатации основных средств субъекта агробизнеса и разработка на ее основе рекомендаций по совершенствованию учета, информационного обеспечения бухгалтерской экспертизы основных средств и эффективности их использования в СПК "Тепличный"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33"/>
                </a:solidFill>
                <a:uFillTx/>
                <a:latin typeface="Franklin Gothic Book"/>
              </a:rPr>
              <a:t>Задачи:</a:t>
            </a:r>
            <a:r>
              <a:rPr b="1" lang="en-US" sz="1800" spc="-1" strike="noStrike" u="sng">
                <a:solidFill>
                  <a:srgbClr val="2e466a"/>
                </a:solidFill>
                <a:uFillTx/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раскрыть понятие и виды основных средств и их оценку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явить особенности проведения бухгалтерской экспертизы в сельском хозяйстве: ее объекты и субъекты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отразить краткую организационно-экономическую характеристику СПК "Тепличный";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учить организацию условий труда в соответствии с представлениями о здоровом образе жизни;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провести экспертное исследование операций с основными средствами;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оценить состояние и эффективность использования основных средств;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разработать рекомендации по совершенствованию бухгалтерской экспертизы основных средств и эффективности их использования в СПК "Тепличный"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33"/>
                </a:solidFill>
                <a:uFillTx/>
                <a:latin typeface="Franklin Gothic Book"/>
              </a:rPr>
              <a:t>Объект</a:t>
            </a:r>
            <a:r>
              <a:rPr b="1" lang="en-US" sz="1800" spc="-1" strike="noStrike">
                <a:solidFill>
                  <a:srgbClr val="006633"/>
                </a:solidFill>
                <a:latin typeface="Franklin Gothic Book"/>
              </a:rPr>
              <a:t> </a:t>
            </a:r>
            <a:r>
              <a:rPr b="0" lang="en-US" sz="1600" spc="-1" strike="noStrike">
                <a:solidFill>
                  <a:srgbClr val="2e466a"/>
                </a:solidFill>
                <a:latin typeface="Franklin Gothic Book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стема бухгалтерского учета СПК "Тепличный".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33"/>
                </a:solidFill>
                <a:uFillTx/>
                <a:latin typeface="Franklin Gothic Book"/>
              </a:rPr>
              <a:t>Предмет</a:t>
            </a:r>
            <a:r>
              <a:rPr b="0" lang="en-US" sz="1600" spc="-1" strike="noStrike">
                <a:solidFill>
                  <a:srgbClr val="006633"/>
                </a:solidFill>
                <a:latin typeface="Franklin Gothic Book"/>
              </a:rPr>
              <a:t> </a:t>
            </a:r>
            <a:r>
              <a:rPr b="0" lang="en-US" sz="1600" spc="-1" strike="noStrike">
                <a:solidFill>
                  <a:srgbClr val="2e466a"/>
                </a:solidFill>
                <a:latin typeface="Franklin Gothic Book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ет наличия и эксплуатации основных средств в субъекте агробизнеса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93" name="Рисунок 13" descr="pointer.png"/>
          <p:cNvPicPr/>
          <p:nvPr/>
        </p:nvPicPr>
        <p:blipFill>
          <a:blip r:embed="rId1"/>
          <a:stretch/>
        </p:blipFill>
        <p:spPr>
          <a:xfrm>
            <a:off x="495360" y="1150920"/>
            <a:ext cx="571320" cy="5619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4" descr="pointer.png"/>
          <p:cNvPicPr/>
          <p:nvPr/>
        </p:nvPicPr>
        <p:blipFill>
          <a:blip r:embed="rId2"/>
          <a:stretch/>
        </p:blipFill>
        <p:spPr>
          <a:xfrm>
            <a:off x="495360" y="2308320"/>
            <a:ext cx="571320" cy="5619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5" descr="pointer.png"/>
          <p:cNvPicPr/>
          <p:nvPr/>
        </p:nvPicPr>
        <p:blipFill>
          <a:blip r:embed="rId3"/>
          <a:stretch/>
        </p:blipFill>
        <p:spPr>
          <a:xfrm>
            <a:off x="495360" y="5346720"/>
            <a:ext cx="571320" cy="561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95360" y="31104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b812f"/>
                </a:solidFill>
                <a:latin typeface="Arial"/>
              </a:rPr>
              <a:t>Цель, задачи, объект и предмет ВКР</a:t>
            </a:r>
            <a:r>
              <a:rPr b="1" lang="en-US" sz="32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97" name="Рисунок 14" descr="pointer.png"/>
          <p:cNvPicPr/>
          <p:nvPr/>
        </p:nvPicPr>
        <p:blipFill>
          <a:blip r:embed="rId4"/>
          <a:stretch/>
        </p:blipFill>
        <p:spPr>
          <a:xfrm>
            <a:off x="495360" y="4784760"/>
            <a:ext cx="571320" cy="56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Теоретические основы бухгалтерской экспертизы наличия и эксплуатации основных средств</a:t>
            </a: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9" name="Холст 2"/>
          <p:cNvGrpSpPr/>
          <p:nvPr/>
        </p:nvGrpSpPr>
        <p:grpSpPr>
          <a:xfrm>
            <a:off x="735120" y="1831680"/>
            <a:ext cx="7951320" cy="4235400"/>
            <a:chOff x="735120" y="1831680"/>
            <a:chExt cx="7951320" cy="4235400"/>
          </a:xfrm>
        </p:grpSpPr>
        <p:sp>
          <p:nvSpPr>
            <p:cNvPr id="100" name="Прямоугольник 4"/>
            <p:cNvSpPr/>
            <p:nvPr/>
          </p:nvSpPr>
          <p:spPr>
            <a:xfrm>
              <a:off x="735120" y="2854800"/>
              <a:ext cx="3741480" cy="102168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888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Установление соответствия отображения в бухгалтерском учете операций с основными средствами требованиям действующих нормативных актов в области бухгалтерского учета и отчетности</a:t>
              </a:r>
              <a:endParaRPr b="0" lang="en-US" sz="11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1" name="Прямоугольник 5"/>
            <p:cNvSpPr/>
            <p:nvPr/>
          </p:nvSpPr>
          <p:spPr>
            <a:xfrm>
              <a:off x="735120" y="4023360"/>
              <a:ext cx="3740400" cy="116856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888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Выявление фактов нарушения действующего законодательства по правомерности и обоснованности управленческих решений ответственных работников предприятия в случае приобретения, использования, реализации и ликвидации отдельных объектов основных средств</a:t>
              </a:r>
              <a:endParaRPr b="0" lang="en-US" sz="11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2" name="Прямоугольник 6"/>
            <p:cNvSpPr/>
            <p:nvPr/>
          </p:nvSpPr>
          <p:spPr>
            <a:xfrm>
              <a:off x="735120" y="1978200"/>
              <a:ext cx="3741480" cy="68436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888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Исследование правильности документального оформления операций из поступления, перемещения и использования основных средств</a:t>
              </a:r>
              <a:endParaRPr b="0" lang="en-US" sz="11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3" name="Прямоугольник 7"/>
            <p:cNvSpPr/>
            <p:nvPr/>
          </p:nvSpPr>
          <p:spPr>
            <a:xfrm>
              <a:off x="4944960" y="1978200"/>
              <a:ext cx="3741480" cy="68544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888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Установление должностного лица, ответственного за осуществление и документальное оформление незаконной хозяйственной операции</a:t>
              </a:r>
              <a:endParaRPr b="0" lang="en-US" sz="11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4" name="Прямоугольник 8"/>
            <p:cNvSpPr/>
            <p:nvPr/>
          </p:nvSpPr>
          <p:spPr>
            <a:xfrm>
              <a:off x="4944960" y="2854800"/>
              <a:ext cx="3741480" cy="43776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888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Проверка правильности отнесения отдельных объектов в состав основных средств</a:t>
              </a:r>
              <a:endParaRPr b="0" lang="en-US" sz="11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5" name="Прямоугольник 9"/>
            <p:cNvSpPr/>
            <p:nvPr/>
          </p:nvSpPr>
          <p:spPr>
            <a:xfrm>
              <a:off x="4944960" y="3438720"/>
              <a:ext cx="3741480" cy="73044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888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Проверка правильности начисления амортизации, своевременность и полнота отнесения ее на расходы предприятия</a:t>
              </a:r>
              <a:endParaRPr b="0" lang="en-US" sz="11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6" name="Прямоугольник 10"/>
            <p:cNvSpPr/>
            <p:nvPr/>
          </p:nvSpPr>
          <p:spPr>
            <a:xfrm>
              <a:off x="4944960" y="4314600"/>
              <a:ext cx="3741480" cy="8773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888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Установление правильности определения и списания убытков, которые были понесены в результате ликвидации в неполной мере амортизированных объектов</a:t>
              </a:r>
              <a:endParaRPr b="0" lang="en-US" sz="11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7" name="Прямоугольник 11"/>
            <p:cNvSpPr/>
            <p:nvPr/>
          </p:nvSpPr>
          <p:spPr>
            <a:xfrm>
              <a:off x="735120" y="5337720"/>
              <a:ext cx="3741480" cy="72936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Проверка правильности ведения учета операций, связанных с реализацией ненужного и лишнего оборудования</a:t>
              </a:r>
              <a:endParaRPr b="0" lang="en-US" sz="11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8" name="Прямоугольник 12"/>
            <p:cNvSpPr/>
            <p:nvPr/>
          </p:nvSpPr>
          <p:spPr>
            <a:xfrm>
              <a:off x="4944960" y="5337720"/>
              <a:ext cx="3740400" cy="72936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Определение влияния операций с основными средствами на облагаемую налогом прибыль</a:t>
              </a:r>
              <a:endParaRPr b="0" lang="en-US" sz="11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9" name="Линия 13"/>
            <p:cNvSpPr/>
            <p:nvPr/>
          </p:nvSpPr>
          <p:spPr>
            <a:xfrm>
              <a:off x="4632480" y="1831680"/>
              <a:ext cx="720" cy="39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0" name="Линия 14"/>
            <p:cNvSpPr/>
            <p:nvPr/>
          </p:nvSpPr>
          <p:spPr>
            <a:xfrm flipH="1">
              <a:off x="4476600" y="5775120"/>
              <a:ext cx="1555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1" name="Линия 15"/>
            <p:cNvSpPr/>
            <p:nvPr/>
          </p:nvSpPr>
          <p:spPr>
            <a:xfrm flipH="1">
              <a:off x="4476600" y="2269800"/>
              <a:ext cx="1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2" name="Линия 16"/>
            <p:cNvSpPr/>
            <p:nvPr/>
          </p:nvSpPr>
          <p:spPr>
            <a:xfrm flipH="1">
              <a:off x="4632480" y="241632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3" name="Линия 17"/>
            <p:cNvSpPr/>
            <p:nvPr/>
          </p:nvSpPr>
          <p:spPr>
            <a:xfrm flipH="1">
              <a:off x="4476600" y="3146040"/>
              <a:ext cx="1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4" name="Линия 18"/>
            <p:cNvSpPr/>
            <p:nvPr/>
          </p:nvSpPr>
          <p:spPr>
            <a:xfrm flipH="1">
              <a:off x="4632480" y="30006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5" name="Линия 19"/>
            <p:cNvSpPr/>
            <p:nvPr/>
          </p:nvSpPr>
          <p:spPr>
            <a:xfrm flipH="1">
              <a:off x="4632480" y="3731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6" name="Линия 20"/>
            <p:cNvSpPr/>
            <p:nvPr/>
          </p:nvSpPr>
          <p:spPr>
            <a:xfrm>
              <a:off x="4476600" y="4607280"/>
              <a:ext cx="1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7" name="Линия 21"/>
            <p:cNvSpPr/>
            <p:nvPr/>
          </p:nvSpPr>
          <p:spPr>
            <a:xfrm flipH="1">
              <a:off x="4632480" y="47530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8" name="Линия 22"/>
            <p:cNvSpPr/>
            <p:nvPr/>
          </p:nvSpPr>
          <p:spPr>
            <a:xfrm flipH="1">
              <a:off x="4632480" y="562932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19" name="Автофигуры 32"/>
          <p:cNvSpPr/>
          <p:nvPr/>
        </p:nvSpPr>
        <p:spPr>
          <a:xfrm>
            <a:off x="735120" y="1271520"/>
            <a:ext cx="8032680" cy="60336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И БУХГАЛТЕРСКОЙ ЭКСПЕРТИЗЫ ОСНОВНЫХ СРЕДСТ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Организационная структура организации СПК "Тепличный"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11120" y="1268280"/>
            <a:ext cx="8431200" cy="4037040"/>
            <a:chOff x="411120" y="1268280"/>
            <a:chExt cx="8431200" cy="4037040"/>
          </a:xfrm>
        </p:grpSpPr>
        <p:sp>
          <p:nvSpPr>
            <p:cNvPr id="123" name="Прямоугольник 122"/>
            <p:cNvSpPr/>
            <p:nvPr/>
          </p:nvSpPr>
          <p:spPr>
            <a:xfrm>
              <a:off x="3166560" y="1268280"/>
              <a:ext cx="18734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едседатель кооператива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4" name="Прямоугольник 123"/>
            <p:cNvSpPr/>
            <p:nvPr/>
          </p:nvSpPr>
          <p:spPr>
            <a:xfrm>
              <a:off x="411120" y="1875960"/>
              <a:ext cx="8326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Начальник отдела сбыта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5" name="Линия 124"/>
            <p:cNvSpPr/>
            <p:nvPr/>
          </p:nvSpPr>
          <p:spPr>
            <a:xfrm>
              <a:off x="827280" y="1761480"/>
              <a:ext cx="770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6" name="Линия 125"/>
            <p:cNvSpPr/>
            <p:nvPr/>
          </p:nvSpPr>
          <p:spPr>
            <a:xfrm>
              <a:off x="4158360" y="164700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7" name="Линия 126"/>
            <p:cNvSpPr/>
            <p:nvPr/>
          </p:nvSpPr>
          <p:spPr>
            <a:xfrm>
              <a:off x="827280" y="176148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8" name="Прямоугольник 127"/>
            <p:cNvSpPr/>
            <p:nvPr/>
          </p:nvSpPr>
          <p:spPr>
            <a:xfrm>
              <a:off x="411120" y="2790360"/>
              <a:ext cx="8326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тдел сбыта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9" name="Прямоугольник 128"/>
            <p:cNvSpPr/>
            <p:nvPr/>
          </p:nvSpPr>
          <p:spPr>
            <a:xfrm>
              <a:off x="411120" y="3476160"/>
              <a:ext cx="8326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одавцы в киосках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0" name="Линия 129"/>
            <p:cNvSpPr/>
            <p:nvPr/>
          </p:nvSpPr>
          <p:spPr>
            <a:xfrm>
              <a:off x="827280" y="2561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1" name="Линия 130"/>
            <p:cNvSpPr/>
            <p:nvPr/>
          </p:nvSpPr>
          <p:spPr>
            <a:xfrm>
              <a:off x="827280" y="32475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2" name="Прямоугольник 131"/>
            <p:cNvSpPr/>
            <p:nvPr/>
          </p:nvSpPr>
          <p:spPr>
            <a:xfrm>
              <a:off x="1347840" y="1875960"/>
              <a:ext cx="1040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Главный бухгалтер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3" name="Линия 132"/>
            <p:cNvSpPr/>
            <p:nvPr/>
          </p:nvSpPr>
          <p:spPr>
            <a:xfrm>
              <a:off x="1868040" y="176148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4" name="Прямоугольник 133"/>
            <p:cNvSpPr/>
            <p:nvPr/>
          </p:nvSpPr>
          <p:spPr>
            <a:xfrm>
              <a:off x="1347840" y="2447640"/>
              <a:ext cx="1040760" cy="194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Бухгалтерия: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счетный отдел;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тдел учета выхода и реализации готовой продукции;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тдел реализации.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5" name="Линия 134"/>
            <p:cNvSpPr/>
            <p:nvPr/>
          </p:nvSpPr>
          <p:spPr>
            <a:xfrm>
              <a:off x="1868040" y="233316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6" name="Прямоугольник 135"/>
            <p:cNvSpPr/>
            <p:nvPr/>
          </p:nvSpPr>
          <p:spPr>
            <a:xfrm>
              <a:off x="2492640" y="1875960"/>
              <a:ext cx="104076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мощник председателя кооператива по вопросам охраны и дисциплины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7" name="Прямоугольник 136"/>
            <p:cNvSpPr/>
            <p:nvPr/>
          </p:nvSpPr>
          <p:spPr>
            <a:xfrm>
              <a:off x="2492640" y="3133440"/>
              <a:ext cx="1040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Начальник охраны 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8" name="Прямоугольник 137"/>
            <p:cNvSpPr/>
            <p:nvPr/>
          </p:nvSpPr>
          <p:spPr>
            <a:xfrm>
              <a:off x="2492640" y="3705120"/>
              <a:ext cx="1040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лужба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храны 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9" name="Линия 138"/>
            <p:cNvSpPr/>
            <p:nvPr/>
          </p:nvSpPr>
          <p:spPr>
            <a:xfrm>
              <a:off x="3013200" y="176148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0" name="Линия 139"/>
            <p:cNvSpPr/>
            <p:nvPr/>
          </p:nvSpPr>
          <p:spPr>
            <a:xfrm>
              <a:off x="3013200" y="301896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1" name="Линия 141"/>
            <p:cNvSpPr/>
            <p:nvPr/>
          </p:nvSpPr>
          <p:spPr>
            <a:xfrm>
              <a:off x="3013200" y="35906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2" name="Прямоугольник 142"/>
            <p:cNvSpPr/>
            <p:nvPr/>
          </p:nvSpPr>
          <p:spPr>
            <a:xfrm>
              <a:off x="3741840" y="1875960"/>
              <a:ext cx="8326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нспектор по кадрам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3" name="Прямоугольник 143"/>
            <p:cNvSpPr/>
            <p:nvPr/>
          </p:nvSpPr>
          <p:spPr>
            <a:xfrm>
              <a:off x="3741840" y="2447640"/>
              <a:ext cx="8326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Начальник гаража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4" name="Прямоугольник 144"/>
            <p:cNvSpPr/>
            <p:nvPr/>
          </p:nvSpPr>
          <p:spPr>
            <a:xfrm>
              <a:off x="3741840" y="3018960"/>
              <a:ext cx="832680" cy="10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лужба механизации и автотранспорта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5" name="Линия 145"/>
            <p:cNvSpPr/>
            <p:nvPr/>
          </p:nvSpPr>
          <p:spPr>
            <a:xfrm>
              <a:off x="4158360" y="176148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6" name="Линия 146"/>
            <p:cNvSpPr/>
            <p:nvPr/>
          </p:nvSpPr>
          <p:spPr>
            <a:xfrm>
              <a:off x="3637800" y="17614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7" name="Линия 147"/>
            <p:cNvSpPr/>
            <p:nvPr/>
          </p:nvSpPr>
          <p:spPr>
            <a:xfrm>
              <a:off x="3637800" y="2676240"/>
              <a:ext cx="10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8" name="Линия 148"/>
            <p:cNvSpPr/>
            <p:nvPr/>
          </p:nvSpPr>
          <p:spPr>
            <a:xfrm>
              <a:off x="4158360" y="29048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9" name="Прямоугольник 149"/>
            <p:cNvSpPr/>
            <p:nvPr/>
          </p:nvSpPr>
          <p:spPr>
            <a:xfrm>
              <a:off x="4782600" y="1875960"/>
              <a:ext cx="10407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меститель председателя кооператива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50" name="Прямоугольник 150"/>
            <p:cNvSpPr/>
            <p:nvPr/>
          </p:nvSpPr>
          <p:spPr>
            <a:xfrm>
              <a:off x="4782600" y="2676240"/>
              <a:ext cx="1040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Главный агроном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51" name="Прямоугольник 151"/>
            <p:cNvSpPr/>
            <p:nvPr/>
          </p:nvSpPr>
          <p:spPr>
            <a:xfrm>
              <a:off x="4782600" y="3247560"/>
              <a:ext cx="10407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Начальники цехов №1, 2, 3, 4, 5, 6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52" name="Прямоугольник 152"/>
            <p:cNvSpPr/>
            <p:nvPr/>
          </p:nvSpPr>
          <p:spPr>
            <a:xfrm>
              <a:off x="4782600" y="4047840"/>
              <a:ext cx="10407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Лаборатория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53" name="Прямоугольник 153"/>
            <p:cNvSpPr/>
            <p:nvPr/>
          </p:nvSpPr>
          <p:spPr>
            <a:xfrm>
              <a:off x="3741840" y="4505040"/>
              <a:ext cx="14569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Агрохимлаборатория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54" name="Прямоугольник 154"/>
            <p:cNvSpPr/>
            <p:nvPr/>
          </p:nvSpPr>
          <p:spPr>
            <a:xfrm>
              <a:off x="3741840" y="4962600"/>
              <a:ext cx="14569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Биолаборатория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55" name="Линия 155"/>
            <p:cNvSpPr/>
            <p:nvPr/>
          </p:nvSpPr>
          <p:spPr>
            <a:xfrm>
              <a:off x="5303160" y="176148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56" name="Линия 156"/>
            <p:cNvSpPr/>
            <p:nvPr/>
          </p:nvSpPr>
          <p:spPr>
            <a:xfrm>
              <a:off x="4678560" y="17614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57" name="Линия 157"/>
            <p:cNvSpPr/>
            <p:nvPr/>
          </p:nvSpPr>
          <p:spPr>
            <a:xfrm>
              <a:off x="4678560" y="2904840"/>
              <a:ext cx="10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58" name="Линия 158"/>
            <p:cNvSpPr/>
            <p:nvPr/>
          </p:nvSpPr>
          <p:spPr>
            <a:xfrm>
              <a:off x="5303160" y="31334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59" name="Линия 159"/>
            <p:cNvSpPr/>
            <p:nvPr/>
          </p:nvSpPr>
          <p:spPr>
            <a:xfrm>
              <a:off x="5303160" y="393336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0" name="Прямоугольник 162"/>
            <p:cNvSpPr/>
            <p:nvPr/>
          </p:nvSpPr>
          <p:spPr>
            <a:xfrm>
              <a:off x="6031800" y="1875960"/>
              <a:ext cx="8326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Главный экономист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1" name="Прямоугольник 163"/>
            <p:cNvSpPr/>
            <p:nvPr/>
          </p:nvSpPr>
          <p:spPr>
            <a:xfrm>
              <a:off x="6031800" y="2447640"/>
              <a:ext cx="8326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Главный теплотехник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2" name="Линия 164"/>
            <p:cNvSpPr/>
            <p:nvPr/>
          </p:nvSpPr>
          <p:spPr>
            <a:xfrm>
              <a:off x="5511240" y="43909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3" name="Линия 165"/>
            <p:cNvSpPr/>
            <p:nvPr/>
          </p:nvSpPr>
          <p:spPr>
            <a:xfrm flipH="1">
              <a:off x="5198760" y="4619520"/>
              <a:ext cx="31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4" name="Линия 166"/>
            <p:cNvSpPr/>
            <p:nvPr/>
          </p:nvSpPr>
          <p:spPr>
            <a:xfrm flipH="1">
              <a:off x="5198760" y="5076720"/>
              <a:ext cx="31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5" name="Прямоугольник 167"/>
            <p:cNvSpPr/>
            <p:nvPr/>
          </p:nvSpPr>
          <p:spPr>
            <a:xfrm>
              <a:off x="6031800" y="3247560"/>
              <a:ext cx="8326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тельная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6" name="Прямоугольник 168"/>
            <p:cNvSpPr/>
            <p:nvPr/>
          </p:nvSpPr>
          <p:spPr>
            <a:xfrm>
              <a:off x="6031800" y="3705120"/>
              <a:ext cx="832680" cy="148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лужба теплофикации и водопроводно-канализационного хозяйства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7" name="Линия 169"/>
            <p:cNvSpPr/>
            <p:nvPr/>
          </p:nvSpPr>
          <p:spPr>
            <a:xfrm>
              <a:off x="6448320" y="176148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8" name="Линия 170"/>
            <p:cNvSpPr/>
            <p:nvPr/>
          </p:nvSpPr>
          <p:spPr>
            <a:xfrm>
              <a:off x="5927760" y="1761480"/>
              <a:ext cx="0" cy="12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9" name="Линия 171"/>
            <p:cNvSpPr/>
            <p:nvPr/>
          </p:nvSpPr>
          <p:spPr>
            <a:xfrm>
              <a:off x="5927760" y="3018960"/>
              <a:ext cx="10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0" name="Линия 172"/>
            <p:cNvSpPr/>
            <p:nvPr/>
          </p:nvSpPr>
          <p:spPr>
            <a:xfrm>
              <a:off x="6448320" y="31334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1" name="Линия 173"/>
            <p:cNvSpPr/>
            <p:nvPr/>
          </p:nvSpPr>
          <p:spPr>
            <a:xfrm>
              <a:off x="6448320" y="35906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2" name="Прямоугольник 174"/>
            <p:cNvSpPr/>
            <p:nvPr/>
          </p:nvSpPr>
          <p:spPr>
            <a:xfrm>
              <a:off x="6968880" y="1875960"/>
              <a:ext cx="8326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Начальник отдела МТС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3" name="Прямоугольник 175"/>
            <p:cNvSpPr/>
            <p:nvPr/>
          </p:nvSpPr>
          <p:spPr>
            <a:xfrm>
              <a:off x="6968880" y="2676240"/>
              <a:ext cx="8326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тдел снабжения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4" name="Прямоугольник 176"/>
            <p:cNvSpPr/>
            <p:nvPr/>
          </p:nvSpPr>
          <p:spPr>
            <a:xfrm>
              <a:off x="6968880" y="3362040"/>
              <a:ext cx="8326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Главный энергетик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5" name="Прямоугольник 177"/>
            <p:cNvSpPr/>
            <p:nvPr/>
          </p:nvSpPr>
          <p:spPr>
            <a:xfrm>
              <a:off x="6968880" y="3933360"/>
              <a:ext cx="8326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Электротехническая группа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6" name="Прямоугольник 178"/>
            <p:cNvSpPr/>
            <p:nvPr/>
          </p:nvSpPr>
          <p:spPr>
            <a:xfrm>
              <a:off x="6968880" y="4733280"/>
              <a:ext cx="8326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КИПиА</a:t>
              </a:r>
              <a:endParaRPr b="0" lang="en-US" sz="9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7" name="Линия 179"/>
            <p:cNvSpPr/>
            <p:nvPr/>
          </p:nvSpPr>
          <p:spPr>
            <a:xfrm>
              <a:off x="7385040" y="176148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8" name="Линия 180"/>
            <p:cNvSpPr/>
            <p:nvPr/>
          </p:nvSpPr>
          <p:spPr>
            <a:xfrm>
              <a:off x="7385040" y="256176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9" name="Линия 181"/>
            <p:cNvSpPr/>
            <p:nvPr/>
          </p:nvSpPr>
          <p:spPr>
            <a:xfrm>
              <a:off x="7905600" y="1761480"/>
              <a:ext cx="0" cy="148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80" name="Линия 182"/>
            <p:cNvSpPr/>
            <p:nvPr/>
          </p:nvSpPr>
          <p:spPr>
            <a:xfrm flipH="1">
              <a:off x="7384680" y="3247560"/>
              <a:ext cx="52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81" name="Линия 183"/>
            <p:cNvSpPr/>
            <p:nvPr/>
          </p:nvSpPr>
          <p:spPr>
            <a:xfrm>
              <a:off x="7385040" y="324756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82" name="Линия 184"/>
            <p:cNvSpPr/>
            <p:nvPr/>
          </p:nvSpPr>
          <p:spPr>
            <a:xfrm>
              <a:off x="7385040" y="38192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83" name="Линия 185"/>
            <p:cNvSpPr/>
            <p:nvPr/>
          </p:nvSpPr>
          <p:spPr>
            <a:xfrm>
              <a:off x="7385040" y="46195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84" name="Прямоугольник 186"/>
            <p:cNvSpPr/>
            <p:nvPr/>
          </p:nvSpPr>
          <p:spPr>
            <a:xfrm>
              <a:off x="8009640" y="1875960"/>
              <a:ext cx="8326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Начальник стройцеха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85" name="Прямоугольник 187"/>
            <p:cNvSpPr/>
            <p:nvPr/>
          </p:nvSpPr>
          <p:spPr>
            <a:xfrm>
              <a:off x="8009640" y="2561760"/>
              <a:ext cx="832680" cy="12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лужба капитального строительства и ремонта</a:t>
              </a:r>
              <a:endParaRPr b="0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86" name="Линия 188"/>
            <p:cNvSpPr/>
            <p:nvPr/>
          </p:nvSpPr>
          <p:spPr>
            <a:xfrm>
              <a:off x="8530200" y="176148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87" name="Линия 189"/>
            <p:cNvSpPr/>
            <p:nvPr/>
          </p:nvSpPr>
          <p:spPr>
            <a:xfrm>
              <a:off x="8530200" y="23331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"/>
          <p:cNvSpPr/>
          <p:nvPr/>
        </p:nvSpPr>
        <p:spPr>
          <a:xfrm>
            <a:off x="495360" y="311040"/>
            <a:ext cx="803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b812f"/>
                </a:solidFill>
                <a:latin typeface="Arial"/>
              </a:rPr>
              <a:t>Анализ финансового состояния СПК "Тепличный" за 2016-2020 гг.</a:t>
            </a:r>
            <a:r>
              <a:rPr b="0" lang="en-US" sz="24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0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22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198" name="Объект 12"/>
          <p:cNvGraphicFramePr/>
          <p:nvPr/>
        </p:nvGraphicFramePr>
        <p:xfrm>
          <a:off x="495360" y="1271520"/>
          <a:ext cx="4676760" cy="20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Объект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271520"/>
                    <a:ext cx="467676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495360" y="3200400"/>
            <a:ext cx="455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инамика коэффициентов финансовой устойчивости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ПК "Тепличный" за 2016-2020 гг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02" name="Объект 13"/>
          <p:cNvGraphicFramePr/>
          <p:nvPr/>
        </p:nvGraphicFramePr>
        <p:xfrm>
          <a:off x="4211640" y="3549600"/>
          <a:ext cx="454824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Объект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3549600"/>
                    <a:ext cx="454824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4211640" y="5468760"/>
            <a:ext cx="454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инамика коэффициентов ликвидности и платежеспособности СПК "Тепличный" за 2016-2020 гг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Анализ финансового состояния СПК "Тепличный" за 2016-2020 гг. 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0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08" name="Объект 14"/>
          <p:cNvGraphicFramePr/>
          <p:nvPr/>
        </p:nvGraphicFramePr>
        <p:xfrm>
          <a:off x="457200" y="1150920"/>
          <a:ext cx="4714920" cy="25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Объект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50920"/>
                    <a:ext cx="471492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57200" y="3686040"/>
            <a:ext cx="399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инамика выручки и себестоимости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ПК "Тепличный« за 2016-2020 гг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12" name="Объект 3"/>
          <p:cNvGraphicFramePr/>
          <p:nvPr/>
        </p:nvGraphicFramePr>
        <p:xfrm>
          <a:off x="4678200" y="2940120"/>
          <a:ext cx="4008600" cy="24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Объект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78200" y="2940120"/>
                    <a:ext cx="4008600" cy="24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4678200" y="5467320"/>
            <a:ext cx="400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инамика показателей прибыли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ПК "Тепличный" за 2016-2020 гг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"/>
          <p:cNvSpPr/>
          <p:nvPr/>
        </p:nvSpPr>
        <p:spPr>
          <a:xfrm>
            <a:off x="495360" y="311040"/>
            <a:ext cx="803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Экспертное исследование наличия и эксплуатации основных средств субъекта агробизнеса в СПК "Тепличный"</a:t>
            </a:r>
            <a:r>
              <a:rPr b="0" lang="en-US" sz="24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0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75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"/>
          <p:cNvSpPr/>
          <p:nvPr/>
        </p:nvSpPr>
        <p:spPr>
          <a:xfrm>
            <a:off x="495360" y="1498680"/>
            <a:ext cx="82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ражение в учете операций по приобретению и амортизации оборудования СПК "Тепличный"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95360" y="1824120"/>
          <a:ext cx="8272440" cy="2270160"/>
        </p:xfrm>
        <a:graphic>
          <a:graphicData uri="http://schemas.openxmlformats.org/drawingml/2006/table">
            <a:tbl>
              <a:tblPr/>
              <a:tblGrid>
                <a:gridCol w="4829040"/>
                <a:gridCol w="1886040"/>
                <a:gridCol w="662040"/>
                <a:gridCol w="8953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Операц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Деб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Креди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Сумма,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Ноябрь 2020 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Приобретено оборудование (без НДС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783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Отражен НДС по приобретенному оборудовани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Оборудование принято к учету в качестве объекта основных средст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783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Стоимость доставки оборудования отнесена к общехозяйственным расхода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Отражен НДС по транспортным услуга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НДС по приобретенному оборудованию и транспортным расходам принят к выч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68 субсчет "Расчеты по НДС"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Декабрь 2020 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Начислена амортизация за декабрь 2020 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13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495360" y="4268880"/>
            <a:ext cx="82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рректирующие записи по отражению в учете операций по приобретению и амортизации оборудования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95360" y="4543560"/>
          <a:ext cx="8215200" cy="1596960"/>
        </p:xfrm>
        <a:graphic>
          <a:graphicData uri="http://schemas.openxmlformats.org/drawingml/2006/table">
            <a:tbl>
              <a:tblPr/>
              <a:tblGrid>
                <a:gridCol w="5937120"/>
                <a:gridCol w="720720"/>
                <a:gridCol w="655560"/>
                <a:gridCol w="901800"/>
              </a:tblGrid>
              <a:tr h="26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Операц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Деб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Креди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Сумма,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Сторнирована проводка по отнесению стоимости доставки оборудования в состав расходов по обычным видам деятель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Отражено увеличение фактических затрат по приобретению оборудования на сумму затрат, связанных с доставкой оборуд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Отражено увеличение первоначальной стоим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Скорректирована сумма амортизации за декабрь 2020 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3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(1665 – 130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Динамика основных средств СПК "Тепличный" </a:t>
            </a:r>
            <a:br>
              <a:rPr sz="2400"/>
            </a:b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за 2016-2020 гг.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70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64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33" name="Объект 15"/>
          <p:cNvGraphicFramePr/>
          <p:nvPr/>
        </p:nvGraphicFramePr>
        <p:xfrm>
          <a:off x="457200" y="1150920"/>
          <a:ext cx="8229600" cy="48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Объект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50920"/>
                    <a:ext cx="8229600" cy="48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31104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Динамика структуры основных средств СПК "Тепличный" за 2016-2020 гг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9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63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40" name="Объект 16"/>
          <p:cNvGraphicFramePr/>
          <p:nvPr/>
        </p:nvGraphicFramePr>
        <p:xfrm>
          <a:off x="1454040" y="1271520"/>
          <a:ext cx="5994360" cy="47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Объект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1271520"/>
                    <a:ext cx="5994360" cy="47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6T11:46:34Z</dcterms:created>
  <dc:creator>Mihaiylova.Y</dc:creator>
  <dc:description/>
  <dc:language>en-US</dc:language>
  <cp:lastModifiedBy>Пользователь Windows</cp:lastModifiedBy>
  <dcterms:modified xsi:type="dcterms:W3CDTF">2024-08-10T06:47:49Z</dcterms:modified>
  <cp:revision>81</cp:revision>
  <dc:subject/>
  <dc:title>Слайд 1</dc:title>
</cp:coreProperties>
</file>