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DE4-E8E3-4D1F-8D36-69C8676A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479-16F7-4C8D-9A86-83807C0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E21-2CEE-47F3-BC4B-0BD83282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147-632F-4C3D-9459-342B2693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707A-FD25-4B79-83AF-95860BA6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C3DA-9C42-4CC7-9CCD-DA2217C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5917-10E5-48C2-8834-F0A293FB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CE7D-3BEA-4463-AFF2-A4905EC9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3AC3-45D3-494E-8CD4-65E38AE2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9D2C-6B47-40D7-9085-0D195CC3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491-CD96-473B-9DDC-2EB4A2A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563-AE4B-46A5-B7C9-418715DE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3DE2-FF34-4CDD-B3BF-4507BD16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738F-C909-4C0A-A04A-B8B407A4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3131-4B96-4C06-85F0-16A96333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CE0F-6071-451E-A7C9-96F88427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70BC-E984-436B-B23D-FC81EAC4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34C-8556-4AE5-82EC-0907F6D5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B96-8237-4FE4-B3AA-F09254D0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2FC-B34B-43DA-AD3C-A0AFBFA3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ED6-1675-48F0-A44D-1D7D576F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A3B-F9D6-4218-A72A-139B45F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EA5-9862-4ADA-8271-14189463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170-28EF-486D-849A-59527792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5836-A6B3-443E-8796-DA1CBE5F4325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F9B4-2781-4734-865E-E1F22F345B2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BF12-31D7-467D-9BA4-BE45CC29CCBD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3A2-0219-4C15-8465-991EC19D3D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5960" y="2230560"/>
            <a:ext cx="784872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УПРАВЛЕНИЕ МОТИВАЦИЕЙ СОТРУДНИКОВ НА ПРЕДПРИЯТИЯХ ГОСТИНИЧНОГО БИЗНЕСА НА ПРИМЕРЕ ПАО ГК «КОСМОС»</a:t>
            </a: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Номер слайда 8"/>
          <p:cNvSpPr/>
          <p:nvPr/>
        </p:nvSpPr>
        <p:spPr>
          <a:xfrm>
            <a:off x="7808760" y="6237360"/>
            <a:ext cx="655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D3C0-0A10-4E2A-9E31-DF7200D1E3FF}" type="slidenum">
              <a:rPr b="0" lang="en-US" sz="1200" spc="-1" strike="noStrike">
                <a:solidFill>
                  <a:srgbClr val="0965a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679320" y="4029120"/>
            <a:ext cx="7848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9920">
              <a:lnSpc>
                <a:spcPts val="22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Обучающийся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9920">
              <a:lnSpc>
                <a:spcPts val="22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9920">
              <a:lnSpc>
                <a:spcPts val="22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9920">
              <a:lnSpc>
                <a:spcPts val="22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9920">
              <a:lnSpc>
                <a:spcPts val="22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Рецензент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9920">
              <a:lnSpc>
                <a:spcPts val="22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43164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ГОСУДАРСТВЕННОЕ ОБРАЗОВАТЕЛЬНОЕ ЧАСТНОЕ УЧРЕЖДЕНИЕ ВЫСШЕГО ОБРАЗОВАНИЯ «МОСКОВСКИЙ ФИНАНСОВО-ПРОМЫШЛЕННЫЙ УНИВЕРСИТЕТ «СИНЕРГИЯ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"/>
          <p:cNvSpPr/>
          <p:nvPr/>
        </p:nvSpPr>
        <p:spPr>
          <a:xfrm>
            <a:off x="3133800" y="579744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ва, 202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35240" y="2828880"/>
            <a:ext cx="63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8"/>
          <p:cNvSpPr/>
          <p:nvPr/>
        </p:nvSpPr>
        <p:spPr>
          <a:xfrm>
            <a:off x="7808760" y="6237360"/>
            <a:ext cx="655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D438-3B1E-4336-AA38-7965AFE85C76}" type="slidenum">
              <a:rPr b="0" lang="en-US" sz="1200" spc="-1" strike="noStrike">
                <a:solidFill>
                  <a:srgbClr val="0965a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"/>
          <p:cNvSpPr/>
          <p:nvPr/>
        </p:nvSpPr>
        <p:spPr>
          <a:xfrm>
            <a:off x="495360" y="3110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Вводная часть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"/>
          <p:cNvSpPr/>
          <p:nvPr/>
        </p:nvSpPr>
        <p:spPr>
          <a:xfrm>
            <a:off x="1117440" y="1276200"/>
            <a:ext cx="6691320" cy="3434040"/>
          </a:xfrm>
          <a:prstGeom prst="beve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тсутствие механизмов развития системы мотивации не позволяет предприятиям гостиничного сервиса негативному влиянию факторов и проблем макросреды, и решать практические проблемы. Ситуация осложняется недостаточностью научных исследований в области развития системы мотивации персонала, и демотивированностью сотрудников предприятий гостиничного сервиса в решении тактических и стратегических задач, которые ставит перед ними руководство. Это тормозит развитие предприятий гостиничного сервиса в целом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"/>
          <p:cNvSpPr/>
          <p:nvPr/>
        </p:nvSpPr>
        <p:spPr>
          <a:xfrm>
            <a:off x="1117440" y="4997520"/>
            <a:ext cx="669132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мпирическая баз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сследования представлена данными отчетности ПАО "ГК "Космос", результатами проведенных анкетных опросов, материалами периодических изданий, Интернет-ресурсов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Цель и задачи исследования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7200" y="1031760"/>
            <a:ext cx="8229600" cy="5043600"/>
            <a:chOff x="457200" y="1031760"/>
            <a:chExt cx="8229600" cy="5043600"/>
          </a:xfrm>
        </p:grpSpPr>
        <p:sp>
          <p:nvSpPr>
            <p:cNvPr id="97" name=""/>
            <p:cNvSpPr/>
            <p:nvPr/>
          </p:nvSpPr>
          <p:spPr>
            <a:xfrm>
              <a:off x="457200" y="1031760"/>
              <a:ext cx="8229600" cy="831600"/>
            </a:xfrm>
            <a:prstGeom prst="bevel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ЦЕЛЬ -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 обоснование и разработка рекомендаций по управлению мотивацией сотрудников предприятий гостиничного сервиса (на примере ПАО "ГК "Космос").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4440" y="2061360"/>
              <a:ext cx="7182360" cy="296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Раскрыть понятие, содержание и виды мотивации персонала</a:t>
              </a: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4440" y="2456640"/>
              <a:ext cx="7182360" cy="4942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зучить инновационные подходы к управлению мотивацией персонала</a:t>
              </a: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4440" y="3050280"/>
              <a:ext cx="7182360" cy="4942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ыявить особенности мотивации сотрудников на предприятиях гостиничного бизнеса</a:t>
              </a: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04440" y="3644280"/>
              <a:ext cx="7182360" cy="4942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оставить организационно-экономическую характеристику исследуемого предприятия</a:t>
              </a: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4440" y="4196160"/>
              <a:ext cx="7182360" cy="4942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овести анализ состава и структуры кадров ПАО "ГК "Космос"</a:t>
              </a: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04440" y="4789800"/>
              <a:ext cx="7182360" cy="296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оанализировать мотивацию сотрудников ПАО "ГК "Космос"</a:t>
              </a: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04440" y="5185440"/>
              <a:ext cx="7182360" cy="4942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Разработать современную технологию мотивации сотрудников предприятия</a:t>
              </a: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4440" y="5778720"/>
              <a:ext cx="7182360" cy="296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ценить эффективность предложенных рекомендаций</a:t>
              </a:r>
              <a:endParaRPr b="0" lang="en-US" sz="13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55520" y="1822680"/>
              <a:ext cx="0" cy="40546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5520" y="2218320"/>
              <a:ext cx="44856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55520" y="5877720"/>
              <a:ext cx="44856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5520" y="5482080"/>
              <a:ext cx="44856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55520" y="4987440"/>
              <a:ext cx="44856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55520" y="4394160"/>
              <a:ext cx="44856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55520" y="3899520"/>
              <a:ext cx="44856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55520" y="3306240"/>
              <a:ext cx="44856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55520" y="2712960"/>
              <a:ext cx="44856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Методы исследован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71320" y="1312920"/>
            <a:ext cx="8115120" cy="4914360"/>
            <a:chOff x="571320" y="1312920"/>
            <a:chExt cx="8115120" cy="4914360"/>
          </a:xfrm>
        </p:grpSpPr>
        <p:sp>
          <p:nvSpPr>
            <p:cNvPr id="117" name=""/>
            <p:cNvSpPr/>
            <p:nvPr/>
          </p:nvSpPr>
          <p:spPr>
            <a:xfrm>
              <a:off x="799560" y="1541520"/>
              <a:ext cx="2057400" cy="685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нализ и синтез, индукция и дедукция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4520" y="1541520"/>
              <a:ext cx="5371920" cy="6858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определения обоснования роли мотивации персонала в системе управления предприятием и выявление особенностей ее формирования на предприятиях гостиничного сервис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57320" y="1770120"/>
              <a:ext cx="457200" cy="342360"/>
            </a:xfrm>
            <a:prstGeom prst="rightArrow">
              <a:avLst>
                <a:gd name="adj1" fmla="val 50000"/>
                <a:gd name="adj2" fmla="val 3338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9560" y="2341440"/>
              <a:ext cx="2057400" cy="685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истемно-структурный анализ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57320" y="2455920"/>
              <a:ext cx="457200" cy="341280"/>
            </a:xfrm>
            <a:prstGeom prst="rightArrow">
              <a:avLst>
                <a:gd name="adj1" fmla="val 50000"/>
                <a:gd name="adj2" fmla="val 3349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4520" y="2341440"/>
              <a:ext cx="5371920" cy="6858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уточнения и упорядочения понятийного аппарата; метод анкетирования для анализа системы мотивации персонала ПАО "ГК "Космос"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9560" y="3141000"/>
              <a:ext cx="2057400" cy="3434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14520" y="3141000"/>
              <a:ext cx="5371920" cy="34344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анализа системы мотивации персонала ПАО "ГК "Космос"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57320" y="3141000"/>
              <a:ext cx="457200" cy="341280"/>
            </a:xfrm>
            <a:prstGeom prst="rightArrow">
              <a:avLst>
                <a:gd name="adj1" fmla="val 50000"/>
                <a:gd name="adj2" fmla="val 3349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9560" y="3598560"/>
              <a:ext cx="2057400" cy="570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общение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14520" y="3598560"/>
              <a:ext cx="5371920" cy="5706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установления проблем развития системы мотивации персонала предприятий гостиничного сервис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320" y="3713400"/>
              <a:ext cx="457200" cy="340200"/>
            </a:xfrm>
            <a:prstGeom prst="rightArrow">
              <a:avLst>
                <a:gd name="adj1" fmla="val 50000"/>
                <a:gd name="adj2" fmla="val 3359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560" y="4284360"/>
              <a:ext cx="2057400" cy="5709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лексный подход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14520" y="4284360"/>
              <a:ext cx="5371920" cy="5709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обоснования механизма развития системы мотивации персонала предприятий гостиничного сервис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57320" y="4399200"/>
              <a:ext cx="457200" cy="340200"/>
            </a:xfrm>
            <a:prstGeom prst="rightArrow">
              <a:avLst>
                <a:gd name="adj1" fmla="val 50000"/>
                <a:gd name="adj2" fmla="val 3359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9560" y="4970520"/>
              <a:ext cx="2057400" cy="685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руктурно-функциональный подход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4520" y="4970520"/>
              <a:ext cx="5371920" cy="6858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определения и отбора факторов развития системы мотивации персонала предприятий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7320" y="5084280"/>
              <a:ext cx="457200" cy="339840"/>
            </a:xfrm>
            <a:prstGeom prst="rightArrow">
              <a:avLst>
                <a:gd name="adj1" fmla="val 50000"/>
                <a:gd name="adj2" fmla="val 33633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9560" y="5770080"/>
              <a:ext cx="20574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спертная оценк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4520" y="5770080"/>
              <a:ext cx="5371920" cy="457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оценки эффективности предложенных рекомендаций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57320" y="5883840"/>
              <a:ext cx="457200" cy="339840"/>
            </a:xfrm>
            <a:prstGeom prst="rightArrow">
              <a:avLst>
                <a:gd name="adj1" fmla="val 50000"/>
                <a:gd name="adj2" fmla="val 33633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320" y="1312920"/>
              <a:ext cx="0" cy="457092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320" y="5883840"/>
              <a:ext cx="22824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320" y="1770120"/>
              <a:ext cx="228240" cy="10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320" y="2683800"/>
              <a:ext cx="228240" cy="10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320" y="3369600"/>
              <a:ext cx="228240" cy="10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320" y="3940920"/>
              <a:ext cx="228240" cy="10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320" y="4512960"/>
              <a:ext cx="228240" cy="10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1320" y="5198040"/>
              <a:ext cx="228240" cy="72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855720"/>
            <a:ext cx="8229600" cy="457200"/>
          </a:xfrm>
          <a:prstGeom prst="beve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МЕТОДЫ ИССЛЕДОВАНИЯ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"/>
          <p:cNvSpPr/>
          <p:nvPr/>
        </p:nvSpPr>
        <p:spPr>
          <a:xfrm>
            <a:off x="495360" y="311040"/>
            <a:ext cx="80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Анализ движения персонала ПАО "ГК "Космос"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0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"/>
          <p:cNvSpPr/>
          <p:nvPr/>
        </p:nvSpPr>
        <p:spPr>
          <a:xfrm>
            <a:off x="495360" y="3200400"/>
            <a:ext cx="41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намика абсолютных показателей движения персонала ПАО "ГК "Космос" за 2017-2019 гг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"/>
          <p:cNvSpPr/>
          <p:nvPr/>
        </p:nvSpPr>
        <p:spPr>
          <a:xfrm>
            <a:off x="4211640" y="5468760"/>
            <a:ext cx="454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намика относительных показателей движения персонала ПАО "ГК "Космос" за 2017-2019 гг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35120" y="1101600"/>
          <a:ext cx="347652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101600"/>
                    <a:ext cx="34765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22760" y="2589120"/>
          <a:ext cx="3905280" cy="259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2760" y="2589120"/>
                    <a:ext cx="390528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Анализ мотивации сотрудников ПАО "ГК "Космос"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-23184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911160"/>
            <a:ext cx="8070840" cy="5275440"/>
            <a:chOff x="457200" y="911160"/>
            <a:chExt cx="8070840" cy="5275440"/>
          </a:xfrm>
        </p:grpSpPr>
        <p:sp>
          <p:nvSpPr>
            <p:cNvPr id="172" name=""/>
            <p:cNvSpPr/>
            <p:nvPr/>
          </p:nvSpPr>
          <p:spPr>
            <a:xfrm>
              <a:off x="2108160" y="911160"/>
              <a:ext cx="4938840" cy="366840"/>
            </a:xfrm>
            <a:prstGeom prst="rect">
              <a:avLst/>
            </a:prstGeom>
            <a:solidFill>
              <a:srgbClr val="3b81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ОМПЕНСАЦИОННЫЙ ПАКЕТ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1403280"/>
              <a:ext cx="1531800" cy="479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Материальная часть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120760"/>
              <a:ext cx="1531800" cy="406584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остоянная: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базовая зарплата – должностной оклад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доплата к отпуску – для всех категорий сотрудников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ремия ко дню рождения.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еременная: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для всех категорий сотрудников: премии.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95360" y="1403280"/>
              <a:ext cx="4853160" cy="479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оциальная часть 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в соответствии с законодательством РФ)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3840" y="2120760"/>
              <a:ext cx="4853160" cy="406584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сновная: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оплачиваемые отпуска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оплачиваемые больничные листы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особия в связи с беременностью и родами, одноразовое пособие при рождении ребенка.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ополнительные льготы: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медицинское страхование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редоставление служебного автомобиля – только тем сотрудникам, чья профессиональная деятельность связана с частыми поездками (например, сотрудникам хозяйственной службы)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редоставление мобильных телефонов – только тем сотрудникам, чья профессиональная деятельность связана с переговорными процессами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редоставление беспроцентных кредитов и ссуд – сотрудникам, со стажем работы более 3 лет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редоставление дополнительного выходного дня – сотрудникам, со стажем работы свыше 1 года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введение системы сдвинутого графика работы (возможность в течение недели/месяца свободно распоряжаться своим рабочим временем, что дает возможность решить свои бытовые проблемы, снимает проблему скрытой потери рабочего времени)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учеба и повышение квалификации за счет предприятия – для сотрудников со стажем работы свыше 1 года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оплата "сверхурочного" времени или предоставление выходных дней (по желанию) для отдельных категорий сотрудников (официанты, обслуживающие поздние банкеты, повара).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99280" y="1403280"/>
              <a:ext cx="1328760" cy="479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Имиджевая часть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99280" y="2120760"/>
              <a:ext cx="1328760" cy="406584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риоритет при занятии вакантных должностей – по результатам аттестации для всех категорий сотрудников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награждение фирменным значком – для сотрудников со стажем работы свыше 1 года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одарки к праздникам (Новый год, 8 марта, День рождения)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роведение корпоративных мероприятий.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223640" y="1284120"/>
              <a:ext cx="91908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47000" y="1284120"/>
              <a:ext cx="10731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94320" y="1284120"/>
              <a:ext cx="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24000" y="18828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4320" y="18828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66080" y="18828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"/>
          <p:cNvSpPr/>
          <p:nvPr/>
        </p:nvSpPr>
        <p:spPr>
          <a:xfrm>
            <a:off x="495360" y="311040"/>
            <a:ext cx="80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Анализ эффективности мотивационной системы ПАО "ГК "Космос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0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410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95360" y="1397160"/>
          <a:ext cx="8272440" cy="3724200"/>
        </p:xfrm>
        <a:graphic>
          <a:graphicData uri="http://schemas.openxmlformats.org/drawingml/2006/table">
            <a:tbl>
              <a:tblPr/>
              <a:tblGrid>
                <a:gridCol w="6114960"/>
                <a:gridCol w="1079640"/>
                <a:gridCol w="1077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ОКИ АНКЕТ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ов "Д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ов "Не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ыявление степени удовлетворенности первичных потребностей работников ПАО "ГК "Космос" (8 вопросов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пределение эффективности управления трудовыми ресурсами ПАО "ГК "Космос" (8 вопросов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требность в общении у сотрудников ПАО "ГК "Космос" (11 вопросов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тремление к построению карьеры у сотрудников ПАО "ГК "Космос" (4 вопрос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отребности работников ПАО "ГК "Космос" в самореализации и раскрытии собственных возможностей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8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ов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Процесс управления системой мотивации персонала предприятий гостиничного сервиса с учетом профессионально-квалификационных критериев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0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64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15960" y="1460520"/>
            <a:ext cx="7912080" cy="4675320"/>
            <a:chOff x="615960" y="1460520"/>
            <a:chExt cx="7912080" cy="4675320"/>
          </a:xfrm>
        </p:grpSpPr>
        <p:sp>
          <p:nvSpPr>
            <p:cNvPr id="202" name=""/>
            <p:cNvSpPr/>
            <p:nvPr/>
          </p:nvSpPr>
          <p:spPr>
            <a:xfrm>
              <a:off x="615960" y="1460520"/>
              <a:ext cx="2388240" cy="63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балансирование с процессом развития персонал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03000" y="1460520"/>
              <a:ext cx="2388240" cy="63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недрение механизма развития системы мотивации персонал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90040" y="1460520"/>
              <a:ext cx="2388240" cy="63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балансирование с процессом планирования персонал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03000" y="2345760"/>
              <a:ext cx="2388240" cy="631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балансирование с процессом стимулирования персонал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5960" y="2345760"/>
              <a:ext cx="2388240" cy="631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еспечение предприятия кадрами необходимой квалификации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90040" y="2345760"/>
              <a:ext cx="2388240" cy="631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недрение норм труда, оптимизация численности персонал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03000" y="3230280"/>
              <a:ext cx="2388240" cy="505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ормирование расходов на оплату труда персонала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55160" y="3988440"/>
              <a:ext cx="3284280" cy="505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тимизация процессов по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5960" y="4619520"/>
              <a:ext cx="2388240" cy="757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фессионально-квалификационному уровню персонала и степени его развития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03000" y="4619520"/>
              <a:ext cx="2388240" cy="757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основанности уровня оплаты труда при изменении основных исходных показателей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90040" y="4619520"/>
              <a:ext cx="2388240" cy="757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тепени выполнения персоналом нормированных задач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5960" y="5630400"/>
              <a:ext cx="7912080" cy="5054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вышение уровня мотивации персонала = развитие системы мотивации персонала = улучшение исходных показателей = развитие предприятия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91600" y="184032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003840" y="184032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97120" y="2092680"/>
              <a:ext cx="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60680" y="2092680"/>
              <a:ext cx="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33560" y="2092680"/>
              <a:ext cx="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4594320" y="2144880"/>
              <a:ext cx="252360" cy="3433320"/>
            </a:xfrm>
            <a:custGeom>
              <a:avLst/>
              <a:gdLst>
                <a:gd name="textAreaLeft" fmla="*/ 0 w 252360"/>
                <a:gd name="textAreaRight" fmla="*/ 91080 w 252360"/>
                <a:gd name="textAreaTop" fmla="*/ 89280 h 3433320"/>
                <a:gd name="textAreaBottom" fmla="*/ 3344040 h 34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437880" y="2977200"/>
              <a:ext cx="298440" cy="75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2705400" y="2977200"/>
              <a:ext cx="298440" cy="75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139080" y="2977200"/>
              <a:ext cx="1641960" cy="1263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1810080" y="2977200"/>
              <a:ext cx="1044720" cy="1263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9440" y="4240440"/>
              <a:ext cx="1194120" cy="37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959120" y="4240440"/>
              <a:ext cx="895320" cy="37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4370760" y="2816640"/>
              <a:ext cx="252720" cy="5374080"/>
            </a:xfrm>
            <a:custGeom>
              <a:avLst/>
              <a:gdLst>
                <a:gd name="textAreaLeft" fmla="*/ 0 w 252720"/>
                <a:gd name="textAreaRight" fmla="*/ 91080 w 252720"/>
                <a:gd name="textAreaTop" fmla="*/ 140040 h 5374080"/>
                <a:gd name="textAreaBottom" fmla="*/ 5234040 h 537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7120" y="5377680"/>
              <a:ext cx="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Социально-экономическая эффективность рекомендаци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431200" cy="1816200"/>
        </p:xfrm>
        <a:graphic>
          <a:graphicData uri="http://schemas.openxmlformats.org/drawingml/2006/table">
            <a:tbl>
              <a:tblPr/>
              <a:tblGrid>
                <a:gridCol w="1289160"/>
                <a:gridCol w="892080"/>
                <a:gridCol w="893880"/>
                <a:gridCol w="888840"/>
                <a:gridCol w="892080"/>
                <a:gridCol w="893880"/>
                <a:gridCol w="895320"/>
                <a:gridCol w="893880"/>
                <a:gridCol w="8920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жир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ядковый номер экспер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457200" y="1150920"/>
            <a:ext cx="66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ы экспертного ранжирования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416400"/>
            <a:ext cx="66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согласованного ранжирования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3782880"/>
          <a:ext cx="8431200" cy="1862280"/>
        </p:xfrm>
        <a:graphic>
          <a:graphicData uri="http://schemas.openxmlformats.org/drawingml/2006/table">
            <a:tbl>
              <a:tblPr/>
              <a:tblGrid>
                <a:gridCol w="1290600"/>
                <a:gridCol w="890640"/>
                <a:gridCol w="890640"/>
                <a:gridCol w="892080"/>
                <a:gridCol w="890640"/>
                <a:gridCol w="895320"/>
                <a:gridCol w="895320"/>
                <a:gridCol w="890640"/>
                <a:gridCol w="89532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жир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экспер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ов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н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13200" y="5645160"/>
            <a:ext cx="31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W = 0,6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11:46:34Z</dcterms:created>
  <dc:creator>Mihaiylova.Y</dc:creator>
  <dc:description/>
  <dc:language>en-US</dc:language>
  <cp:lastModifiedBy>Пользователь Windows</cp:lastModifiedBy>
  <dcterms:modified xsi:type="dcterms:W3CDTF">2024-08-08T10:43:48Z</dcterms:modified>
  <cp:revision>93</cp:revision>
  <dc:subject/>
  <dc:title>Слайд 1</dc:title>
</cp:coreProperties>
</file>