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7.png" ContentType="image/png"/>
  <Override PartName="/ppt/media/image9.png" ContentType="image/pn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1AE-F8B4-4ACC-BB56-8018781B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E83-969C-4AA1-9848-2B5F0810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913-FE9D-48A3-BD0F-B72C6944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C31-B51A-4D0D-A908-C2DCE105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FFE-CE2E-4451-8F61-90217FD4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0D3-C0C0-472D-A48B-0DB7D479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83B-D4AE-421C-B35F-77E809F5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9C5-0BBF-409D-BFBB-9096EBB1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BCD-A618-46C9-B2DC-DF92C4B3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97B-C847-491F-965F-BDC03F4A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715-BE31-4EF9-ADA8-536D8EED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F81-3720-41E2-8FF2-BD96CB60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1214280" y="500040"/>
            <a:ext cx="1495440" cy="544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"/>
          <p:cNvPicPr/>
          <p:nvPr/>
        </p:nvPicPr>
        <p:blipFill>
          <a:blip r:embed="rId3"/>
          <a:stretch/>
        </p:blipFill>
        <p:spPr>
          <a:xfrm>
            <a:off x="6715080" y="428760"/>
            <a:ext cx="1952640" cy="3045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5" descr=""/>
          <p:cNvPicPr/>
          <p:nvPr/>
        </p:nvPicPr>
        <p:blipFill>
          <a:blip r:embed="rId4"/>
          <a:stretch/>
        </p:blipFill>
        <p:spPr>
          <a:xfrm>
            <a:off x="428760" y="571680"/>
            <a:ext cx="642960" cy="1042920"/>
          </a:xfrm>
          <a:prstGeom prst="rect">
            <a:avLst/>
          </a:prstGeom>
          <a:ln w="0">
            <a:noFill/>
          </a:ln>
        </p:spPr>
      </p:pic>
      <p:sp>
        <p:nvSpPr>
          <p:cNvPr id="3" name="Прямая соединительная линия 16"/>
          <p:cNvSpPr/>
          <p:nvPr/>
        </p:nvSpPr>
        <p:spPr>
          <a:xfrm>
            <a:off x="1143000" y="1571760"/>
            <a:ext cx="692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3240" y="214200"/>
            <a:ext cx="9099360" cy="6429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5727-98B0-42BA-9C36-29721D09CB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3240" y="214200"/>
            <a:ext cx="9099360" cy="642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466560" y="428760"/>
            <a:ext cx="7724880" cy="10126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logo_ranepa.jpg"/>
          <p:cNvPicPr/>
          <p:nvPr/>
        </p:nvPicPr>
        <p:blipFill>
          <a:blip r:embed="rId3"/>
          <a:stretch/>
        </p:blipFill>
        <p:spPr>
          <a:xfrm>
            <a:off x="428760" y="357120"/>
            <a:ext cx="3189240" cy="100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4"/>
          <a:stretch/>
        </p:blipFill>
        <p:spPr>
          <a:xfrm>
            <a:off x="1643040" y="1928880"/>
            <a:ext cx="7096320" cy="865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466560" y="428760"/>
            <a:ext cx="7724880" cy="1012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571680" y="1500120"/>
            <a:ext cx="7162560" cy="771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466560" y="428760"/>
            <a:ext cx="7724880" cy="1012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3"/>
          <a:stretch/>
        </p:blipFill>
        <p:spPr>
          <a:xfrm>
            <a:off x="571680" y="1500120"/>
            <a:ext cx="7162560" cy="7714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1214280" y="500040"/>
            <a:ext cx="1495440" cy="544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6715080" y="428760"/>
            <a:ext cx="1952640" cy="304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4"/>
          <a:stretch/>
        </p:blipFill>
        <p:spPr>
          <a:xfrm>
            <a:off x="428760" y="571680"/>
            <a:ext cx="642960" cy="104292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ая соединительная линия 16"/>
          <p:cNvSpPr/>
          <p:nvPr/>
        </p:nvSpPr>
        <p:spPr>
          <a:xfrm>
            <a:off x="1143000" y="1571760"/>
            <a:ext cx="692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1143000" y="2714760"/>
            <a:ext cx="71438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формляется шрифтом 14 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p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1100160" y="1928880"/>
            <a:ext cx="691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кст Текст Текст Текст Текст Текст Текст Текст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кст Текст Текст Текст Тек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кст Текст Текст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кст Текст Текст Текст Текст Текст Текст Текст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кст Текст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кст Текст Текст Текст Текст Текст Текст Текст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формляется шрифтом 14 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p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1214280" y="500040"/>
            <a:ext cx="1495440" cy="544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3"/>
          <a:stretch/>
        </p:blipFill>
        <p:spPr>
          <a:xfrm>
            <a:off x="6715080" y="428760"/>
            <a:ext cx="1952640" cy="304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"/>
          <p:cNvPicPr/>
          <p:nvPr/>
        </p:nvPicPr>
        <p:blipFill>
          <a:blip r:embed="rId4"/>
          <a:stretch/>
        </p:blipFill>
        <p:spPr>
          <a:xfrm>
            <a:off x="428760" y="571680"/>
            <a:ext cx="642960" cy="104292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ая соединительная линия 16"/>
          <p:cNvSpPr/>
          <p:nvPr/>
        </p:nvSpPr>
        <p:spPr>
          <a:xfrm>
            <a:off x="1143000" y="1571760"/>
            <a:ext cx="692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5"/>
          <a:stretch/>
        </p:blipFill>
        <p:spPr>
          <a:xfrm>
            <a:off x="857160" y="1928880"/>
            <a:ext cx="2600280" cy="34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1214280" y="500040"/>
            <a:ext cx="1495440" cy="544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"/>
          <p:cNvPicPr/>
          <p:nvPr/>
        </p:nvPicPr>
        <p:blipFill>
          <a:blip r:embed="rId3"/>
          <a:stretch/>
        </p:blipFill>
        <p:spPr>
          <a:xfrm>
            <a:off x="6715080" y="428760"/>
            <a:ext cx="1952640" cy="304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4"/>
          <a:stretch/>
        </p:blipFill>
        <p:spPr>
          <a:xfrm>
            <a:off x="428760" y="571680"/>
            <a:ext cx="642960" cy="104292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ая соединительная линия 16"/>
          <p:cNvSpPr/>
          <p:nvPr/>
        </p:nvSpPr>
        <p:spPr>
          <a:xfrm>
            <a:off x="1143000" y="1571760"/>
            <a:ext cx="692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5"/>
          <a:stretch/>
        </p:blipFill>
        <p:spPr>
          <a:xfrm>
            <a:off x="1143000" y="1857240"/>
            <a:ext cx="6905520" cy="392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1214280" y="500040"/>
            <a:ext cx="1495440" cy="544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"/>
          <p:cNvPicPr/>
          <p:nvPr/>
        </p:nvPicPr>
        <p:blipFill>
          <a:blip r:embed="rId3"/>
          <a:stretch/>
        </p:blipFill>
        <p:spPr>
          <a:xfrm>
            <a:off x="6715080" y="428760"/>
            <a:ext cx="1952640" cy="304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"/>
          <p:cNvPicPr/>
          <p:nvPr/>
        </p:nvPicPr>
        <p:blipFill>
          <a:blip r:embed="rId4"/>
          <a:stretch/>
        </p:blipFill>
        <p:spPr>
          <a:xfrm>
            <a:off x="428760" y="571680"/>
            <a:ext cx="642960" cy="104292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ая соединительная линия 16"/>
          <p:cNvSpPr/>
          <p:nvPr/>
        </p:nvSpPr>
        <p:spPr>
          <a:xfrm>
            <a:off x="1143000" y="1571760"/>
            <a:ext cx="692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5"/>
          <a:stretch/>
        </p:blipFill>
        <p:spPr>
          <a:xfrm>
            <a:off x="857160" y="1714680"/>
            <a:ext cx="3162240" cy="37051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ftr" idx="4"/>
          </p:nvPr>
        </p:nvSpPr>
        <p:spPr>
          <a:xfrm>
            <a:off x="1214280" y="1143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АБЛ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042920" y="2852640"/>
            <a:ext cx="748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УСКНАЯ КВАЛИФИКАЦИОН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«Формирование и реализация механизма обеспечения финансово-бюджетной самостоятельности муниципальных образований (на примере Городищенского городского поселения Волгоград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148360" y="450864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: студентка группы 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48000" y="587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гоград 202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11280" y="155736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комендации по повышению финансовой самостоятельности муниципальных образова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4360" y="263700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ый подход к формированию и реализации стратегии развития муниципальных образований должен включать два основных бло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ка стратегии развития муниципальных образован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Определение цели и задач стратегии их развития; мониторинг управления финансовыми ресурсами местных бюджетов; формирование альтернативных стратегий развития муниципальных образов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Реализация стратегии развития муниципальных образований: обоснование выбора альтернативной стратегии развития муниципальных образований; контроль и корректировка реализации стратегии их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900000" y="1628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ЛЬ И ЗАДАЧИ В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84360" y="2276640"/>
            <a:ext cx="79214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Цель ВК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ключается в развитии теоретических положений финансово-бюджетной состоятельности муниципальных образований и разработка механизма ее обеспечения в условиях трансформации межбюджетного регулирования, повышение финансовой самостоятельности и совершенствование бюджетного планирования на муниципальном уров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3"/>
          <p:cNvSpPr/>
          <p:nvPr/>
        </p:nvSpPr>
        <p:spPr>
          <a:xfrm>
            <a:off x="826920" y="3645000"/>
            <a:ext cx="7929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состояние муниципальных финансов как основа деятельности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возможности адаптации в России зарубежного опыта управления финансово-бюджетной состоятельностью муниципальных образо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ть механизм обеспечения финансово-бюджетной состоятельности на муниципальном уров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количественную оценку факторов обеспечения финансово-бюджетной состоятельности муниципальных образован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финансовое положение муниципальных образований и измерение риска их финансово-бюджетной несосто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ить рекомендации по оценке и повышению финансовой самостоятельности муниципальных образ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900000" y="1628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МЕТ И ОБЪЕКТ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55640" y="2565360"/>
            <a:ext cx="79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бъектом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ются муниципальные финансы Городищенского городского поселения Волгоградской област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Предмет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кономические отношения, возникающие в процессе формирования механизма обеспечения финансово-бюджетной самостоятельности муниципальных образо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00000" y="1700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собенности понятия "муниципальные финансы"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187280" y="3182760"/>
            <a:ext cx="6769080" cy="2263680"/>
            <a:chOff x="1187280" y="3182760"/>
            <a:chExt cx="6769080" cy="2263680"/>
          </a:xfrm>
        </p:grpSpPr>
        <p:sp>
          <p:nvSpPr>
            <p:cNvPr id="421" name=""/>
            <p:cNvSpPr/>
            <p:nvPr/>
          </p:nvSpPr>
          <p:spPr>
            <a:xfrm>
              <a:off x="1187280" y="3594240"/>
              <a:ext cx="2166120" cy="18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Times New Roman"/>
                </a:rPr>
                <a:t>Муниципальные финансы являются системой экономических отношений, связанных с распределением и перераспределением стоимости ВВ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24120" y="3594240"/>
              <a:ext cx="2256480" cy="18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Times New Roman"/>
                </a:rPr>
                <a:t>В процессе осуществления экономических отношений происходит формирование, распределение и использование финансовых ресурс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61320" y="3594240"/>
              <a:ext cx="1895040" cy="18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33"/>
                  </a:solidFill>
                  <a:latin typeface="Arial"/>
                  <a:ea typeface="Times New Roman"/>
                </a:rPr>
                <a:t>Муниципальные финансы обеспечивают органы местного самоуправления финансовыми ресурсами для выполнения их зада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457640" y="3182760"/>
              <a:ext cx="21661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07360" y="3182760"/>
              <a:ext cx="108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519520" y="3182760"/>
              <a:ext cx="180504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187280" y="2565360"/>
            <a:ext cx="6769440" cy="5763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УНИЦИПАЛЬНЫЕ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83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84360" y="1557360"/>
            <a:ext cx="669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личественная оценка факторов обеспечения финансово-бюджетной состоятельности муниципальных образовани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22440" y="2155680"/>
            <a:ext cx="306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22440" y="2155680"/>
            <a:ext cx="306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22440" y="2155680"/>
            <a:ext cx="306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522440" y="2155680"/>
            <a:ext cx="306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5280" y="2492280"/>
            <a:ext cx="3024360" cy="42310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Коэффициенты оценки обеспечения финансово-бюджетной состоятельности муниципального образ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Доходы на душу насел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Коэффициент концентрации налоговых поступлений в местный бюдж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 Коэффициент концентрации неналоговых поступлений в местный бюдж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 Уровень межбюджетных трансфер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635280" y="2492280"/>
            <a:ext cx="511344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кольку показатели, характеризующих финансово-бюджетную состоятельность муниципального образования имеют разное влияние, то расчета интегрального показателя необходимо использовать формулу среднеарифметической взвешенной, которая предусматривает предоставление каждому показателю определенного уровня значим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4797360"/>
                <a:ext cx="33116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ФБС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4360" y="1484280"/>
            <a:ext cx="72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намика уровня обеспечения финансово-бюджетной состоятельности Городищенского городского поселения за 2016-2018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19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0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763640" y="2637000"/>
          <a:ext cx="5456160" cy="276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637000"/>
                    <a:ext cx="5456160" cy="27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539640" y="148428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мерение риска финансово-бюджетной несостоятельности Городищенского городского посе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234936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оценки риска финансово-бюджетной несостоятельности Городищенского городского поселения за 2016-2018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490760" y="2351160"/>
            <a:ext cx="644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90760" y="2351160"/>
            <a:ext cx="46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90760" y="2351160"/>
            <a:ext cx="46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90760" y="2351160"/>
            <a:ext cx="46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684360" y="3213000"/>
          <a:ext cx="7920000" cy="2408400"/>
        </p:xfrm>
        <a:graphic>
          <a:graphicData uri="http://schemas.openxmlformats.org/drawingml/2006/table">
            <a:tbl>
              <a:tblPr/>
              <a:tblGrid>
                <a:gridCol w="796680"/>
                <a:gridCol w="642960"/>
                <a:gridCol w="576360"/>
                <a:gridCol w="647640"/>
                <a:gridCol w="576360"/>
                <a:gridCol w="576360"/>
                <a:gridCol w="576000"/>
                <a:gridCol w="731880"/>
                <a:gridCol w="2795760"/>
              </a:tblGrid>
              <a:tr h="1067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финансово-бюджетной устойчив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к финансово-бюджетной несосто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3419640" y="4365720"/>
                <a:ext cx="32688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ФБУ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995640" y="4365720"/>
                <a:ext cx="3272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ФБУ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572000" y="4365720"/>
                <a:ext cx="32688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ФБУ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5148360" y="3500280"/>
                <a:ext cx="51120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ФБУ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60" name="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7020000" y="3789360"/>
                <a:ext cx="3427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ФБ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11280" y="1557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комендации по оценке финансовой самостоятельности муниципальных образ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57200" y="2565360"/>
          <a:ext cx="8229600" cy="4073400"/>
        </p:xfrm>
        <a:graphic>
          <a:graphicData uri="http://schemas.openxmlformats.org/drawingml/2006/table">
            <a:tbl>
              <a:tblPr/>
              <a:tblGrid>
                <a:gridCol w="2220840"/>
                <a:gridCol w="709560"/>
                <a:gridCol w="1014480"/>
                <a:gridCol w="1144800"/>
                <a:gridCol w="907920"/>
                <a:gridCol w="2232000"/>
              </a:tblGrid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роста финансово-бюджетной состоятельности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1-0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9-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9-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1-0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о-бюджетная самостоятельность муниципального образовани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I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БС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11280" y="1484280"/>
            <a:ext cx="7129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Расчет уровня роста финансово-бюджетной состоятельности Городищенского городского поселения за период 2016-2018 гг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9400" y="2897280"/>
            <a:ext cx="15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826920" y="2781360"/>
          <a:ext cx="7704000" cy="2807640"/>
        </p:xfrm>
        <a:graphic>
          <a:graphicData uri="http://schemas.openxmlformats.org/drawingml/2006/table">
            <a:tbl>
              <a:tblPr/>
              <a:tblGrid>
                <a:gridCol w="1926720"/>
                <a:gridCol w="1923480"/>
                <a:gridCol w="1922760"/>
                <a:gridCol w="1931040"/>
              </a:tblGrid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1547640" y="3645000"/>
                <a:ext cx="503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ФБС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07:33:56Z</dcterms:created>
  <dc:creator>kulakovao</dc:creator>
  <dc:description/>
  <dc:language>en-US</dc:language>
  <cp:lastModifiedBy>Пользователь Windows</cp:lastModifiedBy>
  <dcterms:modified xsi:type="dcterms:W3CDTF">2024-08-07T17:52:23Z</dcterms:modified>
  <cp:revision>227</cp:revision>
  <dc:subject/>
  <dc:title>Слайд 1</dc:title>
</cp:coreProperties>
</file>