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1F1-6C0B-4C53-99D7-D523FB95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9BC-AAFF-4DF6-B74C-9909FF8C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656-A7DB-4272-B2F4-00FE7B11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87E-2816-4392-A23B-CA92B92A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7D68-F7AF-42F7-BEC2-8BCB1698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CA22-1E9A-461E-9520-F8B9E66E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5CF0-11B4-44F7-8396-2E550CCB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0007-A8FF-45AF-97E3-F77BEA05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7C1F-AA8F-4F65-8B86-61F31E5C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9694-9342-4A48-BA56-A11AEA81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BDE1-C976-42FA-B61D-4F5E5E2A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BE5-5FCD-48DF-B1E4-B13FE279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234B-AEAF-4B22-AAE5-1FB6A67E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24A3-14E4-4371-BF9E-3DD0CD84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E09D-4A12-464D-896B-EE58BF55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D001-0312-4670-904F-F0364007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10F0-6334-44F3-8058-02DA1B8C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AD2-EFF2-41AA-BB51-71CA395A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B1C-AC3F-497D-9B0B-74FCC656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BDC-A870-42FC-9AC4-9E812613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369-8E82-451E-A185-62053069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4CF-F9E1-41F9-80F4-9667CA57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6B3-8766-44E8-88B2-47302745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890-61C2-4469-B892-9932526D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8046-AD56-46BE-B1A5-8FCB184E5A9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0EE6-B1BC-406C-8897-51632844869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ВАЖНОСТЬ РОДИТЕЛЬСКОЙ РОЛИ ДЛЯ ВЫБОРА ДЕТЬМИ ПРОФЕССИИ ПРЕДПРИНИМАТЕЛЯ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Доклад оконче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Цель и задачи исследо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268280"/>
            <a:ext cx="856908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ль 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следование научно-методических основ форм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функционирования семейного предпринимательства и важ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дительской роли для выбора детьми профессии предприним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2349360"/>
            <a:ext cx="7848360" cy="432000"/>
          </a:xfrm>
          <a:prstGeom prst="rect">
            <a:avLst/>
          </a:prstGeom>
          <a:solidFill>
            <a:srgbClr val="ffffff"/>
          </a:solidFill>
          <a:ln w="63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крыть экономическое содержание и функции семей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2924280"/>
            <a:ext cx="7848360" cy="431640"/>
          </a:xfrm>
          <a:prstGeom prst="rect">
            <a:avLst/>
          </a:prstGeom>
          <a:solidFill>
            <a:srgbClr val="ffffff"/>
          </a:solidFill>
          <a:ln w="63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явить особенности развития и управления предприятиями семей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3500280"/>
            <a:ext cx="7848360" cy="505080"/>
          </a:xfrm>
          <a:prstGeom prst="rect">
            <a:avLst/>
          </a:prstGeom>
          <a:solidFill>
            <a:srgbClr val="ffffff"/>
          </a:solidFill>
          <a:ln w="63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учить мировые и отечественные тенденции развития предприя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емей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4149720"/>
            <a:ext cx="7848360" cy="504720"/>
          </a:xfrm>
          <a:prstGeom prst="rect">
            <a:avLst/>
          </a:prstGeom>
          <a:solidFill>
            <a:srgbClr val="ffffff"/>
          </a:solidFill>
          <a:ln w="63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следовать сущность СЖР о профессиональном самоопредел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4797360"/>
            <a:ext cx="7848360" cy="576360"/>
          </a:xfrm>
          <a:prstGeom prst="rect">
            <a:avLst/>
          </a:prstGeom>
          <a:solidFill>
            <a:srgbClr val="ffffff"/>
          </a:solidFill>
          <a:ln w="63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сновать важность родительского фактора в объяснен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и карьер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5516640"/>
            <a:ext cx="7848360" cy="576360"/>
          </a:xfrm>
          <a:prstGeom prst="rect">
            <a:avLst/>
          </a:prstGeom>
          <a:solidFill>
            <a:srgbClr val="ffffff"/>
          </a:solidFill>
          <a:ln w="63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работать психологическую модель по выявлению личностной готов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бенка к принятию СЖР по выбору профессии предпринима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2205000"/>
            <a:ext cx="0" cy="3672000"/>
          </a:xfrm>
          <a:prstGeom prst="line">
            <a:avLst/>
          </a:prstGeom>
          <a:ln w="63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2492280"/>
            <a:ext cx="503280" cy="0"/>
          </a:xfrm>
          <a:prstGeom prst="line">
            <a:avLst/>
          </a:prstGeom>
          <a:ln w="63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877000"/>
            <a:ext cx="503280" cy="0"/>
          </a:xfrm>
          <a:prstGeom prst="line">
            <a:avLst/>
          </a:prstGeom>
          <a:ln w="63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3068640"/>
            <a:ext cx="503280" cy="0"/>
          </a:xfrm>
          <a:prstGeom prst="line">
            <a:avLst/>
          </a:prstGeom>
          <a:ln w="63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3716280"/>
            <a:ext cx="503280" cy="0"/>
          </a:xfrm>
          <a:prstGeom prst="line">
            <a:avLst/>
          </a:prstGeom>
          <a:ln w="63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4437000"/>
            <a:ext cx="503280" cy="0"/>
          </a:xfrm>
          <a:prstGeom prst="line">
            <a:avLst/>
          </a:prstGeom>
          <a:ln w="63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5157720"/>
            <a:ext cx="503280" cy="0"/>
          </a:xfrm>
          <a:prstGeom prst="line">
            <a:avLst/>
          </a:prstGeom>
          <a:ln w="63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бъект и предмет исследова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773360"/>
            <a:ext cx="3816360" cy="2592360"/>
          </a:xfrm>
          <a:prstGeom prst="foldedCorner">
            <a:avLst>
              <a:gd name="adj" fmla="val 125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ект исследова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ро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дителей в формиро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детей карьерных предпоч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1773360"/>
            <a:ext cx="3816360" cy="2592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63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мет исслед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окупность теоретически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ических и прак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ожений по формиров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ребенка СЖР решения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у профе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приним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11640" y="292428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Экономическое содержание и функции семейного бизнеса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11280" y="1628640"/>
            <a:ext cx="7993080" cy="4104000"/>
            <a:chOff x="611280" y="1628640"/>
            <a:chExt cx="7993080" cy="4104000"/>
          </a:xfrm>
        </p:grpSpPr>
        <p:sp>
          <p:nvSpPr>
            <p:cNvPr id="109" name=""/>
            <p:cNvSpPr/>
            <p:nvPr/>
          </p:nvSpPr>
          <p:spPr>
            <a:xfrm>
              <a:off x="1116000" y="1628640"/>
              <a:ext cx="6912000" cy="5050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ФУНКЦИИ СЕМЕЙНОГО БИЗНЕ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1280" y="2421000"/>
              <a:ext cx="3600360" cy="50328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ормирование среднего кл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1280" y="3068640"/>
              <a:ext cx="3600360" cy="57636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мягчение социальн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пряжен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1280" y="3789360"/>
              <a:ext cx="3600360" cy="115236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ивлечение к процесс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щественного производств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енсионеров, студентов 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чащихся, инвалидов и др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1280" y="5084640"/>
              <a:ext cx="3600360" cy="6480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ормирования социаль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экономической субъектив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03640" y="2421000"/>
              <a:ext cx="3600720" cy="50328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вышение эффективности 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03640" y="3284640"/>
              <a:ext cx="3600720" cy="50328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едоставление выбо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03640" y="4149720"/>
              <a:ext cx="3600720" cy="50328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амореал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03640" y="5084640"/>
              <a:ext cx="3600720" cy="50328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Экономическая социал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27640" y="2133720"/>
              <a:ext cx="0" cy="338292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211640" y="5445000"/>
              <a:ext cx="216000" cy="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211640" y="2637000"/>
              <a:ext cx="216000" cy="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211640" y="3357720"/>
              <a:ext cx="216000" cy="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211640" y="4221000"/>
              <a:ext cx="216000" cy="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88000" y="2133720"/>
              <a:ext cx="0" cy="331128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88000" y="2637000"/>
              <a:ext cx="215640" cy="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88000" y="5445000"/>
              <a:ext cx="215640" cy="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8000" y="4437000"/>
              <a:ext cx="215640" cy="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88000" y="3573360"/>
              <a:ext cx="215640" cy="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Особенности развития и управления предприятиями семейного бизнеса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3к" descr=""/>
          <p:cNvPicPr/>
          <p:nvPr/>
        </p:nvPicPr>
        <p:blipFill>
          <a:blip r:embed="rId1"/>
          <a:stretch/>
        </p:blipFill>
        <p:spPr>
          <a:xfrm>
            <a:off x="0" y="1341360"/>
            <a:ext cx="4356000" cy="33768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755640" y="1989000"/>
            <a:ext cx="2736720" cy="1673280"/>
            <a:chOff x="755640" y="1989000"/>
            <a:chExt cx="2736720" cy="1673280"/>
          </a:xfrm>
        </p:grpSpPr>
        <p:sp>
          <p:nvSpPr>
            <p:cNvPr id="131" name=""/>
            <p:cNvSpPr/>
            <p:nvPr/>
          </p:nvSpPr>
          <p:spPr>
            <a:xfrm>
              <a:off x="1928520" y="1989000"/>
              <a:ext cx="390600" cy="2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7240" y="2227680"/>
              <a:ext cx="1302840" cy="23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бственнос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5960" y="2945160"/>
              <a:ext cx="390600" cy="2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5640" y="3303720"/>
              <a:ext cx="781560" cy="35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емь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71080" y="2945160"/>
              <a:ext cx="390600" cy="2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0440" y="3303720"/>
              <a:ext cx="781920" cy="2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зне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37200" y="2706120"/>
              <a:ext cx="390960" cy="23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49800" y="2706120"/>
              <a:ext cx="390600" cy="23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28520" y="3064680"/>
              <a:ext cx="390600" cy="23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28520" y="3423240"/>
              <a:ext cx="390600" cy="2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-3492360" y="18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137120"/>
            <a:ext cx="393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значения сегментов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члены семьи, 2 – миноритарные акционеры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 – несемейные сотрудники, 4 – неработающ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семейные владельцы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 – работающие несемейные владельцы-менеджеры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 – семейные сотрудники, 7 – высшее руководств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приятий семейного бизнес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742560" y="1412640"/>
            <a:ext cx="5401080" cy="3773520"/>
            <a:chOff x="3742560" y="1412640"/>
            <a:chExt cx="5401080" cy="3773520"/>
          </a:xfrm>
        </p:grpSpPr>
        <p:sp>
          <p:nvSpPr>
            <p:cNvPr id="144" name=""/>
            <p:cNvSpPr/>
            <p:nvPr/>
          </p:nvSpPr>
          <p:spPr>
            <a:xfrm flipH="1">
              <a:off x="3742560" y="3585600"/>
              <a:ext cx="1836360" cy="160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579280" y="1412640"/>
              <a:ext cx="360" cy="217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79280" y="3585600"/>
              <a:ext cx="3564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87280" y="1413000"/>
              <a:ext cx="118836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"Бизнес"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83280" y="1641600"/>
              <a:ext cx="1188000" cy="34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Зрелост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83280" y="2098800"/>
              <a:ext cx="11872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Расширение / Формализац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83280" y="2670840"/>
              <a:ext cx="1188000" cy="343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Запус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42920" y="1641600"/>
              <a:ext cx="540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42920" y="2098800"/>
              <a:ext cx="54144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42920" y="2670840"/>
              <a:ext cx="541440" cy="22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87280" y="3013560"/>
              <a:ext cx="75672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Молодая семь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44000" y="3013560"/>
              <a:ext cx="86364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Вхождение в бизне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07640" y="3013560"/>
              <a:ext cx="86364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Совместная работ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71640" y="3013560"/>
              <a:ext cx="8650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Передача эстафет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55640" y="3699720"/>
              <a:ext cx="11880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"Семья"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6000" y="2670840"/>
              <a:ext cx="540720" cy="22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80360" y="2670840"/>
              <a:ext cx="539280" cy="22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15640" y="2670840"/>
              <a:ext cx="540000" cy="22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51640" y="2670840"/>
              <a:ext cx="540000" cy="22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03640" y="3699720"/>
              <a:ext cx="140400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Контролирующий владелец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63640" y="3813840"/>
              <a:ext cx="323280" cy="23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23640" y="4271760"/>
              <a:ext cx="322560" cy="22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46920" y="4271760"/>
              <a:ext cx="1404000" cy="34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Семейное партнерство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90920" y="4728600"/>
              <a:ext cx="322560" cy="22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15640" y="4728600"/>
              <a:ext cx="1404000" cy="343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Консорциум кузено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42920" y="3928680"/>
              <a:ext cx="1080360" cy="22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"Собственность"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643280" y="54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хмерная модель развития семейного бизне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544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ая модель трех к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Мировые и отечественные тенденции развития предприятий семейного бизнеса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1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39640" y="1484280"/>
          <a:ext cx="386892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386892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469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39337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ль малых и средних предприятий семейного бизнеса для общества в России и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788000" y="2133720"/>
          <a:ext cx="3924360" cy="23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133720"/>
                    <a:ext cx="3924360" cy="23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643280" y="46530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ючевые проблемы развития малых и средних предприятий семейного бизнеса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Стратегическое жизненное решение о профессиональном самоопределении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1628640"/>
            <a:ext cx="7777440" cy="4032360"/>
          </a:xfrm>
          <a:prstGeom prst="foldedCorner">
            <a:avLst>
              <a:gd name="adj" fmla="val 125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тский период жизни является самым решающим для челове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менно на нем закладывается фундамент ценностных ориентац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рисовывается проекция главных путей самореал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других возрастных этапах, активизируются поиски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обальных стратегических направлениях жизни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профессиональном самоопредел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пешность принятия детьми стратегических жизненных реш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выбору профессии предпринимателя зависит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х готовности к этому процессу, а успешность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азанной готовности может достигаться п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ординированном взаимодействии их родителей-владельцев бизне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Родительский фактор в объяснении и прогнозировании карьерных процессов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11280" y="1628640"/>
            <a:ext cx="7993080" cy="4321080"/>
            <a:chOff x="611280" y="1628640"/>
            <a:chExt cx="7993080" cy="4321080"/>
          </a:xfrm>
        </p:grpSpPr>
        <p:sp>
          <p:nvSpPr>
            <p:cNvPr id="186" name=""/>
            <p:cNvSpPr/>
            <p:nvPr/>
          </p:nvSpPr>
          <p:spPr>
            <a:xfrm>
              <a:off x="1116000" y="1628640"/>
              <a:ext cx="6912000" cy="531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ВЛИЯНИЕ РОДИТЕ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280" y="2462760"/>
              <a:ext cx="3600360" cy="5299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бственный прим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1280" y="3144600"/>
              <a:ext cx="3600360" cy="6066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ямое наследование професс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1280" y="3903480"/>
              <a:ext cx="3600360" cy="12132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должение семейного 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1280" y="5267520"/>
              <a:ext cx="3600360" cy="6822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ощрение или осужд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влечений ребен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03640" y="2462760"/>
              <a:ext cx="3600720" cy="5299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емейная атмосфе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03640" y="3372120"/>
              <a:ext cx="3600720" cy="5299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тиль воспит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03640" y="4283280"/>
              <a:ext cx="3600720" cy="5299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ыбор определенной школы ил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ниверсите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03640" y="5267520"/>
              <a:ext cx="3600720" cy="5299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стаивание на продолжении и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екращении обуч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27640" y="2160360"/>
              <a:ext cx="0" cy="356184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211640" y="5646960"/>
              <a:ext cx="216000" cy="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211640" y="2690280"/>
              <a:ext cx="216000" cy="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211640" y="3449160"/>
              <a:ext cx="216000" cy="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211640" y="4358160"/>
              <a:ext cx="216000" cy="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88000" y="2160360"/>
              <a:ext cx="0" cy="348660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88000" y="2690280"/>
              <a:ext cx="215640" cy="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88000" y="5646960"/>
              <a:ext cx="215640" cy="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88000" y="4585680"/>
              <a:ext cx="215640" cy="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88000" y="3676320"/>
              <a:ext cx="215640" cy="0"/>
            </a:xfrm>
            <a:prstGeom prst="line">
              <a:avLst/>
            </a:prstGeom>
            <a:ln w="63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Особенности личностной готовности ребенка к принятию стратегического жизненного решения по выбору профессии предпринимателя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4000" y="1700280"/>
            <a:ext cx="8424720" cy="4608360"/>
            <a:chOff x="324000" y="1700280"/>
            <a:chExt cx="8424720" cy="4608360"/>
          </a:xfrm>
        </p:grpSpPr>
        <p:sp>
          <p:nvSpPr>
            <p:cNvPr id="207" name=""/>
            <p:cNvSpPr/>
            <p:nvPr/>
          </p:nvSpPr>
          <p:spPr>
            <a:xfrm>
              <a:off x="2802240" y="2126160"/>
              <a:ext cx="3468240" cy="25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Личность РЕБ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36800" y="1700280"/>
              <a:ext cx="2311920" cy="34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озрастное измер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000" y="1700280"/>
              <a:ext cx="2478240" cy="34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еятельностное измер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67120" y="2468160"/>
              <a:ext cx="3138120" cy="25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ндивидуальное измер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966760" y="1956240"/>
              <a:ext cx="3138120" cy="36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15080" y="2126160"/>
              <a:ext cx="1486800" cy="5122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270480" y="2125800"/>
              <a:ext cx="1816920" cy="5122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71040" y="2809080"/>
              <a:ext cx="627732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тратегическое жизненное решение ребенка о выборе профессии предпринимате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71040" y="3321720"/>
              <a:ext cx="1817280" cy="68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сихологические механизмы принятие ребенком стратегического жизненного реш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19520" y="3321720"/>
              <a:ext cx="1981800" cy="68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Этапы принятие ребенком стратегического жизненного реш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31440" y="3321720"/>
              <a:ext cx="1814760" cy="68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Компоненты личностной готовности ребенка к принятию стратегического жизненного реш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000" y="4089960"/>
              <a:ext cx="1982160" cy="221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сихический оборот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осприят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Эмоц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Интеллек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ол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71040" y="4089960"/>
              <a:ext cx="1817280" cy="25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Мотивац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71040" y="4430880"/>
              <a:ext cx="181584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Аффектизац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71040" y="4942800"/>
              <a:ext cx="181476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Целеполагани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71040" y="5455080"/>
              <a:ext cx="1813320" cy="51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Аргументац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19520" y="4089960"/>
              <a:ext cx="1979640" cy="25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Осознание значимости целе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1440" y="4089960"/>
              <a:ext cx="1814760" cy="25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Ценностно-мотивационны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19520" y="4430880"/>
              <a:ext cx="197820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Оценивание желательности альтернати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31440" y="4430880"/>
              <a:ext cx="181476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Эмоционально-познавательны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19520" y="4942800"/>
              <a:ext cx="197820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ринятие предыдущего решение (выбор или уточнение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19520" y="5455080"/>
              <a:ext cx="1978200" cy="51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ринятие окончательного стратегического жизненного реш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31440" y="4942800"/>
              <a:ext cx="181476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Целеобразующ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1440" y="5455080"/>
              <a:ext cx="1814760" cy="51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Операциональный (обоснование путей достижения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97240" y="6138000"/>
              <a:ext cx="379800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Рефлекс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315080" y="2980080"/>
              <a:ext cx="0" cy="11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15080" y="2980080"/>
              <a:ext cx="115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97240" y="315108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10600" y="315108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22520" y="315108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97240" y="400392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97240" y="4345920"/>
              <a:ext cx="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97240" y="4857840"/>
              <a:ext cx="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97240" y="5369760"/>
              <a:ext cx="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0600" y="400392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10600" y="4345920"/>
              <a:ext cx="72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0600" y="4857840"/>
              <a:ext cx="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10600" y="5369760"/>
              <a:ext cx="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22520" y="4003920"/>
              <a:ext cx="108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22520" y="4345920"/>
              <a:ext cx="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22520" y="4857840"/>
              <a:ext cx="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22520" y="5369760"/>
              <a:ext cx="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22520" y="5967720"/>
              <a:ext cx="108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096680" y="6223680"/>
              <a:ext cx="82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644480" y="6223680"/>
              <a:ext cx="165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08T06:49:11Z</dcterms:created>
  <dc:creator>Пользователь Windows</dc:creator>
  <dc:description/>
  <dc:language>en-US</dc:language>
  <cp:lastModifiedBy>Пользователь Windows</cp:lastModifiedBy>
  <dcterms:modified xsi:type="dcterms:W3CDTF">2024-08-08T10:26:19Z</dcterms:modified>
  <cp:revision>11</cp:revision>
  <dc:subject/>
  <dc:title>ВАЖНОСТЬ РОДИТЕЛЬСКОЙ РОЛИ ДЛЯ ВЫБОРА ДЕТЬМИ ПРОФЕССИИ ПРЕДПРИНИМАТЕЛЯ </dc:title>
</cp:coreProperties>
</file>