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0.wmf" ContentType="image/x-wmf"/>
  <Override PartName="/ppt/media/image1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F44-4EB7-4A70-8402-2CAA1E12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A8D-558D-4B9A-BA14-415BA71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9CF-5D17-4446-AB11-14AD19F8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E2B-00BE-452D-B73D-B018B138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3F12-A49D-4ADB-A304-607E15A1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DE2A-CE8E-43EE-9838-9DCAC15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520-BE7A-4491-B164-CB61B1B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EE0-529A-4476-A623-5724F296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226-B3E8-496E-8FB5-5A7FF284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1C2-DF5B-4E2C-B670-6575044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7DDC-53A2-4120-97A8-8BCB2FF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49E-5C2D-4475-ACD9-0329ED7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6D0A-85B4-4C2E-BA1B-2959B75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1F46-EBB1-4F92-A71C-B06F732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0F4-A39D-4F09-BB08-573C368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F9F-D205-4CC7-AF0F-E81AA3D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AC3-2939-4536-9FC7-B33A2CA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4C3E-41D4-4D36-A2F0-74BBC865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7A84-37D7-4260-967F-9C8C2819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CFE5-AA12-40AF-B8CE-4E4DA688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3F86-36AF-408C-A0E2-649E5B33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37B5-0955-4C3D-921A-E72A681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B9-C083-48E9-9D4A-5FED668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B705-9B0E-41D4-9F70-DC5B6895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3003-BDB4-472F-9090-91B6D1A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5A2A-F8D8-4591-A132-F9E9FAE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5E5F-45BC-41C9-B779-BBEB340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0207-C2BE-4658-ACB6-83ED89D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CCB1-9307-4A80-B7A1-5015E76B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57B0-D6C4-4E63-BEE4-06DCD90E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A6FE-09D6-4ECE-85EC-DB0BE678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F5B7-8D2D-45E8-B043-71679EE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862D-6363-4393-B1C8-EE1D2F3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DC3-FD2F-460D-9302-DAD9AA2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2383C-728D-4699-8212-A5B1FF9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0876-321A-4677-9FCF-4B01A9B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2812-945F-4F65-AD3B-3442A15B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7DE2-A8AC-4609-A753-667B196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1987-5612-4E3E-ABDA-14BF8108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B704-A0A5-48FB-9C22-4DCC7A3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E924-2B32-42CE-A536-92F1AB2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0611-5E28-44D2-8D9A-F1B5FB27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3127-8425-4B55-A3EA-39189DC1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444A8-3C93-428E-AD52-A1F32A82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4C8-FE59-4ECC-8F75-6F0C2C5B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D916-6341-4D52-90B7-105598B4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ED05-B995-4971-A955-2D9BE87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DC4C-2AD0-4979-A720-E5F10FF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B612-17CB-47CD-AD8C-1898BF83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6247-8452-4213-8196-310DC053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AB9A-7F6E-453D-8149-191F299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0650-CA32-4E76-99B7-17B43F1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67E95-E926-49EF-A052-318073D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4736-B0DA-4045-86D0-E66911EC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B043-6815-4D18-BBFD-11CE1BB5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71F-0BA5-49D3-A904-5938D08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6A6C-30AB-4FF0-BCDD-356500CE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B3E6-9773-411A-BE0C-A3126094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C36B4-42DE-4286-AD38-85655EF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810B-C0F9-4C7A-A36D-778F2C98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7C78-2B0A-4337-96CC-2601AC0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1500-555F-4454-8278-5E48C18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FA2E-18CA-47B1-8945-664EACF6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4304-2827-4ED5-BAB8-893B7DA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2504-0400-439D-8833-AFCD16F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2C08-A1C7-4CFD-803B-24B4CCE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F7B-9AE1-42FC-AC9E-54310AE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D1F40-88CA-4CF6-84FA-08C64E9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FFF96-DE9F-404F-BB5F-5D7980E5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A1EA-90A3-42BF-9EC8-51F86D4F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9A728-7813-410D-A598-20E2D0E0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6BC4-9BF5-4026-90D7-E7D0FC2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0F080-BCA1-49F2-9E6A-4EC6BC4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0374-6D3B-46DA-89EB-753EE4E4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F5DD-B13D-4F68-ADC6-FA8DA77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069A-E212-44D9-803C-9781DA2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D90DB-1831-4005-8E4E-993287F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AAA-8D52-41D4-8DA4-FFA2D6C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5865F-4B86-4306-BED0-A437321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F638-119E-41B2-8323-1B6BF67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0DAE-C15A-4891-BD99-B4DCC78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EF26-9747-4797-ADF8-2CC4183E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5541-DFAE-435D-AAA2-24D2461E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E0EC-E1C5-4D8E-AF31-29679AFD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C623E-FBDB-49CB-973E-8509A74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98379-8CDE-4369-AA03-D09FFF9B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637E-7D5A-4184-9A24-22DC50C7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67759-F319-4F5B-95B2-37A8003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69C-B911-4568-A48C-CE409C1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9F1C8-BCFF-44ED-86B3-BE38507E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2F6A-CD92-46AA-BC4D-BC48BFD1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0145-4725-4135-836C-B5CFC57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45B5-2F22-4F63-9E1D-3E13733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94A92-5A4B-48F7-A231-8600CAA8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97B56-F364-4BE7-BAC0-A55352F5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F1C7-33A2-4B70-B3C3-2C6FE844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b7c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5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6D0-AC6F-4F5A-9EF7-F5819C11A1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456f"/>
              </a:gs>
              <a:gs pos="50000">
                <a:srgbClr val="808bb9"/>
              </a:gs>
              <a:gs pos="100000">
                <a:srgbClr val="3a456f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b7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5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190-CF3A-4FAC-AEF3-ACCF6B461B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b7c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5f86"/>
              </a:gs>
              <a:gs pos="100000">
                <a:srgbClr val="9ea5c3"/>
              </a:gs>
            </a:gsLst>
            <a:lin ang="16200000"/>
          </a:gradFill>
          <a:ln cap="rnd" w="3240">
            <a:solidFill>
              <a:srgbClr val="52597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5f86"/>
              </a:gs>
              <a:gs pos="100000">
                <a:srgbClr val="9ea5c3"/>
              </a:gs>
            </a:gsLst>
            <a:lin ang="16200000"/>
          </a:gradFill>
          <a:ln cap="rnd" w="3240">
            <a:solidFill>
              <a:srgbClr val="52597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de9e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de9e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39AB-2BC8-4B2D-A751-F7C3E86CC9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b7c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de9e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de9e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85DC-2935-4512-B74A-4AE9A34F7B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5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6D0-496C-4BAF-9BD2-708E2F38B9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b7c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de9e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de9e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67E-8729-4414-B548-B25287DD0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5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250-C2CA-459D-80E1-D426B71182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b7c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5f86"/>
              </a:gs>
              <a:gs pos="100000">
                <a:srgbClr val="9ea5c3"/>
              </a:gs>
            </a:gsLst>
            <a:lin ang="16200000"/>
          </a:gradFill>
          <a:ln cap="rnd" w="3240">
            <a:solidFill>
              <a:srgbClr val="52597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5f86"/>
              </a:gs>
              <a:gs pos="100000">
                <a:srgbClr val="9ea5c3"/>
              </a:gs>
            </a:gsLst>
            <a:lin ang="16200000"/>
          </a:gradFill>
          <a:ln cap="rnd" w="3240">
            <a:solidFill>
              <a:srgbClr val="52597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de9e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de9e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C64-7CD4-497B-A9BB-C0946CEDE0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4360" y="56577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верил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404640"/>
            <a:ext cx="806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СКОВСКИЙ ФИНАНСОВО-ЮРИДИЧЕСКИЙ УНИВЕРСИТЕТ МФЮ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федра: Финансов, налогообложения и финансового учета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пециальность: 38.05.01 Экономическая безопасност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ПУСК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КВАЛИФИКАЦИОННАЯ РАБО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направления обеспечения экономической безопасности хозяйствующего субъекта (на примере Эксплуатационного локомотивного депо М.Горький - структурного подразделения Приволжской дирекции тяги структурного подразделения Дирекции тяги - филиала ОАО "РЖД"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Arial"/>
              </a:rPr>
              <a:t>Выявление экономических рисков и угроз экономической безопасности ТЧЭ-4</a:t>
            </a:r>
            <a:r>
              <a:rPr b="1" lang="en-US" sz="2400" spc="-1" strike="noStrike">
                <a:solidFill>
                  <a:srgbClr val="46465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434" name=""/>
          <p:cNvSpPr/>
          <p:nvPr/>
        </p:nvSpPr>
        <p:spPr>
          <a:xfrm>
            <a:off x="1332000" y="4797360"/>
            <a:ext cx="7920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 угрозы экономической безопасности ТЧЭ-4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ери от невыполнения участковой скорост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ери технической скорости составили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ери от невыполнения среднесуточного пробега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ери от невыполнения среднесуточной производительности локомотив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39640" y="1628640"/>
          <a:ext cx="8229600" cy="3008520"/>
        </p:xfrm>
        <a:graphic>
          <a:graphicData uri="http://schemas.openxmlformats.org/drawingml/2006/table">
            <a:tbl>
              <a:tblPr/>
              <a:tblGrid>
                <a:gridCol w="4011840"/>
                <a:gridCol w="421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чины 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ые пути избежания 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тавание балансовой стоимости основных фондов от реальной больше чем в 4 раза, что приводит к необоснованному завышению начисленного дохода, с которого 75-80% начисляется в бюджет в виде налогов и взносов части чистой прибыли в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ведение переоценки основных фондов в соответствии с их реальной стоим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степень износа основ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новление основ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вестиционные потребности удовлетворяются только на 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лечение инвестиций в виде частного капит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щение доли железнодорожного транспорта на внутреннем и внешнем рынках транспорт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8000"/>
                        <a:buFont typeface="Arial"/>
                        <a:buAutoNum type="arabicParenR"/>
                        <a:tabLst>
                          <a:tab algn="l" pos="181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ршенствование системы тарифов в соответствии с современной экономической ситуацией в стран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8000"/>
                        <a:buFont typeface="Arial"/>
                        <a:buAutoNum type="arabicParenR"/>
                        <a:tabLst>
                          <a:tab algn="l" pos="181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качества транспортных услуг и ремонтных работ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8000"/>
                        <a:buFont typeface="Arial"/>
                        <a:buAutoNum type="arabicParenR"/>
                        <a:tabLst>
                          <a:tab algn="l" pos="18108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безопасности перевоз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468360" y="126828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чины проявления экономических рисков в ТЧЭ-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Arial"/>
              </a:rPr>
              <a:t>Направления совершенствования управления экономической безопасностью в ТЧЭ-4 </a:t>
            </a:r>
            <a:endParaRPr b="1" lang="en-US" sz="2400" spc="-1" strike="noStrike">
              <a:solidFill>
                <a:srgbClr val="464653"/>
              </a:solidFill>
              <a:latin typeface="Lucida Sans Unicode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50920" y="1413000"/>
            <a:ext cx="8640360" cy="4236840"/>
            <a:chOff x="250920" y="1413000"/>
            <a:chExt cx="8640360" cy="4236840"/>
          </a:xfrm>
        </p:grpSpPr>
        <p:sp>
          <p:nvSpPr>
            <p:cNvPr id="439" name=""/>
            <p:cNvSpPr/>
            <p:nvPr/>
          </p:nvSpPr>
          <p:spPr>
            <a:xfrm>
              <a:off x="250920" y="1413000"/>
              <a:ext cx="205200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рганизационная структура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26920" y="1413000"/>
              <a:ext cx="334800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еханизм управления экономической безопасностью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7280" y="1413000"/>
              <a:ext cx="2484000" cy="57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оказатели и критерии оценки экономическ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2920" y="2183040"/>
              <a:ext cx="1512000" cy="14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Средства и рычаги обеспечения экономическ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90920" y="2183040"/>
              <a:ext cx="1728000" cy="14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Информационное обеспечение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27280" y="2183040"/>
              <a:ext cx="1944000" cy="14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рганизация, управление обоснование и реализация эффективных методов создания, совершенствования и развития системы экономической безопасности предприятия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79640" y="2183040"/>
              <a:ext cx="1494000" cy="14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Методы обеспечения экономическ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920" y="2183040"/>
              <a:ext cx="1295640" cy="144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Нормативно-правовое обеспечение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10920" y="3820320"/>
              <a:ext cx="3888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Анализ и диагностика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10920" y="4205520"/>
              <a:ext cx="3888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рогнозирование и планирование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10920" y="4590720"/>
              <a:ext cx="3888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Организация и регулирование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0920" y="4975920"/>
              <a:ext cx="3888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Стимулирование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10920" y="5361120"/>
              <a:ext cx="3888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онтроль и оценка результатов</a:t>
              </a: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39280" y="3627720"/>
              <a:ext cx="0" cy="18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298920" y="54572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298920" y="50720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298920" y="46868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298920" y="4301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298920" y="3916440"/>
              <a:ext cx="539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75280" y="1701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302560" y="1701720"/>
              <a:ext cx="3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98560" y="2086920"/>
              <a:ext cx="72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54920" y="199080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98560" y="20869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0920" y="20869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54920" y="20869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91280" y="20869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35640" y="20869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3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85000" cy="14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15573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534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Одним из приоритетов управленческой системы отечественных железнодорожных предприятий должно стать управление экономической безопасностью. Именно экономическая безопасность предприятия может гарантировать эффективную хозяйственную деятельность и своевременную адаптацию к изменениям, способствующих его устойчивому развитию. В то же время, внедрение в практику железнодорожных предприятий результатов научных исследований по проблемам управления экономической безопасностью, разработке механизма обеспечения будут иметь первоочередное значение для максимально эффективного использования их ресурсов, роста их производственного потенциала, своевременного предотвращения и успешного преодоления внутренних и внешних угроз и, как результат, стабильного функцион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"/>
          <p:cNvSpPr/>
          <p:nvPr/>
        </p:nvSpPr>
        <p:spPr>
          <a:xfrm>
            <a:off x="539640" y="33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уальность выпускной квалификационной работ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53496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Целью выпускной квалификационной работы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является исследование основных направлений обеспечения экономической безопасности хозяйствующего субъекта (на примере Эксплуатационного локомотивного депо М.Горький – структурного подразделения Приволжской дирекции тяги структурного подразделения Дирекции тяги – филиала ОАО "РЖД" (ТЧЭ-4)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53496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Объектом исследования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является процесс обеспечения экономической безопасности ТЧЭ-4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534960">
              <a:spcBef>
                <a:spcPts val="400"/>
              </a:spcBef>
              <a:buClr>
                <a:srgbClr val="727ca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Предметом исследования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являются теоретические, методические и практические аспекты формирования и развития механизма обеспечения экономической безопасности предприятий для повышения эффективности их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476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, объект и 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964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нятие экономической безопасности предприят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981000"/>
            <a:ext cx="749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зультатам исследования были выделены информационный, ресурсный, гармонизационный, правовой, финансовый, устойчивый, синергетический, защитный подходы к определению понятия экономической безопасности предприятия, что позволило систематизировать существующие определения и сформулировать собственное: </a:t>
            </a:r>
            <a:r>
              <a:rPr b="1" lang="ru-RU" sz="2000" spc="-1" strike="noStrike">
                <a:solidFill>
                  <a:srgbClr val="727ca3"/>
                </a:solidFill>
                <a:latin typeface="Times New Roman"/>
              </a:rPr>
              <a:t>«Экономическая безопасность предприятия – это такое состояние внутренних и внешних факторов влияния среды на предприятие, при котором оно может обеспечить экономическую устойчивость и эффективную деятельность, своевременную адаптацию к изменениям, что в целом будет способствовать его устойчивому развитию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Arial"/>
              </a:rPr>
              <a:t>Теоретические подходы к управлению экономической безопасностью субъекта хозяйствования</a:t>
            </a:r>
            <a:r>
              <a:rPr b="1" lang="en-US" sz="2400" spc="-1" strike="noStrike">
                <a:solidFill>
                  <a:srgbClr val="464653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вление экономической безопасностью является одним из приоритетов деятельности отечественных предприят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атизированы и проанализированы основные подходы к управлению экономической безопасностью предприятия (комплексный, процессный, стратегический и ресурсный), в результате чего установлена целесообразность рассмотрения понятия управления экономической безопасностью предприятия с точки зрения комплексного подхода, основой которого является механизм управления, включающий совокупность принципов, методов и подходов, направленных на эффективное управление экономической безопасностью предприятия с целью обеспечения ее целевого уровня и, как следствие, обеспечение прибыльности деятельности и наращивания производственного потенциал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Arial"/>
              </a:rPr>
              <a:t>Угрозы экономической безопасности субъекта хозяйствования </a:t>
            </a:r>
            <a:endParaRPr b="1" lang="en-US" sz="2800" spc="-1" strike="noStrike">
              <a:solidFill>
                <a:srgbClr val="464653"/>
              </a:solidFill>
              <a:latin typeface="Lucida Sans Unicode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71640" y="1557360"/>
            <a:ext cx="7632720" cy="4033800"/>
            <a:chOff x="971640" y="1557360"/>
            <a:chExt cx="7632720" cy="4033800"/>
          </a:xfrm>
        </p:grpSpPr>
        <p:sp>
          <p:nvSpPr>
            <p:cNvPr id="382" name=""/>
            <p:cNvSpPr/>
            <p:nvPr/>
          </p:nvSpPr>
          <p:spPr>
            <a:xfrm>
              <a:off x="1492200" y="1557360"/>
              <a:ext cx="6201000" cy="4190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Угрозы экономической безопасности предприятий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71640" y="2241720"/>
              <a:ext cx="349884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правляемые угрозы, связанные с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6760" y="2241720"/>
              <a:ext cx="365760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Неуправляемые угрозы, связанные с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0400" y="2798640"/>
              <a:ext cx="33400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человеческим фактором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30400" y="3357720"/>
              <a:ext cx="33400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системой управления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30400" y="3916440"/>
              <a:ext cx="33400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экологическим фактором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0400" y="4475160"/>
              <a:ext cx="334008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результатами деятельности предприятий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65720" y="2798640"/>
              <a:ext cx="333864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функционированием предприятий в конкурентной среде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65720" y="3776760"/>
              <a:ext cx="333864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партнерами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65720" y="4335480"/>
              <a:ext cx="333864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особенностями институциональной среды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65720" y="5032440"/>
              <a:ext cx="333864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возникновением форс-мажорных обстоятельств </a:t>
              </a:r>
              <a:endParaRPr b="0" lang="en-US" sz="12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71640" y="2658960"/>
              <a:ext cx="0" cy="20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46760" y="2658960"/>
              <a:ext cx="0" cy="26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46760" y="5311800"/>
              <a:ext cx="3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46760" y="4614840"/>
              <a:ext cx="3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16440"/>
              <a:ext cx="3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46760" y="3357720"/>
              <a:ext cx="3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71640" y="293832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71640" y="349740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71640" y="405612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71640" y="4754520"/>
              <a:ext cx="15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20880" y="19764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37240" y="19764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4360" y="333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ниторинг текущего экономического состояния ТЧЭ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50920" y="1341360"/>
          <a:ext cx="4579920" cy="30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457992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250920" y="4581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амика структуры основных производственных фондов ТЧЭ-4 за 2017-2019 гг., %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5003640" y="1413000"/>
          <a:ext cx="3816360" cy="40640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003640" y="1341360"/>
          <a:ext cx="3816360" cy="164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341360"/>
                    <a:ext cx="381636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003640" y="306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уктура персонала ТЧЭ-4 в 2018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076720" y="3429000"/>
          <a:ext cx="3743280" cy="1512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429000"/>
                    <a:ext cx="37432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076720" y="4941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уктура персонала ТЧЭ-4 в 2019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Times New Roman"/>
              </a:rPr>
              <a:t>Мониторинг финансовых результатов деятельности ТЧЭ-4</a:t>
            </a:r>
            <a:r>
              <a:rPr b="1" lang="en-US" sz="2400" spc="-1" strike="noStrike">
                <a:solidFill>
                  <a:srgbClr val="464653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539640" y="1773360"/>
          <a:ext cx="81345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81345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Times New Roman"/>
              </a:rPr>
              <a:t>Мониторинг текущего финансового состояния ТЧЭ-4 </a:t>
            </a:r>
            <a:endParaRPr b="1" lang="en-US" sz="2400" spc="-1" strike="noStrike">
              <a:solidFill>
                <a:srgbClr val="464653"/>
              </a:solidFill>
              <a:latin typeface="Lucida Sans Unicode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39640" y="1413000"/>
          <a:ext cx="4248360" cy="24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424836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39640" y="4076640"/>
            <a:ext cx="42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намика коэффициентов, характеризующих финансовую устойчивость ТЧЭ-4 за 2017-2019 гг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859280" y="3141720"/>
          <a:ext cx="4067280" cy="251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141720"/>
                    <a:ext cx="406728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4716360" y="573408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намика коэффициентов ликвидности ТЧЭ-4 за 2017-2019 гг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8T11:43:06Z</dcterms:created>
  <dc:creator>Win7 64 SP1</dc:creator>
  <dc:description/>
  <dc:language>en-US</dc:language>
  <cp:lastModifiedBy>Пользователь Windows</cp:lastModifiedBy>
  <dcterms:modified xsi:type="dcterms:W3CDTF">2024-08-08T10:10:19Z</dcterms:modified>
  <cp:revision>38</cp:revision>
  <dc:subject/>
  <dc:title>Московский ФИНАНСОВО-ЮРИДИЧЕСКИЙ УНИВЕРСИТЕТ МФЮА   Кафедра :Финансов, налогообложения и финансового учета    Специальность: 38.05.01 Экономическая безопасность  ВЫПУСКНАЯ КВАЛИФИКАЦИОННАЯ РАБОТА  На тему:   Экспертное исследование финансовых результатов на примере ООО «Центр КриптоЗащиты» (г. Волгоград)</dc:title>
</cp:coreProperties>
</file>