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7EF-42C7-4EB2-BFEB-1FE5E093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629-E8DA-407C-B21E-76DDD9C2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B87-EB43-46CC-AD7A-AF582CF1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C39-9447-4FC4-8A97-49F41A42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D5F-4D5F-4549-9003-93F5CA1C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77E-B94E-4869-B15E-A482EAD8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06D-61A1-4C42-A401-0F30DC3C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38E-2038-4710-B7E9-0B1A55B6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063-27CF-4056-926E-6703E36F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76C-5890-4211-A273-E57DB89E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868-4E2A-4744-8C1E-E38E8FA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83C-5652-43E2-B278-31EA73EF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41537-FD4A-4655-99A3-B71087736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2286000" y="1461960"/>
            <a:ext cx="4572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3745080" y="1262160"/>
            <a:ext cx="495936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5af"/>
                </a:solidFill>
                <a:latin typeface="Arial"/>
                <a:ea typeface="Arial"/>
              </a:rPr>
              <a:t>АНАЛИЗ РЕЗУЛЬТАТОВ РЕАЛИЗАЦИИ ГОСУДАРСТВЕННОЙ ПРОГРАММЫ "ДОСТУПНАЯ СРЕДА" В ВОЛГОГРА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48240" y="4160880"/>
            <a:ext cx="3265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98920" y="2541600"/>
            <a:ext cx="42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63c1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640" y="1116000"/>
            <a:ext cx="7947000" cy="13748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оценка эффективности государственного регулирования при решении проблемы развития доступности объектов социальной среды для инвалидов малоподвижных категорий населения в регионе (на примере Волгоградской области) путем анализа эффективности выполнения в регионе государственной программы "Доступная сред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4680" y="2989440"/>
            <a:ext cx="7970760" cy="3498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понятие социального обслуживания населения и доступности объектов инфраструк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нормативно-правовую базу анализа доступности объектов инфраструктуры в РФ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елить специфику создания доступности объектов инфраструктуры для инвалидов и маломобильных групп насе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основные подходы к организации управления сферой социального обслуживания в Волгоградской обла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структуру, функции и компетенцию органов государственной власти Волгоградской области, контролирующих ход реализации программы "Доступная среда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сти анализ результатов реализации государственной программы "Доступная среда" в Волгоградской обла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экономическую эффективность мероприятий, проведенных в рамках реализации государственной программы "Доступная среда" в Волгоградской области, оценить необходимость активизации работы и предложить меры, направленные на улучшение целевых показателей программы в Волгоградском реги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86040" y="2490840"/>
            <a:ext cx="3868920" cy="49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5720" y="1023840"/>
            <a:ext cx="80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5af"/>
                </a:solidFill>
                <a:latin typeface="Arial"/>
              </a:rPr>
              <a:t>Динамика финансирования государственной программы "Социальная поддержка и защита населения Волгоградской области 2018-2020 го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06360" y="2278080"/>
          <a:ext cx="6873840" cy="41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360" y="2278080"/>
                    <a:ext cx="687384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6120" y="949320"/>
            <a:ext cx="856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5af"/>
                </a:solidFill>
                <a:latin typeface="Arial"/>
              </a:rPr>
              <a:t>Динамика общего количества паспортов доступности, составленных органами исполнительной власти Волгоградской области на объекты социальной инфраструктуры в 2018-2020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17680" y="2532240"/>
            <a:ext cx="6327720" cy="37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2120" y="1114560"/>
            <a:ext cx="874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5af"/>
                </a:solidFill>
                <a:latin typeface="Arial"/>
              </a:rPr>
              <a:t>Динамика общего количества объектов социальной и транспортной инфраструктуры Волгоградской области по программе "Доступная среда" за 2018-2020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8520" y="2351160"/>
            <a:ext cx="6593040" cy="395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19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1114560"/>
            <a:ext cx="853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5af"/>
                </a:solidFill>
                <a:latin typeface="Arial"/>
              </a:rPr>
              <a:t>Динамика структуры объектов инфраструктуры Волгоградской области, в отношении которых проведены работы по адаптации и дооборудованию в рамках реализации программы "Доступная среда</a:t>
            </a:r>
            <a:r>
              <a:rPr b="1" lang="ru-RU" sz="1800" spc="-1" strike="noStrike">
                <a:solidFill>
                  <a:srgbClr val="0965af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0965af"/>
                </a:solidFill>
                <a:latin typeface="Arial"/>
              </a:rPr>
              <a:t> за 2018-2020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01640" y="2997360"/>
            <a:ext cx="5815080" cy="348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0720" y="1114560"/>
            <a:ext cx="83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5af"/>
                </a:solidFill>
                <a:latin typeface="Arial"/>
              </a:rPr>
              <a:t>Оценка экономической эффективности реализации в Волгоградской области мероприятий государственной программы "Доступная среда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74760" y="2289240"/>
            <a:ext cx="6848640" cy="421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3720" y="987480"/>
            <a:ext cx="83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65af"/>
                </a:solidFill>
                <a:latin typeface="Arial"/>
              </a:rPr>
              <a:t>Совершенствование уровня доступности объектов социальной инфраструктуры для инвалидов и маломобильных груп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4960" y="2235240"/>
            <a:ext cx="8568000" cy="487440"/>
          </a:xfrm>
          <a:prstGeom prst="bevel">
            <a:avLst>
              <a:gd name="adj" fmla="val 12500"/>
            </a:avLst>
          </a:prstGeom>
          <a:solidFill>
            <a:srgbClr val="2e46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ЛАГАЕМЫ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040" y="2811600"/>
            <a:ext cx="8070840" cy="7254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доступных для инвалидов и других маломобильных групп населения приоритетных объектов социальной, транспортной, инженерной инфраструктуры региона, находящихся в государствен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680" y="3605040"/>
            <a:ext cx="8074080" cy="5335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в регионе количества специалистов, обеспечивающих реабилитацию и абилитацию инвалидов, прошедших обучение современным реабилитационным и абилитационным методи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160" y="4249800"/>
            <a:ext cx="8076960" cy="7430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доступных для инвалидов и других малоподвижных групп населения приоритетных объектов социальной, транспортной, инженерной инфраструктуры региона, находящихся в муницип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9360" y="5073480"/>
            <a:ext cx="8161200" cy="7020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количества инвалидов, обеспеченных техническими средствами реабилитации в соответствии с региональным перечнем технических средств реабилитации в рамках индивидуальной программы реабилитации или абилитации инвалида, ребенка-инвалида региона, имеющих персональные рекоменд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740440" y="2687760"/>
            <a:ext cx="4680" cy="363204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410680" y="5361120"/>
            <a:ext cx="365040" cy="612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8337240" y="3168360"/>
            <a:ext cx="422280" cy="324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8302680" y="3890520"/>
            <a:ext cx="449280" cy="180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8357760" y="4699080"/>
            <a:ext cx="374760" cy="1260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760" y="5884920"/>
            <a:ext cx="8161200" cy="701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общественного мнения к проблемам инвалидов и малоподвижным категориям населения региона за счет увеличения количества социальной рекламы в СМИ и формирования позитивного имиджа областных учреждений сферы социального обслуживания региона у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8369280" y="6235560"/>
            <a:ext cx="365040" cy="6480"/>
          </a:xfrm>
          <a:prstGeom prst="line">
            <a:avLst/>
          </a:prstGeom>
          <a:ln w="63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0" y="-184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31920" y="77616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965af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6720" y="1500120"/>
            <a:ext cx="7818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ется, что реализация в ближайшей перспективе выделенных предложений, направленных на содействие исполнению мероприятий, предусмотренных государственной программой "Доступная среда" на территории Волгоградской области позволит значительно улучшить ситуацию с обеспечениям доступности приоритетных объектов социальной, транспортной и информационной инфраструктуры для инвалидов и маломобильных групп населения в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ершение исследования ещё раз подчеркнём важность скорейшего разрешения проблемы доступности объектов социальной инфраструктуры для маломобильных групп населения как на федеральном, так и на региональном и местном уровнях, так как формирование среды жизнедеятельности при неизменном государственном подходе является необходимым условием жизни лиц с ограниченными возможностями к передвижению, что в современных условиях пандемии представляет собой первостепенную государственную задач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31T11:24:23Z</dcterms:created>
  <dc:creator>RePack by Diakov</dc:creator>
  <dc:description/>
  <dc:language>en-US</dc:language>
  <cp:lastModifiedBy>Пользователь Windows</cp:lastModifiedBy>
  <dcterms:modified xsi:type="dcterms:W3CDTF">2024-08-10T07:13:38Z</dcterms:modified>
  <cp:revision>97</cp:revision>
  <dc:subject/>
  <dc:title>Презентация PowerPoint</dc:title>
</cp:coreProperties>
</file>