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F9A7-7F1C-4278-BC15-F6A775234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24CB-BDC6-4C07-A2B1-0636D0F22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6C41-5A68-466A-9476-BE79178E4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6968-8041-4CF5-A09E-9A547D97B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BE36-D41A-404B-881A-76130992A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4B05-05EA-4FE6-A9C0-2025A3CE0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C74E-F224-429A-A04A-186CA5682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56D7-0FED-42D0-9584-BD3031607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25DE-A98D-4950-8CBC-1315388F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5CA2-2835-40BB-AAC4-1DDFC544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327D-C1EC-4CC8-94ED-CFFA0100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4DC0-4414-4826-B529-33CE0D61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hilosophe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4344E0-A03E-433F-BCA7-C3EF623F039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Рисунок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hilosophe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Рисунок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hilosophe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hilosophe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hilosophe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9" descr=""/>
          <p:cNvPicPr/>
          <p:nvPr/>
        </p:nvPicPr>
        <p:blipFill>
          <a:blip r:embed="rId2"/>
          <a:stretch/>
        </p:blipFill>
        <p:spPr>
          <a:xfrm>
            <a:off x="7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hilosophe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hilosophe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hilosophe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Рисунок 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Title 1"/>
          <p:cNvSpPr/>
          <p:nvPr/>
        </p:nvSpPr>
        <p:spPr>
          <a:xfrm>
            <a:off x="628560" y="133200"/>
            <a:ext cx="460224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Philosopher"/>
              </a:rPr>
              <a:t>Образец заголов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hilosophe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hilosophe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Рисунок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hilosophe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Рисунок 9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hilosophe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Рисунок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hilosophe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4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7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8.png"/><Relationship Id="rId7" Type="http://schemas.openxmlformats.org/officeDocument/2006/relationships/package" Target="../embeddings/oleObject4.xlsx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Box 1"/>
          <p:cNvSpPr/>
          <p:nvPr/>
        </p:nvSpPr>
        <p:spPr>
          <a:xfrm>
            <a:off x="3938760" y="1868400"/>
            <a:ext cx="509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гистерская диссертация на тему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ТНО-АНАЛИТИЧЕСКОЕ ОБЕСПЕЧЕНИЕ УПРАВЛЕНИЯ ФИНАНСОВЫМИ РИСКАМ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TextBox 2"/>
          <p:cNvSpPr/>
          <p:nvPr/>
        </p:nvSpPr>
        <p:spPr>
          <a:xfrm>
            <a:off x="149400" y="4767120"/>
            <a:ext cx="550692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Philosopher"/>
              </a:rPr>
              <a:t>Выполнил магистрант гр. 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ФКозм-171</a:t>
            </a:r>
            <a:r>
              <a:rPr b="0" lang="ru-RU" sz="1700" spc="-1" strike="noStrike">
                <a:solidFill>
                  <a:srgbClr val="ffffff"/>
                </a:solidFill>
                <a:latin typeface="Philosopher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Philosopher"/>
              </a:rPr>
              <a:t>Научный руководитель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0160" y="787320"/>
            <a:ext cx="85806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Philosopher"/>
              </a:rPr>
              <a:t>Научная новизна исследования</a:t>
            </a:r>
            <a:endParaRPr b="0" lang="en-US" sz="30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667" name=""/>
          <p:cNvSpPr/>
          <p:nvPr/>
        </p:nvSpPr>
        <p:spPr>
          <a:xfrm>
            <a:off x="297000" y="1752480"/>
            <a:ext cx="733896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ажнейшими результатами диссертационной работы, удостоверяющими ее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научную новизну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, являются следующие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едложено определение сущности финансового риска как фактора влияния на решения финансового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енеджмента, доказан дуализм финансового риска: его отрицательное (потери) и положительное (потенциальны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озможности) влияние на финансово-хозяйственную деятельность организации, что дает возможность рассматривать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инансовый риск не только как угрозу, но и как драйвер укрепления финансового состояния организации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) Усовершенствована классификация рисков организаций, в частности, обоснована целесообразность классификаци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исков по среде контроля (финансовые, репутационные, технические, технологические, операционные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изводственные, риск ошибочного принятия управленческих решений и риск корпоративного мошенничества), что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зволяет разделить не только риски, но и ответственность за них между соответствующими подразделениям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организации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) Уточнена формулировка содержания термина «товарные запасы» – это целенаправленно сформированна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овокупность товаров потребительского назначения, которые приобретены и содержатся предприятием дл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дальнейшей продажи с целью получения им дохода (прибыли) и повышение конкурентоспособности н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требительском рынке. Предложена классификация товарных запасов с позиции их эффективного управления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4) Предложена авторская трактовка понятия "контроль финансовых рисков" как регулирующей управленческо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дсистемы, созданной с целью совершенствования учетно-аналитического обеспечения управления финансовым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исками, координации, планирования и контроля процесса принятия финансовых решений, связанных с риском на всех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уровнях функционирования организации. Это определение, в отличие от существующих, акцентирует внимание н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еобходимости сопровождения рисковых решений на всех этапах их реализации, что соответствует современным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ировым стандартам управления рисками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5) Обоснована процедура идентификации и качественной оценки финансовых рисков организации за счет возложен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 подсистему внутреннего контроля рисков функций анализа неопределенности внутренней и внешней среды в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цессе идентификации рисков и выявления и устранения поведенческих факторов влияния на качественную оценку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инансовых рисков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6) Разработан и предложен для практического использования алгоритм оценки эффективности внутрихозяйственного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онтроля МПЗ для ООО «Радеж» с целью минимизации финансовых рисков, который базируется на использовани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екомендованной шкалы оценивания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20160" y="787320"/>
            <a:ext cx="85806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hilosopher"/>
              </a:rPr>
              <a:t>Основные выводы и практическая значимость исследования </a:t>
            </a:r>
            <a:endParaRPr b="0" lang="en-US" sz="2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669" name=""/>
          <p:cNvSpPr/>
          <p:nvPr/>
        </p:nvSpPr>
        <p:spPr>
          <a:xfrm>
            <a:off x="304920" y="1638360"/>
            <a:ext cx="8055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Развитие системы контроля – важный рычаг обеспечения рационального использования запасов. Одним из направлений его усовершенствования может стать формирование такой организационной структуры ООО «Радеж», которая бы включала подразделения или службы внутреннего контрол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 Для эффективного проведения внутрихозяйственного контроля запасов, классификацию его видов целесообразно осуществлять по следующим признакам: объему контроля, периодичности и в зависимости от характера контролируемых показателей. При этом необходимо детализировать особенности осуществления каждого из предложенных видов контроля в ООО «Радеж». Для рационализации методики внутрихозяйственного контроля выделены отдельные этапы контроля процесса снабжения и материальных запасов ООО «Радеж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 Организационная структура ООО «Радеж» включает широкий круг различных отделов, цехов и служб. Проведенные исследования свидетельствуют об определенной обособленности контрольных отделов друг от друга, от бухгалтерии и других экономических отделов. Логично объединить подчиненность отделов входного и технического контроля в единую структуру с экономическими и учетными. Предложена модернизация существующей системы контроля с учетом современных особенностей и технических возможностей ООО «Радеж» позволит значительно улучшить показатели его деятельност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. В работе разработан и предложен для практического использования алгоритм оценки эффективности внутрихозяйственного контроля МПЗ для ООО «Радеж»с целью минимизации финансовых рисков организации, который базируется на использовании рекомендованной шкалы оценивания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988920" y="3030480"/>
            <a:ext cx="73152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e79"/>
                </a:solidFill>
                <a:latin typeface="Philosopher"/>
              </a:rPr>
              <a:t>Благодарю за внимание!</a:t>
            </a:r>
            <a:endParaRPr b="0" lang="en-US" sz="4400" spc="-1" strike="noStrike">
              <a:solidFill>
                <a:srgbClr val="000000"/>
              </a:solidFill>
              <a:latin typeface="Philosopher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-360" y="787320"/>
            <a:ext cx="85806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Philosopher"/>
              </a:rPr>
              <a:t>Цель и задачи исследования</a:t>
            </a:r>
            <a:endParaRPr b="0" lang="en-US" sz="30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513" name=""/>
          <p:cNvSpPr/>
          <p:nvPr/>
        </p:nvSpPr>
        <p:spPr>
          <a:xfrm>
            <a:off x="0" y="10288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"/>
          <p:cNvSpPr/>
          <p:nvPr/>
        </p:nvSpPr>
        <p:spPr>
          <a:xfrm>
            <a:off x="0" y="58294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"/>
          <p:cNvSpPr/>
          <p:nvPr/>
        </p:nvSpPr>
        <p:spPr>
          <a:xfrm>
            <a:off x="368280" y="1536840"/>
            <a:ext cx="8344080" cy="914400"/>
          </a:xfrm>
          <a:prstGeom prst="rect">
            <a:avLst/>
          </a:prstGeom>
          <a:solidFill>
            <a:srgbClr val="5b9bd5">
              <a:alpha val="9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Цель -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вершенствование теоретических, организационных и методических основ учетно-аналитического обеспечения снижения финансовых рисков в процессе управления запасами организации (на примере ООО «Радеж»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649440" y="2451240"/>
            <a:ext cx="8070840" cy="3725640"/>
            <a:chOff x="649440" y="2451240"/>
            <a:chExt cx="8070840" cy="3725640"/>
          </a:xfrm>
        </p:grpSpPr>
        <p:sp>
          <p:nvSpPr>
            <p:cNvPr id="517" name=""/>
            <p:cNvSpPr/>
            <p:nvPr/>
          </p:nvSpPr>
          <p:spPr>
            <a:xfrm>
              <a:off x="1022400" y="2565360"/>
              <a:ext cx="7689960" cy="525600"/>
            </a:xfrm>
            <a:prstGeom prst="rect">
              <a:avLst/>
            </a:prstGeom>
            <a:noFill/>
            <a:ln w="3816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Раскрыть теоретические аспекты учетно-аналитического обеспечения снижения финансовых рисков в процессе управления запасами организации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006560" y="3263760"/>
              <a:ext cx="7689600" cy="457200"/>
            </a:xfrm>
            <a:prstGeom prst="rect">
              <a:avLst/>
            </a:prstGeom>
            <a:noFill/>
            <a:ln w="3816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Изучить понятие, виды, учет и методы анализа запасов торгового предприятия для минимизации финансовых рисков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004760" y="3911760"/>
              <a:ext cx="7689960" cy="271440"/>
            </a:xfrm>
            <a:prstGeom prst="rect">
              <a:avLst/>
            </a:prstGeom>
            <a:noFill/>
            <a:ln w="3816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Провести анализ финансового состояния ООО «Радеж» и оценку организации учетной работы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022400" y="4338720"/>
              <a:ext cx="7689960" cy="342720"/>
            </a:xfrm>
            <a:prstGeom prst="rect">
              <a:avLst/>
            </a:prstGeom>
            <a:noFill/>
            <a:ln w="3816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Исследовать фактическое состояние учета запасов в ООО «Радеж»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030320" y="4863960"/>
              <a:ext cx="7689960" cy="457200"/>
            </a:xfrm>
            <a:prstGeom prst="rect">
              <a:avLst/>
            </a:prstGeom>
            <a:noFill/>
            <a:ln w="3816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Проанализировать оборотные активы ООО «Радеж» с целью выявления финансово-экономических рисков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022400" y="5425920"/>
              <a:ext cx="7689960" cy="295560"/>
            </a:xfrm>
            <a:prstGeom prst="rect">
              <a:avLst/>
            </a:prstGeom>
            <a:noFill/>
            <a:ln w="3816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Составить программу совершенствования учетно-аналитического обеспечения управления запасами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022400" y="5880240"/>
              <a:ext cx="7689960" cy="296640"/>
            </a:xfrm>
            <a:prstGeom prst="rect">
              <a:avLst/>
            </a:prstGeom>
            <a:noFill/>
            <a:ln w="3816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Разработать инструментарий для целей оптимизации финансовых рисков организации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>
              <a:off x="669960" y="2451240"/>
              <a:ext cx="25200" cy="3568680"/>
            </a:xfrm>
            <a:prstGeom prst="line">
              <a:avLst/>
            </a:prstGeom>
            <a:ln w="3816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95160" y="2793960"/>
              <a:ext cx="327240" cy="0"/>
            </a:xfrm>
            <a:prstGeom prst="line">
              <a:avLst/>
            </a:prstGeom>
            <a:ln w="38160">
              <a:solidFill>
                <a:srgbClr val="5b9bd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00200" y="3416400"/>
              <a:ext cx="326880" cy="0"/>
            </a:xfrm>
            <a:prstGeom prst="line">
              <a:avLst/>
            </a:prstGeom>
            <a:ln w="38160">
              <a:solidFill>
                <a:srgbClr val="5b9bd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00200" y="3959280"/>
              <a:ext cx="326880" cy="0"/>
            </a:xfrm>
            <a:prstGeom prst="line">
              <a:avLst/>
            </a:prstGeom>
            <a:ln w="38160">
              <a:solidFill>
                <a:srgbClr val="5b9bd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04880" y="5478480"/>
              <a:ext cx="326880" cy="0"/>
            </a:xfrm>
            <a:prstGeom prst="line">
              <a:avLst/>
            </a:prstGeom>
            <a:ln w="38160">
              <a:solidFill>
                <a:srgbClr val="5b9bd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87240" y="4995720"/>
              <a:ext cx="327240" cy="0"/>
            </a:xfrm>
            <a:prstGeom prst="line">
              <a:avLst/>
            </a:prstGeom>
            <a:ln w="38160">
              <a:solidFill>
                <a:srgbClr val="5b9bd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87240" y="4471920"/>
              <a:ext cx="327240" cy="0"/>
            </a:xfrm>
            <a:prstGeom prst="line">
              <a:avLst/>
            </a:prstGeom>
            <a:ln w="38160">
              <a:solidFill>
                <a:srgbClr val="5b9bd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49440" y="6000840"/>
              <a:ext cx="369720" cy="0"/>
            </a:xfrm>
            <a:prstGeom prst="line">
              <a:avLst/>
            </a:prstGeom>
            <a:ln w="38160">
              <a:solidFill>
                <a:srgbClr val="5b9bd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2" name="Заголовок 1"/>
          <p:cNvSpPr/>
          <p:nvPr/>
        </p:nvSpPr>
        <p:spPr>
          <a:xfrm>
            <a:off x="0" y="787320"/>
            <a:ext cx="85806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0160" y="787320"/>
            <a:ext cx="85806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Philosopher"/>
              </a:rPr>
              <a:t>Предмет и объект исследования</a:t>
            </a:r>
            <a:endParaRPr b="0" lang="en-US" sz="30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534" name=""/>
          <p:cNvSpPr/>
          <p:nvPr/>
        </p:nvSpPr>
        <p:spPr>
          <a:xfrm>
            <a:off x="736560" y="1922400"/>
            <a:ext cx="3632400" cy="955800"/>
          </a:xfrm>
          <a:prstGeom prst="downArrowCallout">
            <a:avLst>
              <a:gd name="adj1" fmla="val 95018"/>
              <a:gd name="adj2" fmla="val 95009"/>
              <a:gd name="adj3" fmla="val 16667"/>
              <a:gd name="adj4" fmla="val 66667"/>
            </a:avLst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ЕДМЕТ ИССЛЕДОВ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"/>
          <p:cNvSpPr/>
          <p:nvPr/>
        </p:nvSpPr>
        <p:spPr>
          <a:xfrm>
            <a:off x="5295960" y="1943280"/>
            <a:ext cx="3301920" cy="973080"/>
          </a:xfrm>
          <a:prstGeom prst="downArrowCallout">
            <a:avLst>
              <a:gd name="adj1" fmla="val 84839"/>
              <a:gd name="adj2" fmla="val 84832"/>
              <a:gd name="adj3" fmla="val 16667"/>
              <a:gd name="adj4" fmla="val 66667"/>
            </a:avLst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ЪЕКТ ИССЛЕДОВ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"/>
          <p:cNvSpPr/>
          <p:nvPr/>
        </p:nvSpPr>
        <p:spPr>
          <a:xfrm>
            <a:off x="652320" y="2895480"/>
            <a:ext cx="3792600" cy="160812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вокупность теоретических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рганизационных и методически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нов учетно-аналитическог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еспечения снижени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инансовых риск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"/>
          <p:cNvSpPr/>
          <p:nvPr/>
        </p:nvSpPr>
        <p:spPr>
          <a:xfrm>
            <a:off x="5281560" y="2946240"/>
            <a:ext cx="3395880" cy="149076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инансовые риски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зникающие в процесс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правления запаса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рганиз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"/>
          <p:cNvSpPr/>
          <p:nvPr/>
        </p:nvSpPr>
        <p:spPr>
          <a:xfrm>
            <a:off x="4462560" y="3538440"/>
            <a:ext cx="803160" cy="466920"/>
          </a:xfrm>
          <a:prstGeom prst="leftRightArrow">
            <a:avLst>
              <a:gd name="adj1" fmla="val 50000"/>
              <a:gd name="adj2" fmla="val 34243"/>
            </a:avLst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0" y="974880"/>
            <a:ext cx="8601120" cy="92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hilosopher"/>
              </a:rPr>
              <a:t>Теоретические аспекты учетно-аналитического обеспечения снижения финансовых рисков в процессе управления запасами организации</a:t>
            </a:r>
            <a:r>
              <a:rPr b="0" lang="ru-RU" sz="2000" spc="-1" strike="noStrike">
                <a:solidFill>
                  <a:srgbClr val="000000"/>
                </a:solidFill>
                <a:latin typeface="Philosophe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Philosopher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127080" y="2011320"/>
            <a:ext cx="8780400" cy="4478400"/>
            <a:chOff x="127080" y="2011320"/>
            <a:chExt cx="8780400" cy="4478400"/>
          </a:xfrm>
        </p:grpSpPr>
        <p:sp>
          <p:nvSpPr>
            <p:cNvPr id="541" name=""/>
            <p:cNvSpPr/>
            <p:nvPr/>
          </p:nvSpPr>
          <p:spPr>
            <a:xfrm>
              <a:off x="195120" y="2011320"/>
              <a:ext cx="8712360" cy="327240"/>
            </a:xfrm>
            <a:prstGeom prst="rect">
              <a:avLst/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ОСНОВНЫЕ ГРУППЫ ЭЛЕМЕНТОВ СРЕДЫ КОНТРОЛЯ ОПЕРАЦИЙ С ЗАПАСАМИ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95120" y="2665440"/>
              <a:ext cx="2862360" cy="1636560"/>
            </a:xfrm>
            <a:prstGeom prst="rect">
              <a:avLst/>
            </a:prstGeom>
            <a:noFill/>
            <a:ln w="3816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Факты расходов, которые отражают реальные события использования материальных ресурсов на этапах торгового (технологического) процесса и размер их возможных отклонени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306600" y="2665440"/>
              <a:ext cx="2240280" cy="1636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Бухгалтерская служба и служба материально-технического обеспечения, как основа для функционирования учетного процесса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796000" y="2665440"/>
              <a:ext cx="3111480" cy="1636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Деятельность управленческих служб и информационное обеспечение управления в форме отчетности, составляемой на основании фактических данных учета для удовлетворения внутренних пользователе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440000" y="2338560"/>
              <a:ext cx="372960" cy="326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040520" y="2338560"/>
              <a:ext cx="372960" cy="326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178160" y="2338560"/>
              <a:ext cx="373320" cy="326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27080" y="4386240"/>
              <a:ext cx="8737560" cy="3002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СНОВНЫЕ ГРУППЫ РИСКОВ, ПРИСУЩИЕ СРЕДЕ КОНТРОЛЯ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27080" y="4987800"/>
              <a:ext cx="3868560" cy="1501920"/>
            </a:xfrm>
            <a:prstGeom prst="rect">
              <a:avLst/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о фактическим данным расходов запасов на этапах торгового процесса (технологического процесса производства) и их отклонения (технические, технологические, операционные, производственные) или риск перерасхода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121280" y="4987800"/>
              <a:ext cx="2122200" cy="1501920"/>
            </a:xfrm>
            <a:prstGeom prst="rect">
              <a:avLst/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о системе бухгалтерского учета запасов (учетным и отчетным данным системы бухгалтерского учета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367320" y="4987800"/>
              <a:ext cx="2497320" cy="1501920"/>
            </a:xfrm>
            <a:prstGeom prst="rect">
              <a:avLst/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о деятельности управленческих служб (риск ошибочного принятия управленческих решений, риск корпоративного мошенничества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998720" y="4686480"/>
              <a:ext cx="374760" cy="301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3816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365960" y="4686480"/>
              <a:ext cx="374760" cy="301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3816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995720" y="4686480"/>
              <a:ext cx="373320" cy="301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3816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0160" y="1033560"/>
            <a:ext cx="8580600" cy="54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hilosopher"/>
              </a:rPr>
              <a:t>Запасы торгового предприятия: понятие, виды, учет, методы анализа для минимизации финансовых рисков </a:t>
            </a:r>
            <a:endParaRPr b="0" lang="en-US" sz="2400" spc="-1" strike="noStrike">
              <a:solidFill>
                <a:srgbClr val="000000"/>
              </a:solidFill>
              <a:latin typeface="Philosopher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592200" y="1836720"/>
            <a:ext cx="8039160" cy="4572000"/>
            <a:chOff x="592200" y="1836720"/>
            <a:chExt cx="8039160" cy="4572000"/>
          </a:xfrm>
        </p:grpSpPr>
        <p:sp>
          <p:nvSpPr>
            <p:cNvPr id="557" name="Rectangle 168"/>
            <p:cNvSpPr/>
            <p:nvPr/>
          </p:nvSpPr>
          <p:spPr>
            <a:xfrm>
              <a:off x="1560600" y="1836720"/>
              <a:ext cx="6137280" cy="444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НЕОБХОДИМОСТЬ СОЗДАНИЯ ТОВАРНЫХ ЗАПАСОВ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Rectangle 169"/>
            <p:cNvSpPr/>
            <p:nvPr/>
          </p:nvSpPr>
          <p:spPr>
            <a:xfrm>
              <a:off x="592200" y="2408400"/>
              <a:ext cx="3630600" cy="457200"/>
            </a:xfrm>
            <a:prstGeom prst="rect">
              <a:avLst/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ffff"/>
                  </a:solidFill>
                  <a:latin typeface="Arial"/>
                </a:rPr>
                <a:t>Несоответствие ритма потребления (продаж) и производства товаров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Rectangle 170"/>
            <p:cNvSpPr/>
            <p:nvPr/>
          </p:nvSpPr>
          <p:spPr>
            <a:xfrm>
              <a:off x="592200" y="2979720"/>
              <a:ext cx="3630600" cy="914400"/>
            </a:xfrm>
            <a:prstGeom prst="rect">
              <a:avLst/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ffff"/>
                  </a:solidFill>
                  <a:latin typeface="Arial"/>
                </a:rPr>
                <a:t>Несоответствие между производственным и торговым ассортиментом, которое требует подсортировки, упаковки и доработки, т.е. существует потребность в преобразовании производственного ассортимента в торговый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Rectangle 171"/>
            <p:cNvSpPr/>
            <p:nvPr/>
          </p:nvSpPr>
          <p:spPr>
            <a:xfrm>
              <a:off x="592200" y="4008600"/>
              <a:ext cx="3630600" cy="571320"/>
            </a:xfrm>
            <a:prstGeom prst="rect">
              <a:avLst/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ffff"/>
                  </a:solidFill>
                  <a:latin typeface="Arial"/>
                </a:rPr>
                <a:t>Условия транспортировки товаров, расстояние между поставщиком и торговым предприятием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Rectangle 172"/>
            <p:cNvSpPr/>
            <p:nvPr/>
          </p:nvSpPr>
          <p:spPr>
            <a:xfrm>
              <a:off x="592200" y="4694400"/>
              <a:ext cx="3630600" cy="457200"/>
            </a:xfrm>
            <a:prstGeom prst="rect">
              <a:avLst/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ffff"/>
                  </a:solidFill>
                  <a:latin typeface="Arial"/>
                </a:rPr>
                <a:t>Сезонность производства и потребления отдельных видов товаров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Rectangle 173"/>
            <p:cNvSpPr/>
            <p:nvPr/>
          </p:nvSpPr>
          <p:spPr>
            <a:xfrm>
              <a:off x="592200" y="5265720"/>
              <a:ext cx="3630600" cy="343080"/>
            </a:xfrm>
            <a:prstGeom prst="rect">
              <a:avLst/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ffff"/>
                  </a:solidFill>
                  <a:latin typeface="Arial"/>
                </a:rPr>
                <a:t>Цепи товародвижения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Rectangle 174"/>
            <p:cNvSpPr/>
            <p:nvPr/>
          </p:nvSpPr>
          <p:spPr>
            <a:xfrm>
              <a:off x="592200" y="5722920"/>
              <a:ext cx="3630600" cy="685800"/>
            </a:xfrm>
            <a:prstGeom prst="rect">
              <a:avLst/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ffff"/>
                  </a:solidFill>
                  <a:latin typeface="Arial"/>
                </a:rPr>
                <a:t>Желание участников экономических отношений снизить расходы, связанные с размещением заказа и доставкой товаров, а также издержки обращения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Rectangle 175"/>
            <p:cNvSpPr/>
            <p:nvPr/>
          </p:nvSpPr>
          <p:spPr>
            <a:xfrm>
              <a:off x="5000760" y="2408400"/>
              <a:ext cx="3630600" cy="571320"/>
            </a:xfrm>
            <a:prstGeom prst="rect">
              <a:avLst/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ffff"/>
                  </a:solidFill>
                  <a:latin typeface="Arial"/>
                </a:rPr>
                <a:t>Неравномерность территориального размещения производства и районов потребления товаров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Rectangle 176"/>
            <p:cNvSpPr/>
            <p:nvPr/>
          </p:nvSpPr>
          <p:spPr>
            <a:xfrm>
              <a:off x="5000760" y="3094200"/>
              <a:ext cx="3630600" cy="685800"/>
            </a:xfrm>
            <a:prstGeom prst="rect">
              <a:avLst/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ffff"/>
                  </a:solidFill>
                  <a:latin typeface="Arial"/>
                </a:rPr>
                <a:t>Необходимость образования страховых резервов для сглаживания возможных непредсказуемых колебаний в спросе и предложения товаров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Rectangle 177"/>
            <p:cNvSpPr/>
            <p:nvPr/>
          </p:nvSpPr>
          <p:spPr>
            <a:xfrm>
              <a:off x="5000760" y="3894120"/>
              <a:ext cx="3630600" cy="457200"/>
            </a:xfrm>
            <a:prstGeom prst="rect">
              <a:avLst/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ffff"/>
                  </a:solidFill>
                  <a:latin typeface="Arial"/>
                </a:rPr>
                <a:t>Спекулятивные намерения и инфляционные ожидания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Rectangle 178"/>
            <p:cNvSpPr/>
            <p:nvPr/>
          </p:nvSpPr>
          <p:spPr>
            <a:xfrm>
              <a:off x="5000760" y="4465800"/>
              <a:ext cx="3630600" cy="342720"/>
            </a:xfrm>
            <a:prstGeom prst="rect">
              <a:avLst/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ffff"/>
                  </a:solidFill>
                  <a:latin typeface="Arial"/>
                </a:rPr>
                <a:t>Возможности для хранения товаров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Rectangle 179"/>
            <p:cNvSpPr/>
            <p:nvPr/>
          </p:nvSpPr>
          <p:spPr>
            <a:xfrm>
              <a:off x="5000760" y="4923000"/>
              <a:ext cx="3630600" cy="571320"/>
            </a:xfrm>
            <a:prstGeom prst="rect">
              <a:avLst/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ffff"/>
                  </a:solidFill>
                  <a:latin typeface="Arial"/>
                </a:rPr>
                <a:t>Желание получить экономическую выгоду от оптовых скидок в случае приобретения больших объемов товаров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Rectangle 180"/>
            <p:cNvSpPr/>
            <p:nvPr/>
          </p:nvSpPr>
          <p:spPr>
            <a:xfrm>
              <a:off x="5000760" y="5608800"/>
              <a:ext cx="3630600" cy="457200"/>
            </a:xfrm>
            <a:prstGeom prst="rect">
              <a:avLst/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ffff"/>
                  </a:solidFill>
                  <a:latin typeface="Arial"/>
                </a:rPr>
                <a:t>Поддержания высокого уровня обслуживания клиентов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Rectangle 181"/>
            <p:cNvSpPr/>
            <p:nvPr/>
          </p:nvSpPr>
          <p:spPr>
            <a:xfrm>
              <a:off x="5000760" y="6180120"/>
              <a:ext cx="3630600" cy="228600"/>
            </a:xfrm>
            <a:prstGeom prst="rect">
              <a:avLst/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ffff"/>
                  </a:solidFill>
                  <a:latin typeface="Arial"/>
                </a:rPr>
                <a:t>Стохастический характер спроса на товары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Line 182"/>
            <p:cNvSpPr/>
            <p:nvPr/>
          </p:nvSpPr>
          <p:spPr>
            <a:xfrm>
              <a:off x="4481640" y="2287440"/>
              <a:ext cx="0" cy="3892680"/>
            </a:xfrm>
            <a:prstGeom prst="line">
              <a:avLst/>
            </a:prstGeom>
            <a:ln w="3816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Line 183"/>
            <p:cNvSpPr/>
            <p:nvPr/>
          </p:nvSpPr>
          <p:spPr>
            <a:xfrm flipH="1">
              <a:off x="4222440" y="6180120"/>
              <a:ext cx="258840" cy="0"/>
            </a:xfrm>
            <a:prstGeom prst="line">
              <a:avLst/>
            </a:prstGeom>
            <a:ln w="38160">
              <a:solidFill>
                <a:srgbClr val="5b9bd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Line 184"/>
            <p:cNvSpPr/>
            <p:nvPr/>
          </p:nvSpPr>
          <p:spPr>
            <a:xfrm flipH="1">
              <a:off x="4222440" y="5494320"/>
              <a:ext cx="258840" cy="0"/>
            </a:xfrm>
            <a:prstGeom prst="line">
              <a:avLst/>
            </a:prstGeom>
            <a:ln w="38160">
              <a:solidFill>
                <a:srgbClr val="5b9bd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Line 185"/>
            <p:cNvSpPr/>
            <p:nvPr/>
          </p:nvSpPr>
          <p:spPr>
            <a:xfrm flipH="1">
              <a:off x="4222440" y="4923000"/>
              <a:ext cx="258840" cy="0"/>
            </a:xfrm>
            <a:prstGeom prst="line">
              <a:avLst/>
            </a:prstGeom>
            <a:ln w="38160">
              <a:solidFill>
                <a:srgbClr val="5b9bd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Line 186"/>
            <p:cNvSpPr/>
            <p:nvPr/>
          </p:nvSpPr>
          <p:spPr>
            <a:xfrm flipH="1">
              <a:off x="4222440" y="4351320"/>
              <a:ext cx="258840" cy="0"/>
            </a:xfrm>
            <a:prstGeom prst="line">
              <a:avLst/>
            </a:prstGeom>
            <a:ln w="38160">
              <a:solidFill>
                <a:srgbClr val="5b9bd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Line 187"/>
            <p:cNvSpPr/>
            <p:nvPr/>
          </p:nvSpPr>
          <p:spPr>
            <a:xfrm flipH="1">
              <a:off x="4222440" y="3436920"/>
              <a:ext cx="258840" cy="0"/>
            </a:xfrm>
            <a:prstGeom prst="line">
              <a:avLst/>
            </a:prstGeom>
            <a:ln w="38160">
              <a:solidFill>
                <a:srgbClr val="5b9bd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Line 188"/>
            <p:cNvSpPr/>
            <p:nvPr/>
          </p:nvSpPr>
          <p:spPr>
            <a:xfrm flipH="1">
              <a:off x="4222440" y="2637000"/>
              <a:ext cx="258840" cy="0"/>
            </a:xfrm>
            <a:prstGeom prst="line">
              <a:avLst/>
            </a:prstGeom>
            <a:ln w="38160">
              <a:solidFill>
                <a:srgbClr val="5b9bd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Line 189"/>
            <p:cNvSpPr/>
            <p:nvPr/>
          </p:nvSpPr>
          <p:spPr>
            <a:xfrm>
              <a:off x="4734000" y="2278080"/>
              <a:ext cx="7920" cy="4016520"/>
            </a:xfrm>
            <a:prstGeom prst="line">
              <a:avLst/>
            </a:prstGeom>
            <a:ln w="3816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Line 190"/>
            <p:cNvSpPr/>
            <p:nvPr/>
          </p:nvSpPr>
          <p:spPr>
            <a:xfrm>
              <a:off x="4741920" y="6294600"/>
              <a:ext cx="258840" cy="0"/>
            </a:xfrm>
            <a:prstGeom prst="line">
              <a:avLst/>
            </a:prstGeom>
            <a:ln w="38160">
              <a:solidFill>
                <a:srgbClr val="5b9bd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Line 191"/>
            <p:cNvSpPr/>
            <p:nvPr/>
          </p:nvSpPr>
          <p:spPr>
            <a:xfrm>
              <a:off x="4741920" y="5837400"/>
              <a:ext cx="258840" cy="0"/>
            </a:xfrm>
            <a:prstGeom prst="line">
              <a:avLst/>
            </a:prstGeom>
            <a:ln w="38160">
              <a:solidFill>
                <a:srgbClr val="5b9bd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Line 192"/>
            <p:cNvSpPr/>
            <p:nvPr/>
          </p:nvSpPr>
          <p:spPr>
            <a:xfrm>
              <a:off x="4741920" y="5265720"/>
              <a:ext cx="258840" cy="0"/>
            </a:xfrm>
            <a:prstGeom prst="line">
              <a:avLst/>
            </a:prstGeom>
            <a:ln w="38160">
              <a:solidFill>
                <a:srgbClr val="5b9bd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Line 193"/>
            <p:cNvSpPr/>
            <p:nvPr/>
          </p:nvSpPr>
          <p:spPr>
            <a:xfrm>
              <a:off x="4741920" y="4579920"/>
              <a:ext cx="258840" cy="0"/>
            </a:xfrm>
            <a:prstGeom prst="line">
              <a:avLst/>
            </a:prstGeom>
            <a:ln w="38160">
              <a:solidFill>
                <a:srgbClr val="5b9bd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Line 194"/>
            <p:cNvSpPr/>
            <p:nvPr/>
          </p:nvSpPr>
          <p:spPr>
            <a:xfrm>
              <a:off x="4741920" y="4122720"/>
              <a:ext cx="258840" cy="0"/>
            </a:xfrm>
            <a:prstGeom prst="line">
              <a:avLst/>
            </a:prstGeom>
            <a:ln w="38160">
              <a:solidFill>
                <a:srgbClr val="5b9bd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Line 195"/>
            <p:cNvSpPr/>
            <p:nvPr/>
          </p:nvSpPr>
          <p:spPr>
            <a:xfrm>
              <a:off x="4741920" y="3436920"/>
              <a:ext cx="258840" cy="0"/>
            </a:xfrm>
            <a:prstGeom prst="line">
              <a:avLst/>
            </a:prstGeom>
            <a:ln w="38160">
              <a:solidFill>
                <a:srgbClr val="5b9bd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Line 196"/>
            <p:cNvSpPr/>
            <p:nvPr/>
          </p:nvSpPr>
          <p:spPr>
            <a:xfrm>
              <a:off x="4741920" y="2637000"/>
              <a:ext cx="258840" cy="0"/>
            </a:xfrm>
            <a:prstGeom prst="line">
              <a:avLst/>
            </a:prstGeom>
            <a:ln w="38160">
              <a:solidFill>
                <a:srgbClr val="5b9bd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-360" y="961560"/>
            <a:ext cx="858060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hilosopher"/>
              </a:rPr>
              <a:t>Анализ финансового состояния ООО «Радеж» и оценка организации учетной работы</a:t>
            </a:r>
            <a:endParaRPr b="0" lang="en-US" sz="2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587" name=""/>
          <p:cNvSpPr/>
          <p:nvPr/>
        </p:nvSpPr>
        <p:spPr>
          <a:xfrm>
            <a:off x="-2536920" y="425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8" name="Объект 3"/>
          <p:cNvGraphicFramePr/>
          <p:nvPr/>
        </p:nvGraphicFramePr>
        <p:xfrm>
          <a:off x="368280" y="1684440"/>
          <a:ext cx="3984480" cy="1987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9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280" y="1684440"/>
                    <a:ext cx="398448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0" name=""/>
          <p:cNvSpPr/>
          <p:nvPr/>
        </p:nvSpPr>
        <p:spPr>
          <a:xfrm>
            <a:off x="114480" y="3796560"/>
            <a:ext cx="441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563c1"/>
                </a:solidFill>
                <a:latin typeface="Times New Roman"/>
                <a:ea typeface="Times New Roman"/>
              </a:rPr>
              <a:t>Динамика структуры пассивов ООО «Радеж» за 2016-2018 гг., %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"/>
          <p:cNvSpPr/>
          <p:nvPr/>
        </p:nvSpPr>
        <p:spPr>
          <a:xfrm>
            <a:off x="0" y="448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2" name="Объект 9"/>
          <p:cNvGraphicFramePr/>
          <p:nvPr/>
        </p:nvGraphicFramePr>
        <p:xfrm>
          <a:off x="4840200" y="1403280"/>
          <a:ext cx="4035600" cy="2133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93" name="Объект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40200" y="1403280"/>
                    <a:ext cx="403560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4" name=""/>
          <p:cNvSpPr/>
          <p:nvPr/>
        </p:nvSpPr>
        <p:spPr>
          <a:xfrm>
            <a:off x="4832280" y="3618720"/>
            <a:ext cx="4127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563c1"/>
                </a:solidFill>
                <a:latin typeface="Times New Roman"/>
                <a:ea typeface="Times New Roman"/>
              </a:rPr>
              <a:t>Динамика основных финансовых результатов деятельности ООО «Радеж» за 2016-2018 гг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"/>
          <p:cNvSpPr/>
          <p:nvPr/>
        </p:nvSpPr>
        <p:spPr>
          <a:xfrm>
            <a:off x="0" y="198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6" name="Объект 10"/>
          <p:cNvGraphicFramePr/>
          <p:nvPr/>
        </p:nvGraphicFramePr>
        <p:xfrm>
          <a:off x="4816440" y="4405320"/>
          <a:ext cx="4189320" cy="16606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597" name="Объект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16440" y="4405320"/>
                    <a:ext cx="4189320" cy="16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8" name=""/>
          <p:cNvSpPr/>
          <p:nvPr/>
        </p:nvSpPr>
        <p:spPr>
          <a:xfrm>
            <a:off x="4835520" y="6163560"/>
            <a:ext cx="415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563c1"/>
                </a:solidFill>
                <a:latin typeface="Calibri"/>
                <a:ea typeface="Times New Roman"/>
              </a:rPr>
              <a:t>Динамика показателей рентабельности ООО «Радеж» за 2016-2018 гг., %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9" name=""/>
          <p:cNvGraphicFramePr/>
          <p:nvPr/>
        </p:nvGraphicFramePr>
        <p:xfrm>
          <a:off x="297000" y="4137120"/>
          <a:ext cx="4321080" cy="1614240"/>
        </p:xfrm>
        <a:graphic>
          <a:graphicData uri="http://schemas.openxmlformats.org/drawingml/2006/table">
            <a:tbl>
              <a:tblPr/>
              <a:tblGrid>
                <a:gridCol w="976320"/>
                <a:gridCol w="723600"/>
                <a:gridCol w="952560"/>
                <a:gridCol w="928800"/>
                <a:gridCol w="73980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ы по степени ликвид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 г.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тнош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ссивы по сроку погаш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 г.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0" lang="en-US" sz="1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57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0" lang="en-US" sz="1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60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0" lang="en-US" sz="1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6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0" lang="en-US" sz="1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0" lang="en-US" sz="1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0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0" lang="en-US" sz="1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722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0" lang="en-US" sz="1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150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0" lang="en-US" sz="1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304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19160" y="1152000"/>
            <a:ext cx="8580240" cy="7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Philosopher"/>
              </a:rPr>
              <a:t>Анализ оборотных активов ООО «Радеж» с целью выявления финансово-экономических рисков </a:t>
            </a:r>
            <a:endParaRPr b="0" lang="en-US" sz="26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601" name=""/>
          <p:cNvSpPr/>
          <p:nvPr/>
        </p:nvSpPr>
        <p:spPr>
          <a:xfrm>
            <a:off x="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2" name="Объект 11"/>
          <p:cNvGraphicFramePr/>
          <p:nvPr/>
        </p:nvGraphicFramePr>
        <p:xfrm>
          <a:off x="365040" y="2049480"/>
          <a:ext cx="3533760" cy="194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3" name="Объект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040" y="2049480"/>
                    <a:ext cx="3533760" cy="19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4" name=""/>
          <p:cNvSpPr/>
          <p:nvPr/>
        </p:nvSpPr>
        <p:spPr>
          <a:xfrm>
            <a:off x="239400" y="4052160"/>
            <a:ext cx="397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563c1"/>
                </a:solidFill>
                <a:latin typeface="Times New Roman"/>
                <a:ea typeface="Times New Roman"/>
              </a:rPr>
              <a:t>Динамика наличия запасов в ООО «Радеж» за 2016-2018 гг., тыс. руб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"/>
          <p:cNvSpPr/>
          <p:nvPr/>
        </p:nvSpPr>
        <p:spPr>
          <a:xfrm>
            <a:off x="0" y="146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6" name="Объект 12"/>
          <p:cNvGraphicFramePr/>
          <p:nvPr/>
        </p:nvGraphicFramePr>
        <p:xfrm>
          <a:off x="571680" y="4390920"/>
          <a:ext cx="3047760" cy="1855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07" name="Объект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680" y="4390920"/>
                    <a:ext cx="3047760" cy="18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8" name=""/>
          <p:cNvSpPr/>
          <p:nvPr/>
        </p:nvSpPr>
        <p:spPr>
          <a:xfrm>
            <a:off x="527040" y="6295320"/>
            <a:ext cx="3184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563c1"/>
                </a:solidFill>
                <a:latin typeface="Times New Roman"/>
                <a:ea typeface="Times New Roman"/>
              </a:rPr>
              <a:t>Анализ структуры структура запасов ООО «Радеж» по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563c1"/>
                </a:solidFill>
                <a:latin typeface="Times New Roman"/>
                <a:ea typeface="Times New Roman"/>
              </a:rPr>
              <a:t>данным счета 41 «Товары» за 2016-2018 гг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"/>
          <p:cNvSpPr/>
          <p:nvPr/>
        </p:nvSpPr>
        <p:spPr>
          <a:xfrm>
            <a:off x="0" y="201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0" name="Объект 13"/>
          <p:cNvGraphicFramePr/>
          <p:nvPr/>
        </p:nvGraphicFramePr>
        <p:xfrm>
          <a:off x="4973760" y="1989000"/>
          <a:ext cx="3493800" cy="15940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11" name="Объект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73760" y="1989000"/>
                    <a:ext cx="3493800" cy="15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2" name=""/>
          <p:cNvSpPr/>
          <p:nvPr/>
        </p:nvSpPr>
        <p:spPr>
          <a:xfrm>
            <a:off x="4924440" y="3706200"/>
            <a:ext cx="3724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563c1"/>
                </a:solidFill>
                <a:latin typeface="Times New Roman"/>
              </a:rPr>
              <a:t>Д</a:t>
            </a:r>
            <a:r>
              <a:rPr b="0" lang="en-US" sz="1000" spc="-1" strike="noStrike">
                <a:solidFill>
                  <a:srgbClr val="0563c1"/>
                </a:solidFill>
                <a:latin typeface="Times New Roman"/>
                <a:ea typeface="Times New Roman"/>
              </a:rPr>
              <a:t>инамика коэффициент оборачиваемости запасов ООО «Радеж» за 2016-2018 гг., оборот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"/>
          <p:cNvSpPr/>
          <p:nvPr/>
        </p:nvSpPr>
        <p:spPr>
          <a:xfrm>
            <a:off x="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4" name="Объект 14"/>
          <p:cNvGraphicFramePr/>
          <p:nvPr/>
        </p:nvGraphicFramePr>
        <p:xfrm>
          <a:off x="4826160" y="4290840"/>
          <a:ext cx="4051080" cy="18590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615" name="Объект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26160" y="4290840"/>
                    <a:ext cx="4051080" cy="18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6" name=""/>
          <p:cNvSpPr/>
          <p:nvPr/>
        </p:nvSpPr>
        <p:spPr>
          <a:xfrm>
            <a:off x="4764240" y="6233400"/>
            <a:ext cx="425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563c1"/>
                </a:solidFill>
                <a:latin typeface="Times New Roman"/>
                <a:ea typeface="Times New Roman"/>
              </a:rPr>
              <a:t>Динамика продолжительности одного оборота запасов ООО «Радеж»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563c1"/>
                </a:solidFill>
                <a:latin typeface="Times New Roman"/>
                <a:ea typeface="Times New Roman"/>
              </a:rPr>
              <a:t>за 2016-2018 гг., дн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-360" y="1168560"/>
            <a:ext cx="85806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hilosopher"/>
              </a:rPr>
              <a:t>Программа совершенствования учетно-аналитического обеспечения управления запасами </a:t>
            </a:r>
            <a:endParaRPr b="0" lang="en-US" sz="2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618" name=""/>
          <p:cNvSpPr/>
          <p:nvPr/>
        </p:nvSpPr>
        <p:spPr>
          <a:xfrm>
            <a:off x="304920" y="2073240"/>
            <a:ext cx="687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тно-управленческие функции, связанные с процессами использования запасо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260280" y="2855880"/>
          <a:ext cx="8358120" cy="3743280"/>
        </p:xfrm>
        <a:graphic>
          <a:graphicData uri="http://schemas.openxmlformats.org/drawingml/2006/table">
            <a:tbl>
              <a:tblPr/>
              <a:tblGrid>
                <a:gridCol w="2811600"/>
                <a:gridCol w="1361880"/>
                <a:gridCol w="1381320"/>
                <a:gridCol w="280332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и управл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уктурные подраздел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ственные лиц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омендуемые формы документ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ирование, планирование, анализ и определение потребностей в материалах и сырье в целом на предприятии и на рабочих мест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ово-экономический отде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ономист по нормированию, планированию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чет норм расходов материальных запасов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чет плановой потребности в запасах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овая калькуляция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 альтернативных вариантов и заменителей сырья и материалов (с целью поиска резервов рационализации использования ресурсов)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 затрат запасов и соответствие их нормам и лимита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хгалтерия, центры возникновения затра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бухгалтер, учетчи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кладная управленческая записка (рекомендации по совершенствованию норм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внутреннего маневрирования запаса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 материально-технического снабжения, производственные подраздел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дже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кладная записка руководителя структурного подразделения, сигнальная карточка или аналитическая запис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сохранения и использования вторичных запас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ла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едующий складо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фик маршрута материалопоток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использования материальных запас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азделения предприя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ьник подраздел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тивная информация о вторичных ресурсах и рекомендации по их использованию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20160" y="1069560"/>
            <a:ext cx="858060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Philosopher"/>
              </a:rPr>
              <a:t>Инструментарий для целей оптимизации финансовых рисков организации</a:t>
            </a:r>
            <a:r>
              <a:rPr b="0" lang="ru-RU" sz="2400" spc="-1" strike="noStrike">
                <a:solidFill>
                  <a:srgbClr val="000000"/>
                </a:solidFill>
                <a:latin typeface="Philosophe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hilosopher"/>
            </a:endParaRPr>
          </a:p>
        </p:txBody>
      </p:sp>
      <p:sp>
        <p:nvSpPr>
          <p:cNvPr id="621" name=""/>
          <p:cNvSpPr/>
          <p:nvPr/>
        </p:nvSpPr>
        <p:spPr>
          <a:xfrm>
            <a:off x="57240" y="-31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AutoShape 274"/>
          <p:cNvSpPr/>
          <p:nvPr/>
        </p:nvSpPr>
        <p:spPr>
          <a:xfrm>
            <a:off x="2274840" y="1601640"/>
            <a:ext cx="4718160" cy="225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ЧАЛО КОНТРОЛ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259920" y="1827360"/>
            <a:ext cx="8698320" cy="4719600"/>
            <a:chOff x="259920" y="1827360"/>
            <a:chExt cx="8698320" cy="4719600"/>
          </a:xfrm>
        </p:grpSpPr>
        <p:sp>
          <p:nvSpPr>
            <p:cNvPr id="624" name="Rectangle 275"/>
            <p:cNvSpPr/>
            <p:nvPr/>
          </p:nvSpPr>
          <p:spPr>
            <a:xfrm>
              <a:off x="260280" y="1978200"/>
              <a:ext cx="2792520" cy="190440"/>
            </a:xfrm>
            <a:prstGeom prst="rect">
              <a:avLst/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  <a:ea typeface="Times New Roman"/>
                </a:rPr>
                <a:t>Процесс контроля запасов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Rectangle 276"/>
            <p:cNvSpPr/>
            <p:nvPr/>
          </p:nvSpPr>
          <p:spPr>
            <a:xfrm>
              <a:off x="5345280" y="1940040"/>
              <a:ext cx="3612960" cy="409320"/>
            </a:xfrm>
            <a:prstGeom prst="rect">
              <a:avLst/>
            </a:prstGeom>
            <a:solidFill>
              <a:srgbClr val="5b9bd5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  <a:ea typeface="Times New Roman"/>
                </a:rPr>
                <a:t>База данных о состоянии и результатах контроля на предприятии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Rectangle 277"/>
            <p:cNvSpPr/>
            <p:nvPr/>
          </p:nvSpPr>
          <p:spPr>
            <a:xfrm>
              <a:off x="1246320" y="2355840"/>
              <a:ext cx="6567480" cy="225360"/>
            </a:xfrm>
            <a:prstGeom prst="rect">
              <a:avLst/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  <a:ea typeface="Times New Roman"/>
                </a:rPr>
                <a:t>Обработка информации об эффективности контроля по этапам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Rectangle 278"/>
            <p:cNvSpPr/>
            <p:nvPr/>
          </p:nvSpPr>
          <p:spPr>
            <a:xfrm>
              <a:off x="588960" y="2657520"/>
              <a:ext cx="1806480" cy="527040"/>
            </a:xfrm>
            <a:prstGeom prst="rect">
              <a:avLst/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Calibri"/>
                  <a:ea typeface="Times New Roman"/>
                </a:rPr>
                <a:t>Определение эффективности контроля за поставкой запасов (Э</a:t>
              </a:r>
              <a:r>
                <a:rPr b="0" lang="en-US" sz="900" spc="-1" strike="noStrike" baseline="-30000">
                  <a:solidFill>
                    <a:srgbClr val="ffffff"/>
                  </a:solidFill>
                  <a:latin typeface="Calibri"/>
                  <a:ea typeface="Times New Roman"/>
                </a:rPr>
                <a:t>l</a:t>
              </a:r>
              <a:r>
                <a:rPr b="0" lang="en-US" sz="900" spc="-1" strike="noStrike">
                  <a:solidFill>
                    <a:srgbClr val="ffffff"/>
                  </a:solidFill>
                  <a:latin typeface="Calibri"/>
                  <a:ea typeface="Times New Roman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Rectangle 279"/>
            <p:cNvSpPr/>
            <p:nvPr/>
          </p:nvSpPr>
          <p:spPr>
            <a:xfrm>
              <a:off x="2558880" y="2657520"/>
              <a:ext cx="1806840" cy="527040"/>
            </a:xfrm>
            <a:prstGeom prst="rect">
              <a:avLst/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Calibri"/>
                  <a:ea typeface="Times New Roman"/>
                </a:rPr>
                <a:t>Определение эффективности контроля за хранением запасов (Э</a:t>
              </a:r>
              <a:r>
                <a:rPr b="0" lang="en-US" sz="900" spc="-1" strike="noStrike" baseline="-30000">
                  <a:solidFill>
                    <a:srgbClr val="ffffff"/>
                  </a:solidFill>
                  <a:latin typeface="Calibri"/>
                  <a:ea typeface="Times New Roman"/>
                </a:rPr>
                <a:t>2</a:t>
              </a:r>
              <a:r>
                <a:rPr b="0" lang="en-US" sz="900" spc="-1" strike="noStrike">
                  <a:solidFill>
                    <a:srgbClr val="ffffff"/>
                  </a:solidFill>
                  <a:latin typeface="Calibri"/>
                  <a:ea typeface="Times New Roman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Rectangle 280"/>
            <p:cNvSpPr/>
            <p:nvPr/>
          </p:nvSpPr>
          <p:spPr>
            <a:xfrm>
              <a:off x="4530600" y="2657520"/>
              <a:ext cx="2133720" cy="527040"/>
            </a:xfrm>
            <a:prstGeom prst="rect">
              <a:avLst/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Calibri"/>
                  <a:ea typeface="Times New Roman"/>
                </a:rPr>
                <a:t>Определение эффективности контроля процесса реализации материальных запасов (Э</a:t>
              </a:r>
              <a:r>
                <a:rPr b="0" lang="en-US" sz="900" spc="-1" strike="noStrike" baseline="-30000">
                  <a:solidFill>
                    <a:srgbClr val="ffffff"/>
                  </a:solidFill>
                  <a:latin typeface="Calibri"/>
                  <a:ea typeface="Times New Roman"/>
                </a:rPr>
                <a:t>3</a:t>
              </a:r>
              <a:r>
                <a:rPr b="0" lang="en-US" sz="900" spc="-1" strike="noStrike">
                  <a:solidFill>
                    <a:srgbClr val="ffffff"/>
                  </a:solidFill>
                  <a:latin typeface="Calibri"/>
                  <a:ea typeface="Times New Roman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Rectangle 281"/>
            <p:cNvSpPr/>
            <p:nvPr/>
          </p:nvSpPr>
          <p:spPr>
            <a:xfrm>
              <a:off x="6829560" y="2657520"/>
              <a:ext cx="1806480" cy="527040"/>
            </a:xfrm>
            <a:prstGeom prst="rect">
              <a:avLst/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Calibri"/>
                  <a:ea typeface="Times New Roman"/>
                </a:rPr>
                <a:t>Определение эффективности технического и технологического контроля (Э</a:t>
              </a:r>
              <a:r>
                <a:rPr b="0" lang="en-US" sz="900" spc="-1" strike="noStrike" baseline="-30000">
                  <a:solidFill>
                    <a:srgbClr val="ffffff"/>
                  </a:solidFill>
                  <a:latin typeface="Calibri"/>
                  <a:ea typeface="Times New Roman"/>
                </a:rPr>
                <a:t>4</a:t>
              </a:r>
              <a:r>
                <a:rPr b="0" lang="en-US" sz="900" spc="-1" strike="noStrike">
                  <a:solidFill>
                    <a:srgbClr val="ffffff"/>
                  </a:solidFill>
                  <a:latin typeface="Calibri"/>
                  <a:ea typeface="Times New Roman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AutoShape 282"/>
            <p:cNvSpPr/>
            <p:nvPr/>
          </p:nvSpPr>
          <p:spPr>
            <a:xfrm>
              <a:off x="2230560" y="3354480"/>
              <a:ext cx="4762440" cy="377640"/>
            </a:xfrm>
            <a:prstGeom prst="octagon">
              <a:avLst>
                <a:gd name="adj" fmla="val 2928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  <a:ea typeface="Times New Roman"/>
                </a:rPr>
                <a:t>Проверка достоверности и соответствия (непротиворечивости) полученных результатов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Rectangle 283"/>
            <p:cNvSpPr/>
            <p:nvPr/>
          </p:nvSpPr>
          <p:spPr>
            <a:xfrm>
              <a:off x="1246320" y="3354480"/>
              <a:ext cx="65556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Не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Rectangle 284"/>
            <p:cNvSpPr/>
            <p:nvPr/>
          </p:nvSpPr>
          <p:spPr>
            <a:xfrm>
              <a:off x="3544920" y="3787920"/>
              <a:ext cx="65736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Да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Rectangle 285"/>
            <p:cNvSpPr/>
            <p:nvPr/>
          </p:nvSpPr>
          <p:spPr>
            <a:xfrm>
              <a:off x="1409760" y="3938760"/>
              <a:ext cx="6568920" cy="452160"/>
            </a:xfrm>
            <a:prstGeom prst="rect">
              <a:avLst/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  <a:ea typeface="Times New Roman"/>
                </a:rPr>
                <a:t>Определение интегрального показателя эффективности системы внутрихозяйственного контроля по предложенной методике:</a:t>
              </a: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Calibri"/>
                  <a:ea typeface="Times New Roman"/>
                </a:rPr>
                <a:t>Э = Э</a:t>
              </a:r>
              <a:r>
                <a:rPr b="0" lang="en-US" sz="1000" spc="-1" strike="noStrike" baseline="-30000">
                  <a:solidFill>
                    <a:srgbClr val="ffffff"/>
                  </a:solidFill>
                  <a:latin typeface="Calibri"/>
                  <a:ea typeface="Times New Roman"/>
                </a:rPr>
                <a:t>1</a:t>
              </a:r>
              <a:r>
                <a:rPr b="0" lang="en-US" sz="1000" spc="-1" strike="noStrike">
                  <a:solidFill>
                    <a:srgbClr val="ffffff"/>
                  </a:solidFill>
                  <a:latin typeface="Calibri"/>
                  <a:ea typeface="Times New Roman"/>
                </a:rPr>
                <a:t> +Э</a:t>
              </a:r>
              <a:r>
                <a:rPr b="0" lang="en-US" sz="1000" spc="-1" strike="noStrike" baseline="-30000">
                  <a:solidFill>
                    <a:srgbClr val="ffffff"/>
                  </a:solidFill>
                  <a:latin typeface="Calibri"/>
                  <a:ea typeface="Times New Roman"/>
                </a:rPr>
                <a:t>2</a:t>
              </a:r>
              <a:r>
                <a:rPr b="0" lang="en-US" sz="1000" spc="-1" strike="noStrike">
                  <a:solidFill>
                    <a:srgbClr val="ffffff"/>
                  </a:solidFill>
                  <a:latin typeface="Calibri"/>
                  <a:ea typeface="Times New Roman"/>
                </a:rPr>
                <a:t> +Э</a:t>
              </a:r>
              <a:r>
                <a:rPr b="0" lang="en-US" sz="1000" spc="-1" strike="noStrike" baseline="-30000">
                  <a:solidFill>
                    <a:srgbClr val="ffffff"/>
                  </a:solidFill>
                  <a:latin typeface="Calibri"/>
                  <a:ea typeface="Times New Roman"/>
                </a:rPr>
                <a:t>3</a:t>
              </a:r>
              <a:r>
                <a:rPr b="0" lang="en-US" sz="1000" spc="-1" strike="noStrike">
                  <a:solidFill>
                    <a:srgbClr val="ffffff"/>
                  </a:solidFill>
                  <a:latin typeface="Calibri"/>
                  <a:ea typeface="Times New Roman"/>
                </a:rPr>
                <a:t> +Э</a:t>
              </a:r>
              <a:r>
                <a:rPr b="0" lang="en-US" sz="1000" spc="-1" strike="noStrike" baseline="-30000">
                  <a:solidFill>
                    <a:srgbClr val="ffffff"/>
                  </a:solidFill>
                  <a:latin typeface="Calibri"/>
                  <a:ea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Rectangle 286"/>
            <p:cNvSpPr/>
            <p:nvPr/>
          </p:nvSpPr>
          <p:spPr>
            <a:xfrm>
              <a:off x="1409760" y="4465800"/>
              <a:ext cx="6568920" cy="226800"/>
            </a:xfrm>
            <a:prstGeom prst="rect">
              <a:avLst/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Calibri"/>
                  <a:ea typeface="Times New Roman"/>
                </a:rPr>
                <a:t>Шкала оценок эффективности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AutoShape 287"/>
            <p:cNvSpPr/>
            <p:nvPr/>
          </p:nvSpPr>
          <p:spPr>
            <a:xfrm>
              <a:off x="2230560" y="4768920"/>
              <a:ext cx="4762440" cy="226800"/>
            </a:xfrm>
            <a:prstGeom prst="octagon">
              <a:avLst>
                <a:gd name="adj" fmla="val 2928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  <a:ea typeface="Times New Roman"/>
                </a:rPr>
                <a:t>Подготовка стандартных рекомендаций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Rectangle 288"/>
            <p:cNvSpPr/>
            <p:nvPr/>
          </p:nvSpPr>
          <p:spPr>
            <a:xfrm>
              <a:off x="1246320" y="4863960"/>
              <a:ext cx="65556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Да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" name="Rectangle 289"/>
            <p:cNvSpPr/>
            <p:nvPr/>
          </p:nvSpPr>
          <p:spPr>
            <a:xfrm>
              <a:off x="3544920" y="5129280"/>
              <a:ext cx="65736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Не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" name="Rectangle 290"/>
            <p:cNvSpPr/>
            <p:nvPr/>
          </p:nvSpPr>
          <p:spPr>
            <a:xfrm>
              <a:off x="1409760" y="5318280"/>
              <a:ext cx="6568920" cy="301320"/>
            </a:xfrm>
            <a:prstGeom prst="rect">
              <a:avLst/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  <a:ea typeface="Times New Roman"/>
                </a:rPr>
                <a:t>Внесение рекомендаций по совершенствованию системы контроля в ручном режиме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" name="Rectangle 291"/>
            <p:cNvSpPr/>
            <p:nvPr/>
          </p:nvSpPr>
          <p:spPr>
            <a:xfrm>
              <a:off x="917640" y="5867280"/>
              <a:ext cx="7718400" cy="301680"/>
            </a:xfrm>
            <a:prstGeom prst="rect">
              <a:avLst/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Calibri"/>
                  <a:ea typeface="Times New Roman"/>
                </a:rPr>
                <a:t>Формирование варианта распоряжения о возможностях усовершенствования действующей системы внутреннего контроля и отчетности о ее эффективности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" name="Line 292"/>
            <p:cNvSpPr/>
            <p:nvPr/>
          </p:nvSpPr>
          <p:spPr>
            <a:xfrm>
              <a:off x="2558880" y="1827360"/>
              <a:ext cx="0" cy="15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Line 293"/>
            <p:cNvSpPr/>
            <p:nvPr/>
          </p:nvSpPr>
          <p:spPr>
            <a:xfrm>
              <a:off x="3052800" y="2054160"/>
              <a:ext cx="229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Line 295"/>
            <p:cNvSpPr/>
            <p:nvPr/>
          </p:nvSpPr>
          <p:spPr>
            <a:xfrm>
              <a:off x="1901880" y="2581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Line 296"/>
            <p:cNvSpPr/>
            <p:nvPr/>
          </p:nvSpPr>
          <p:spPr>
            <a:xfrm>
              <a:off x="3544920" y="2581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Line 297"/>
            <p:cNvSpPr/>
            <p:nvPr/>
          </p:nvSpPr>
          <p:spPr>
            <a:xfrm>
              <a:off x="5514840" y="2581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Line 298"/>
            <p:cNvSpPr/>
            <p:nvPr/>
          </p:nvSpPr>
          <p:spPr>
            <a:xfrm>
              <a:off x="7485120" y="2581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" name="Line 299"/>
            <p:cNvSpPr/>
            <p:nvPr/>
          </p:nvSpPr>
          <p:spPr>
            <a:xfrm>
              <a:off x="1409760" y="320364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" name="Line 300"/>
            <p:cNvSpPr/>
            <p:nvPr/>
          </p:nvSpPr>
          <p:spPr>
            <a:xfrm>
              <a:off x="3379680" y="320364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" name="Line 301"/>
            <p:cNvSpPr/>
            <p:nvPr/>
          </p:nvSpPr>
          <p:spPr>
            <a:xfrm>
              <a:off x="5514840" y="320364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" name="Line 302"/>
            <p:cNvSpPr/>
            <p:nvPr/>
          </p:nvSpPr>
          <p:spPr>
            <a:xfrm>
              <a:off x="7650000" y="320364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Line 303"/>
            <p:cNvSpPr/>
            <p:nvPr/>
          </p:nvSpPr>
          <p:spPr>
            <a:xfrm>
              <a:off x="1409760" y="3279600"/>
              <a:ext cx="624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Line 304"/>
            <p:cNvSpPr/>
            <p:nvPr/>
          </p:nvSpPr>
          <p:spPr>
            <a:xfrm>
              <a:off x="4365720" y="3279600"/>
              <a:ext cx="0" cy="7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Line 305"/>
            <p:cNvSpPr/>
            <p:nvPr/>
          </p:nvSpPr>
          <p:spPr>
            <a:xfrm flipH="1">
              <a:off x="259920" y="3505320"/>
              <a:ext cx="197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Line 306"/>
            <p:cNvSpPr/>
            <p:nvPr/>
          </p:nvSpPr>
          <p:spPr>
            <a:xfrm flipV="1">
              <a:off x="260280" y="2430000"/>
              <a:ext cx="0" cy="105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" name="Line 307"/>
            <p:cNvSpPr/>
            <p:nvPr/>
          </p:nvSpPr>
          <p:spPr>
            <a:xfrm>
              <a:off x="260280" y="2430360"/>
              <a:ext cx="986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" name="Line 309"/>
            <p:cNvSpPr/>
            <p:nvPr/>
          </p:nvSpPr>
          <p:spPr>
            <a:xfrm>
              <a:off x="4365720" y="4390920"/>
              <a:ext cx="0" cy="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Line 311"/>
            <p:cNvSpPr/>
            <p:nvPr/>
          </p:nvSpPr>
          <p:spPr>
            <a:xfrm flipH="1">
              <a:off x="259920" y="4863960"/>
              <a:ext cx="197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Line 312"/>
            <p:cNvSpPr/>
            <p:nvPr/>
          </p:nvSpPr>
          <p:spPr>
            <a:xfrm>
              <a:off x="260280" y="4863960"/>
              <a:ext cx="0" cy="110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" name="Line 313"/>
            <p:cNvSpPr/>
            <p:nvPr/>
          </p:nvSpPr>
          <p:spPr>
            <a:xfrm>
              <a:off x="260280" y="5973840"/>
              <a:ext cx="65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" name="Line 314"/>
            <p:cNvSpPr/>
            <p:nvPr/>
          </p:nvSpPr>
          <p:spPr>
            <a:xfrm>
              <a:off x="4365720" y="5676840"/>
              <a:ext cx="0" cy="15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AutoShape 315"/>
            <p:cNvSpPr/>
            <p:nvPr/>
          </p:nvSpPr>
          <p:spPr>
            <a:xfrm>
              <a:off x="2724120" y="6321600"/>
              <a:ext cx="3282840" cy="225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КОНЕЦ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Line 316"/>
            <p:cNvSpPr/>
            <p:nvPr/>
          </p:nvSpPr>
          <p:spPr>
            <a:xfrm>
              <a:off x="4365720" y="6226200"/>
              <a:ext cx="0" cy="7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" name="Line 325"/>
            <p:cNvSpPr/>
            <p:nvPr/>
          </p:nvSpPr>
          <p:spPr>
            <a:xfrm>
              <a:off x="4365720" y="4692600"/>
              <a:ext cx="0" cy="7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4" name="Автофигуры 133"/>
            <p:cNvCxnSpPr/>
            <p:nvPr/>
          </p:nvCxnSpPr>
          <p:spPr>
            <a:xfrm>
              <a:off x="4360680" y="3732120"/>
              <a:ext cx="1080" cy="2088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65" name="Автофигуры 134"/>
            <p:cNvCxnSpPr/>
            <p:nvPr/>
          </p:nvCxnSpPr>
          <p:spPr>
            <a:xfrm>
              <a:off x="4360680" y="4995720"/>
              <a:ext cx="1080" cy="326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9T12:48:19Z</dcterms:created>
  <dc:creator>htes</dc:creator>
  <dc:description/>
  <dc:language>en-US</dc:language>
  <cp:lastModifiedBy>Пользователь Windows</cp:lastModifiedBy>
  <dcterms:modified xsi:type="dcterms:W3CDTF">2024-08-07T18:21:28Z</dcterms:modified>
  <cp:revision>113</cp:revision>
  <dc:subject/>
  <dc:title>Слайд 1</dc:title>
</cp:coreProperties>
</file>