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7017-9579-4AB5-9551-AE2124011E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8DC-9AFE-4059-ABF6-D5F8DD4717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87D-86D9-475C-9E32-EA78ACD4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F34-2934-42EB-A9B8-F1EEC559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619-80C4-4BA5-B8B8-99C0BCDD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68C-05B1-4E11-8321-DE291EBC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F04-FAAA-4120-A06A-EA78A545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EDB-8375-4FAA-86A3-FC95A402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567-A878-42E5-8C48-A2FB3AA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544-C2A1-4FC1-9F0D-C29EE7D9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5F1-5D07-4661-987A-4477D6AF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121-1DCF-48A2-97BC-F542330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337-F4DE-4413-84D9-85B0FA8E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950-7300-43A6-8C6F-1059C375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07A-A927-4E12-BB52-8C4FF0088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32523"/>
                </a:solidFill>
                <a:latin typeface="Calibri"/>
              </a:rPr>
              <a:t>КАФЕДРА ГОСУДАРСТВЕННОГО УПРАВЛЕНИЯ И ПОЛИТОЛОГ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826920" y="2786040"/>
            <a:ext cx="81648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Противодействие и профилактика преступлений коррупционной направленности  на муниципальной службе»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144440" y="1995480"/>
            <a:ext cx="78487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ПУСКНАЯ  КВАЛИФИКАЦИОННАЯ РАБ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БАКАЛАВРСКАЯ РАБО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085760" y="4714920"/>
            <a:ext cx="7848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ПОЛНИЛ: СТУДЕНТ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КОВОДИТЕЛЬ: 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2428920" y="6242040"/>
            <a:ext cx="5000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Franklin Gothic Demi"/>
              </a:rPr>
              <a:t>ВОЛГОГРА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Franklin Gothic Demi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1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500960" y="6143760"/>
            <a:ext cx="1643040" cy="582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1000080" y="3071880"/>
            <a:ext cx="79297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Franklin Gothic Demi"/>
              </a:rPr>
              <a:t>СПАСИБО ЗА 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1332000" y="2205000"/>
            <a:ext cx="76118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900000" y="1700280"/>
            <a:ext cx="7812360" cy="12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собенностей противодействия и профилакти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й коррупционной направленности на муниципальной служб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7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500960" y="6143760"/>
            <a:ext cx="1643040" cy="58248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1042920" y="3068640"/>
            <a:ext cx="7883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крыть понятие, сущность и содержание корруп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значить предпосылки, тенденции и направления распространения коррупции на муниципальной служб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ить российский и зарубежный опыт государственной антикоррупционной полит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следовать механизмы предотвращения и профилактики коррупции в Администрации Краснооктябрьского района г. Волгогра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основать пути совершенствования механизмов противодействия и профилактики преступлений коррупционной направленности в Администрации Краснооктябрьского района г. Волгогра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5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500960" y="6143760"/>
            <a:ext cx="1643040" cy="582480"/>
          </a:xfrm>
          <a:prstGeom prst="rect">
            <a:avLst/>
          </a:prstGeom>
          <a:ln w="0">
            <a:noFill/>
          </a:ln>
        </p:spPr>
      </p:pic>
      <p:sp>
        <p:nvSpPr>
          <p:cNvPr id="67" name="Заголовок 1"/>
          <p:cNvSpPr/>
          <p:nvPr/>
        </p:nvSpPr>
        <p:spPr>
          <a:xfrm>
            <a:off x="1116000" y="2060640"/>
            <a:ext cx="773100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ом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являются коррупционные отношения, состоящие в процессе взаимодействия граждан и институтов гражданского общества с органами государственной власти на местном уровне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следования - механизмы противодействия и профилактики коррупции в Администрации Краснооктябрьского района г. Волгогра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5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500960" y="6143760"/>
            <a:ext cx="1643040" cy="582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1484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нятие корруп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1337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рупция – это явление, которое приводит к нарушению прав человека, социальному неравенству и возникновению социальной напряженности, замедлению экономического развития, угрожает национальной безопасности государства. Итак, противодействие коррупции как масштабному социальному явлению является внутренней функцией государ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12"/>
          <p:cNvGrpSpPr/>
          <p:nvPr/>
        </p:nvGrpSpPr>
        <p:grpSpPr>
          <a:xfrm>
            <a:off x="900000" y="4005360"/>
            <a:ext cx="7848360" cy="1682280"/>
            <a:chOff x="900000" y="4005360"/>
            <a:chExt cx="7848360" cy="1682280"/>
          </a:xfrm>
        </p:grpSpPr>
        <p:sp>
          <p:nvSpPr>
            <p:cNvPr id="75" name="Rectangle 2"/>
            <p:cNvSpPr/>
            <p:nvPr/>
          </p:nvSpPr>
          <p:spPr>
            <a:xfrm>
              <a:off x="3099240" y="4005360"/>
              <a:ext cx="39243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ритерии корруп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3"/>
            <p:cNvSpPr/>
            <p:nvPr/>
          </p:nvSpPr>
          <p:spPr>
            <a:xfrm>
              <a:off x="900000" y="4659120"/>
              <a:ext cx="332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убъекты взаимодействия – граждане и государственные служащие, частные компании и чиновники, общественность и политическое руководство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4"/>
            <p:cNvSpPr/>
            <p:nvPr/>
          </p:nvSpPr>
          <p:spPr>
            <a:xfrm>
              <a:off x="4522320" y="4659120"/>
              <a:ext cx="196200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ид выгоды – получение прибыли или уменьшение расходо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786360" y="4659120"/>
              <a:ext cx="196200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правленность – внутренняя и внешня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2107440" y="4430880"/>
              <a:ext cx="57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2107440" y="4430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5276880" y="434808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7842960" y="4430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500960" y="6143760"/>
            <a:ext cx="1643040" cy="58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5640" y="1413000"/>
            <a:ext cx="8137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акторы распространения коррупции в органах 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1916280"/>
            <a:ext cx="7323480" cy="85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ни, прежде всего, связаны с властными полномочиями должностных лиц органов местного самоуправления, замкнутостью системы управления, несовершенством антикоррупционной политики, безынициативностью и низкой эффективностью общественных формир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2924280"/>
            <a:ext cx="73234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Прежде всего проявляются в неправомерном использовании государственных ресурсов в личных интересах и в отсутствии прозрачности многих экономических процессов. Они обусловлены несоответствием заработной платы жизненным потребностям, когда должностные лица органов местного самоуправления пытаются пополнить свои доходы из други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3933720"/>
            <a:ext cx="732348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аключаются в невысокой активности общественности, корысти государственных служащих, профессиональной и нравственной деформации поведения части руководителей, что проявляется в снисходительном отношении к фактам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4869000"/>
            <a:ext cx="73234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авов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В основе данных причин несовершенство законодательства и наличие законодательных пробелов, в связи с чем у должностных лиц органов местного самоуправления есть возможность «обойти»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552680" y="5738760"/>
            <a:ext cx="732312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которые проявляются в ненадлежащей регламентации деятельности должностных лиц, так называемое «кумовство», и отсутствие механизмов предотвращения проникновения в органы власти лидеров и членов преступных группир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177336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258912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34480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044720" y="44974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52610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044720" y="62150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77336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5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500960" y="6143760"/>
            <a:ext cx="1643040" cy="582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6920" y="1484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спективные направления деятельности по преодолению коррупции в муниципальной сфе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58920" y="2421000"/>
            <a:ext cx="7273440" cy="3543120"/>
            <a:chOff x="1258920" y="2421000"/>
            <a:chExt cx="7273440" cy="3543120"/>
          </a:xfrm>
        </p:grpSpPr>
        <p:sp>
          <p:nvSpPr>
            <p:cNvPr id="107" name=""/>
            <p:cNvSpPr/>
            <p:nvPr/>
          </p:nvSpPr>
          <p:spPr>
            <a:xfrm>
              <a:off x="1258920" y="2421000"/>
              <a:ext cx="589680" cy="35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Я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2421000"/>
              <a:ext cx="60940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рмирование активной общественной позиции по предотвращению коррупци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280" y="3106440"/>
              <a:ext cx="60940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вышение правовой культуры граждан и формирование у них моральной нетерпимости к любым коррупционным проявлениям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8280" y="4020840"/>
              <a:ext cx="60940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вышение зарплаты должностным лицам органов местного самоуправлен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707000"/>
              <a:ext cx="60940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беспечение открытости и прозрачности деятельности органов местного самоуправлен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8280" y="5392440"/>
              <a:ext cx="60940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антикоррупционных программ на местном уровн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8600" y="2535120"/>
              <a:ext cx="589680" cy="342720"/>
            </a:xfrm>
            <a:prstGeom prst="rightArrow">
              <a:avLst>
                <a:gd name="adj1" fmla="val 50000"/>
                <a:gd name="adj2" fmla="val 43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48600" y="3335400"/>
              <a:ext cx="589680" cy="342720"/>
            </a:xfrm>
            <a:prstGeom prst="rightArrow">
              <a:avLst>
                <a:gd name="adj1" fmla="val 50000"/>
                <a:gd name="adj2" fmla="val 43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48600" y="4135320"/>
              <a:ext cx="589680" cy="342720"/>
            </a:xfrm>
            <a:prstGeom prst="rightArrow">
              <a:avLst>
                <a:gd name="adj1" fmla="val 50000"/>
                <a:gd name="adj2" fmla="val 43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8600" y="5506920"/>
              <a:ext cx="589680" cy="342720"/>
            </a:xfrm>
            <a:prstGeom prst="rightArrow">
              <a:avLst>
                <a:gd name="adj1" fmla="val 50000"/>
                <a:gd name="adj2" fmla="val 43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48600" y="4707000"/>
              <a:ext cx="589680" cy="342720"/>
            </a:xfrm>
            <a:prstGeom prst="rightArrow">
              <a:avLst>
                <a:gd name="adj1" fmla="val 50000"/>
                <a:gd name="adj2" fmla="val 43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5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500960" y="6143760"/>
            <a:ext cx="1643040" cy="5824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792000" y="1484280"/>
            <a:ext cx="81727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ханизмы предотвращения и профилактики коррупции в Администрации Краснооктябрьского района города Волгогра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ряжением Главы Администрации Краснооктябрьского района Волгограда от 16.01.2019 № 12-Р был утвержден план мероприятий Администрации Краснооктябрьского района Волгограда по противодействию коррупции на 2019-2020 годы, в состав которого входят мероприятия по пяти направлени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деятельности Администрации Краснооктябрьского района Волгограда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беспечение участия граждан в противодействии коррупц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овершенствование работы лиц, ответственных за кадровую работу в Администрации Краснооктябрьского района Волгограда по профилактике коррупционных и других правонарушени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овершенствование организационных основ антикоррупционной экспертизы муниципальных правовых актов Волгограда и проектов муниципальных правовых актов Волгограда и повышение ее результативност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заимодействие с правоохранительными органам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6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764480" y="6396120"/>
            <a:ext cx="1379520" cy="4618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826920" y="1747800"/>
            <a:ext cx="799308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ти совершенствования механизмов противодействия и профилактики преступлений коррупционной направленности  Администрации Краснооктябрьского района города Волгогра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Предложен комплексный стратегический антикоррупционный план социально-экономического развития Краснооктябрьского района Волгограда. Основными структурными элементами предложенного плана являются: паспорт района; анализ социально-экономического положения; SWOT – анализ района; цель и задачи программы; ожидаемые результаты; критерии измерения результа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сс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раснооктябрьский район – жизнь по высоким международным социальным стандартам без корруп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атегическая 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стижение Краснооктябрьским районом Волгограда международных стандартов жизни населения и динамичного развития на основе искоренения коррупционных проявлений и консолидации усилий власти, бизнеса и общественности для их реал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Обоснована необходим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дрения системы бесконтактных муниципальных услуг, при которых исключен прямой контакт между заявителем и чиновником, который предоставляет справку или принимает какое-то реш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0" y="0"/>
            <a:ext cx="71424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2" descr="логотип РАНХиГС (новый).jpg"/>
          <p:cNvPicPr/>
          <p:nvPr/>
        </p:nvPicPr>
        <p:blipFill>
          <a:blip r:embed="rId1"/>
          <a:stretch/>
        </p:blipFill>
        <p:spPr>
          <a:xfrm>
            <a:off x="714240" y="0"/>
            <a:ext cx="3143520" cy="14032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4000680" y="214200"/>
            <a:ext cx="471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ФАКУЛЬТЕТ ГОСУДАРСТВЕННОГО И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КАФЕДРА ГОСУДАРСТВЕННОГО УПРАВЛЕНИЯ И ПОЛИТОЛОГИИ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5" descr="Макет презентации к ВКР магистров.jpg"/>
          <p:cNvPicPr/>
          <p:nvPr/>
        </p:nvPicPr>
        <p:blipFill>
          <a:blip r:embed="rId2"/>
          <a:srcRect l="75783" t="79171" r="0" b="9375"/>
          <a:stretch/>
        </p:blipFill>
        <p:spPr>
          <a:xfrm>
            <a:off x="7500960" y="6143760"/>
            <a:ext cx="1643040" cy="5824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"/>
          <p:cNvSpPr/>
          <p:nvPr/>
        </p:nvSpPr>
        <p:spPr>
          <a:xfrm>
            <a:off x="826920" y="1579680"/>
            <a:ext cx="8101080" cy="49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ы по результатам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ррупция – это деятельность, направленная на склонение уполномоченного лица к противоправному использованию соответствующих полномочий и возмож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ути совершенствования механизмов противодействия и профилактики преступлений коррупционной направленности в Администрации Краснооктябрьского района г. Волгограда, к которым отнесены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- воспитание нетерпимости к коррупционным проявле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участия общественных формирований и отдельных граждан района в подготовк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и управленческих решений местного зна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оперативного информирования граждан о текущей и планов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и райо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высокопрофессионального кадрового потенциала Администрации района на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ых качеств человека, соблюдение этического кодекса и концепции «надеж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ощение и большая прозрачность процедур предоставления муниципальных услуг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адекватных сроков обслуживания граждан Администрацией райо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- проведения комплексного аудита должностных полномочий и компетенции служащих Админи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йона и внедрение технологических карт должностных лиц с изъятием полномочий с призна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ррупционных рисков и четким перечнем процедур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- введение «единого окна» и «карты услуг» - систематизированной информации об услугах, предоставляемых гражданам Администрацией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униципальный элемент имеет существенную значимость в системе государственного управления страны, которая заключается в его близости к нуждам населения муниципальных образований. Именно здесь предоставляется наибольшее количество административных услуг органов государственной власти, именно здесь происходит наибольшее количество взаимодействий власти и гражданина, именно здесь наблюдаются наибольшая распространенность коррупционных взаимодействий (мелкого или бытового масштаба). Поэтому искоренение коррупции в стране не может начаться без существенных сдвигов на муниципальн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 Злочевский</dc:creator>
  <dc:description/>
  <dc:language>en-US</dc:language>
  <cp:lastModifiedBy>Пользователь Windows</cp:lastModifiedBy>
  <dcterms:modified xsi:type="dcterms:W3CDTF">2024-08-07T18:26:03Z</dcterms:modified>
  <cp:revision>69</cp:revision>
  <dc:subject/>
  <dc:title>Слайд 1</dc:title>
</cp:coreProperties>
</file>